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1829593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ECE-2318-46CC-B5E5-AF7A58D3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EC9-D469-4D8E-8B7F-7DB85DAF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9525-E57B-40E2-8CEB-C5C08B66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72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7000" y="426888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72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7000" y="10575000"/>
            <a:ext cx="298188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06D-53C2-4018-ADE0-E5F00254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C67-715D-46E5-A34E-63D35B97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4B6-1508-4142-92A5-63C2D47B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274-D4E3-4235-A820-5407C7A0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704-7524-46D5-ACB2-13AC718C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14440" y="731520"/>
            <a:ext cx="9261360" cy="141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8C0-2748-4AAD-849E-484C7920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791-0B19-4F43-B1B4-077C6B4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60320" y="1057500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DA6-70EE-49B7-AC3F-1A4D41E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0320" y="4268880"/>
            <a:ext cx="451944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10575000"/>
            <a:ext cx="9261360" cy="57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D11E-C1BB-4CDA-903D-E7B12DE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1" descr="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731520"/>
            <a:ext cx="9261360" cy="30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4268880"/>
            <a:ext cx="9261360" cy="120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1444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16480" y="16659360"/>
            <a:ext cx="325728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73880" y="16659360"/>
            <a:ext cx="24019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785-F85A-437B-867D-4A71A584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テキスト ボックス 1"/>
          <p:cNvSpPr/>
          <p:nvPr/>
        </p:nvSpPr>
        <p:spPr>
          <a:xfrm>
            <a:off x="2951280" y="5313240"/>
            <a:ext cx="4370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0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テキスト ボックス 2"/>
          <p:cNvSpPr/>
          <p:nvPr/>
        </p:nvSpPr>
        <p:spPr>
          <a:xfrm>
            <a:off x="2841840" y="7153200"/>
            <a:ext cx="460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0" lang="en-US" sz="60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0" lang="ja-JP" sz="60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3"/>
          <p:cNvSpPr/>
          <p:nvPr/>
        </p:nvSpPr>
        <p:spPr>
          <a:xfrm>
            <a:off x="4874040" y="1096956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図 3" descr=""/>
          <p:cNvPicPr/>
          <p:nvPr/>
        </p:nvPicPr>
        <p:blipFill>
          <a:blip r:embed="rId1"/>
          <a:stretch/>
        </p:blipFill>
        <p:spPr>
          <a:xfrm>
            <a:off x="144360" y="1709640"/>
            <a:ext cx="10114200" cy="1833840"/>
          </a:xfrm>
          <a:prstGeom prst="rect">
            <a:avLst/>
          </a:prstGeom>
          <a:ln w="0">
            <a:noFill/>
          </a:ln>
        </p:spPr>
      </p:pic>
      <p:sp>
        <p:nvSpPr>
          <p:cNvPr id="4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4"/>
          <p:cNvSpPr/>
          <p:nvPr/>
        </p:nvSpPr>
        <p:spPr>
          <a:xfrm>
            <a:off x="3522960" y="17133840"/>
            <a:ext cx="32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404040"/>
                </a:solidFill>
                <a:latin typeface="Arial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5:24Z</dcterms:modified>
  <cp:revision>48</cp:revision>
  <dc:subject/>
  <dc:title>スライド 1</dc:title>
</cp:coreProperties>
</file>