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288588" cy="1829593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14B0-4A3E-4E53-AD10-4B68DD71C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731520"/>
            <a:ext cx="926136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4440" y="4268880"/>
            <a:ext cx="926136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440" y="10575000"/>
            <a:ext cx="926136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7B0C-591E-4CBC-A5FF-D3F031503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4440" y="731520"/>
            <a:ext cx="926136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4440" y="4268880"/>
            <a:ext cx="451944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0320" y="4268880"/>
            <a:ext cx="451944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4440" y="10575000"/>
            <a:ext cx="451944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60320" y="10575000"/>
            <a:ext cx="451944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0569-1662-4181-98B4-70A0C713D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731520"/>
            <a:ext cx="926136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4440" y="4268880"/>
            <a:ext cx="298188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5720" y="4268880"/>
            <a:ext cx="298188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77000" y="4268880"/>
            <a:ext cx="298188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4440" y="10575000"/>
            <a:ext cx="298188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5720" y="10575000"/>
            <a:ext cx="298188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777000" y="10575000"/>
            <a:ext cx="298188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A1BC-CE48-40B4-B4F8-DD9BFD208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731520"/>
            <a:ext cx="926136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14440" y="4268880"/>
            <a:ext cx="9261360" cy="120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9954-C114-4D9C-BB35-FAF526C6B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4440" y="731520"/>
            <a:ext cx="926136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4440" y="4268880"/>
            <a:ext cx="9261360" cy="120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E41F-7F59-48FB-BD62-A270610C0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4440" y="731520"/>
            <a:ext cx="926136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4440" y="4268880"/>
            <a:ext cx="4519440" cy="120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60320" y="4268880"/>
            <a:ext cx="4519440" cy="120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D5AD-8300-44D9-AC77-8160232B5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440" y="731520"/>
            <a:ext cx="926136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012F-00E1-4F3D-ADC0-E9936E957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14440" y="731520"/>
            <a:ext cx="9261360" cy="14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7A25-B8FD-455C-B3FE-150EF4D5F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731520"/>
            <a:ext cx="926136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4268880"/>
            <a:ext cx="451944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60320" y="4268880"/>
            <a:ext cx="4519440" cy="120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440" y="10575000"/>
            <a:ext cx="451944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A71B-143A-47CE-8406-732C8C8F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731520"/>
            <a:ext cx="926136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4268880"/>
            <a:ext cx="4519440" cy="120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60320" y="4268880"/>
            <a:ext cx="451944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60320" y="10575000"/>
            <a:ext cx="451944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20C2-17E1-477D-B522-C4475B3E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731520"/>
            <a:ext cx="926136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4268880"/>
            <a:ext cx="451944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60320" y="4268880"/>
            <a:ext cx="451944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4440" y="10575000"/>
            <a:ext cx="926136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561E-1D3A-4AE2-BAB6-2BAE60F7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1" descr=""/>
          <p:cNvPicPr/>
          <p:nvPr/>
        </p:nvPicPr>
        <p:blipFill>
          <a:blip r:embed="rId2"/>
          <a:stretch/>
        </p:blipFill>
        <p:spPr>
          <a:xfrm>
            <a:off x="0" y="0"/>
            <a:ext cx="10290240" cy="18294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14440" y="731520"/>
            <a:ext cx="926136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14440" y="4268880"/>
            <a:ext cx="9261360" cy="120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14440" y="16659360"/>
            <a:ext cx="240192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16480" y="16659360"/>
            <a:ext cx="325728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373880" y="16659360"/>
            <a:ext cx="240192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6C47A-31A3-404E-8903-BA22323A4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9"/>
          <p:cNvSpPr/>
          <p:nvPr/>
        </p:nvSpPr>
        <p:spPr>
          <a:xfrm>
            <a:off x="-6448320" y="13900320"/>
            <a:ext cx="4824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テキスト ボックス 1"/>
          <p:cNvSpPr/>
          <p:nvPr/>
        </p:nvSpPr>
        <p:spPr>
          <a:xfrm>
            <a:off x="2951280" y="5313240"/>
            <a:ext cx="43700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000" spc="-1" strike="noStrike">
                <a:solidFill>
                  <a:srgbClr val="ff0000"/>
                </a:solidFill>
                <a:latin typeface="ＭＳ Ｐゴシック"/>
              </a:rPr>
              <a:t>○</a:t>
            </a:r>
            <a:r>
              <a:rPr b="1" lang="ja-JP" sz="7000" spc="-1" strike="noStrike">
                <a:solidFill>
                  <a:srgbClr val="ff0000"/>
                </a:solidFill>
                <a:latin typeface="ＭＳ Ｐゴシック"/>
              </a:rPr>
              <a:t>月のおやすみ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テキスト ボックス 2"/>
          <p:cNvSpPr/>
          <p:nvPr/>
        </p:nvSpPr>
        <p:spPr>
          <a:xfrm>
            <a:off x="2841840" y="7153200"/>
            <a:ext cx="4606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ＭＳ Ｐゴシック"/>
              </a:rPr>
              <a:t>00</a:t>
            </a:r>
            <a:r>
              <a:rPr b="0" lang="ja-JP" sz="6000" spc="-1" strike="noStrike">
                <a:solidFill>
                  <a:srgbClr val="404040"/>
                </a:solidFill>
                <a:latin typeface="ＭＳ Ｐゴシック"/>
              </a:rPr>
              <a:t>（月）・</a:t>
            </a:r>
            <a:r>
              <a:rPr b="0" lang="en-US" sz="6000" spc="-1" strike="noStrike">
                <a:solidFill>
                  <a:srgbClr val="404040"/>
                </a:solidFill>
                <a:latin typeface="ＭＳ Ｐゴシック"/>
              </a:rPr>
              <a:t>00</a:t>
            </a:r>
            <a:r>
              <a:rPr b="0" lang="ja-JP" sz="6000" spc="-1" strike="noStrike">
                <a:solidFill>
                  <a:srgbClr val="404040"/>
                </a:solidFill>
                <a:latin typeface="ＭＳ Ｐゴシック"/>
              </a:rPr>
              <a:t>（火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ＭＳ Ｐゴシック"/>
              </a:rPr>
              <a:t>00</a:t>
            </a:r>
            <a:r>
              <a:rPr b="0" lang="ja-JP" sz="6000" spc="-1" strike="noStrike">
                <a:solidFill>
                  <a:srgbClr val="404040"/>
                </a:solidFill>
                <a:latin typeface="ＭＳ Ｐゴシック"/>
              </a:rPr>
              <a:t>（水）・</a:t>
            </a:r>
            <a:r>
              <a:rPr b="0" lang="en-US" sz="6000" spc="-1" strike="noStrike">
                <a:solidFill>
                  <a:srgbClr val="404040"/>
                </a:solidFill>
                <a:latin typeface="ＭＳ Ｐゴシック"/>
              </a:rPr>
              <a:t>00</a:t>
            </a:r>
            <a:r>
              <a:rPr b="0" lang="ja-JP" sz="6000" spc="-1" strike="noStrike">
                <a:solidFill>
                  <a:srgbClr val="404040"/>
                </a:solidFill>
                <a:latin typeface="ＭＳ Ｐゴシック"/>
              </a:rPr>
              <a:t>（木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ＭＳ Ｐゴシック"/>
              </a:rPr>
              <a:t>00</a:t>
            </a:r>
            <a:r>
              <a:rPr b="0" lang="ja-JP" sz="6000" spc="-1" strike="noStrike">
                <a:solidFill>
                  <a:srgbClr val="404040"/>
                </a:solidFill>
                <a:latin typeface="ＭＳ Ｐゴシック"/>
              </a:rPr>
              <a:t>（金）・</a:t>
            </a:r>
            <a:r>
              <a:rPr b="0" lang="en-US" sz="6000" spc="-1" strike="noStrike">
                <a:solidFill>
                  <a:srgbClr val="404040"/>
                </a:solidFill>
                <a:latin typeface="ＭＳ Ｐゴシック"/>
              </a:rPr>
              <a:t>00</a:t>
            </a:r>
            <a:r>
              <a:rPr b="0" lang="ja-JP" sz="6000" spc="-1" strike="noStrike">
                <a:solidFill>
                  <a:srgbClr val="404040"/>
                </a:solidFill>
                <a:latin typeface="ＭＳ Ｐゴシック"/>
              </a:rPr>
              <a:t>（土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テキスト ボックス 3"/>
          <p:cNvSpPr/>
          <p:nvPr/>
        </p:nvSpPr>
        <p:spPr>
          <a:xfrm>
            <a:off x="4874040" y="10969560"/>
            <a:ext cx="54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404040"/>
                </a:solidFill>
                <a:latin typeface="ＭＳ Ｐゴシック"/>
              </a:rPr>
              <a:t>ご来店の際は、お気をつけてください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図 3" descr=""/>
          <p:cNvPicPr/>
          <p:nvPr/>
        </p:nvPicPr>
        <p:blipFill>
          <a:blip r:embed="rId1"/>
          <a:stretch/>
        </p:blipFill>
        <p:spPr>
          <a:xfrm>
            <a:off x="144360" y="1709640"/>
            <a:ext cx="10114200" cy="1833840"/>
          </a:xfrm>
          <a:prstGeom prst="rect">
            <a:avLst/>
          </a:prstGeom>
          <a:ln w="0">
            <a:noFill/>
          </a:ln>
        </p:spPr>
      </p:pic>
      <p:sp>
        <p:nvSpPr>
          <p:cNvPr id="47" name="正方形/長方形 2"/>
          <p:cNvSpPr/>
          <p:nvPr/>
        </p:nvSpPr>
        <p:spPr>
          <a:xfrm>
            <a:off x="0" y="16708320"/>
            <a:ext cx="10290240" cy="158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テキスト ボックス 4"/>
          <p:cNvSpPr/>
          <p:nvPr/>
        </p:nvSpPr>
        <p:spPr>
          <a:xfrm>
            <a:off x="3522960" y="17133840"/>
            <a:ext cx="324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404040"/>
                </a:solidFill>
                <a:latin typeface="Arial"/>
              </a:rPr>
              <a:t>○○○○●○○○○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23:51:05Z</dcterms:created>
  <dc:creator/>
  <dc:description/>
  <dc:language>en-US</dc:language>
  <cp:lastModifiedBy>signage1</cp:lastModifiedBy>
  <dcterms:modified xsi:type="dcterms:W3CDTF">2016-12-27T06:45:24Z</dcterms:modified>
  <cp:revision>48</cp:revision>
  <dc:subject/>
  <dc:title>スライド 1</dc:title>
</cp:coreProperties>
</file>