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8299113" cy="10288588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164F9-2212-4907-B061-07FE41556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856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400" y="2400120"/>
            <a:ext cx="1646856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14400" y="5945400"/>
            <a:ext cx="1646856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3A016-1D45-43F3-A784-EE68A8451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856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2400120"/>
            <a:ext cx="803664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353160" y="2400120"/>
            <a:ext cx="803664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14400" y="5945400"/>
            <a:ext cx="803664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353160" y="5945400"/>
            <a:ext cx="803664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2B945-9465-47FA-B09B-5C820100B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856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14400" y="2400120"/>
            <a:ext cx="530280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482880" y="2400120"/>
            <a:ext cx="530280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2051000" y="2400120"/>
            <a:ext cx="530280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14400" y="5945400"/>
            <a:ext cx="530280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6482880" y="5945400"/>
            <a:ext cx="530280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12051000" y="5945400"/>
            <a:ext cx="530280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60C20-E553-4717-B69C-CD9B4495F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856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14400" y="2400120"/>
            <a:ext cx="16468560" cy="67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2548C-3F5D-4B73-909C-B7C08DE1C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856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14400" y="2400120"/>
            <a:ext cx="16468560" cy="67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AC4B8-EF40-4321-A2DE-038169780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856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14400" y="2400120"/>
            <a:ext cx="8036640" cy="67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9353160" y="2400120"/>
            <a:ext cx="8036640" cy="67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49C30-C38F-4FCC-AE5C-53221109F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856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10B01-266A-4CED-B0C4-64F44C33C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14400" y="410760"/>
            <a:ext cx="16468560" cy="79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A66FB-6CE0-442B-9194-6439C303F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856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14400" y="2400120"/>
            <a:ext cx="803664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9353160" y="2400120"/>
            <a:ext cx="8036640" cy="67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14400" y="5945400"/>
            <a:ext cx="803664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AB32A-9ADD-479E-A9DB-67FCC4C05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856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400" y="2400120"/>
            <a:ext cx="8036640" cy="67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9353160" y="2400120"/>
            <a:ext cx="803664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353160" y="5945400"/>
            <a:ext cx="803664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0C94A-08AB-4C7A-A4FC-2D3CAE38B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856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400" y="2400120"/>
            <a:ext cx="803664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9353160" y="2400120"/>
            <a:ext cx="803664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14400" y="5945400"/>
            <a:ext cx="1646856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EDECB-8007-4120-820A-B82B35DE6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856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14400" y="2400120"/>
            <a:ext cx="16468560" cy="67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14400" y="9367920"/>
            <a:ext cx="427032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252840" y="9367920"/>
            <a:ext cx="579132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3112640" y="9367920"/>
            <a:ext cx="427032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58F28-7954-4B02-8744-1AECE1592F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10"/>
          <p:cNvSpPr/>
          <p:nvPr/>
        </p:nvSpPr>
        <p:spPr>
          <a:xfrm>
            <a:off x="3450600" y="299880"/>
            <a:ext cx="331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ffffff"/>
                </a:solidFill>
                <a:latin typeface="Arial"/>
                <a:ea typeface="HGPｺﾞｼｯｸE"/>
              </a:rPr>
              <a:t>デンソーセールス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HGPｺﾞｼｯｸE"/>
              </a:rPr>
              <a:t> </a:t>
            </a:r>
            <a:r>
              <a:rPr b="0" lang="ja-JP" sz="3600" spc="-1" strike="noStrike">
                <a:solidFill>
                  <a:srgbClr val="ffffff"/>
                </a:solidFill>
                <a:latin typeface="Arial"/>
                <a:ea typeface="HGPｺﾞｼｯｸE"/>
              </a:rPr>
              <a:t>渋谷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AutoShape 11"/>
          <p:cNvSpPr/>
          <p:nvPr/>
        </p:nvSpPr>
        <p:spPr>
          <a:xfrm>
            <a:off x="696960" y="9637560"/>
            <a:ext cx="16773480" cy="4464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図 1" descr="休業日横_背景-01.jpg"/>
          <p:cNvPicPr/>
          <p:nvPr/>
        </p:nvPicPr>
        <p:blipFill>
          <a:blip r:embed="rId2"/>
          <a:stretch/>
        </p:blipFill>
        <p:spPr>
          <a:xfrm>
            <a:off x="4680" y="-3240"/>
            <a:ext cx="18365760" cy="10331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9"/>
          <p:cNvSpPr/>
          <p:nvPr/>
        </p:nvSpPr>
        <p:spPr>
          <a:xfrm>
            <a:off x="-11466360" y="7816680"/>
            <a:ext cx="85788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GP明朝B"/>
                <a:ea typeface="HGP明朝B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HGP明朝B"/>
                <a:ea typeface="HGP明朝B"/>
              </a:rPr>
              <a:t>　　　　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テキスト ボックス 1"/>
          <p:cNvSpPr/>
          <p:nvPr/>
        </p:nvSpPr>
        <p:spPr>
          <a:xfrm>
            <a:off x="12318840" y="586440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正方形/長方形 3"/>
          <p:cNvSpPr/>
          <p:nvPr/>
        </p:nvSpPr>
        <p:spPr>
          <a:xfrm>
            <a:off x="0" y="9072720"/>
            <a:ext cx="18365760" cy="1255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テキスト ボックス 4"/>
          <p:cNvSpPr/>
          <p:nvPr/>
        </p:nvSpPr>
        <p:spPr>
          <a:xfrm>
            <a:off x="6841080" y="9329760"/>
            <a:ext cx="4615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4040"/>
                </a:solidFill>
                <a:latin typeface="ＭＳ Ｐゴシック"/>
              </a:rPr>
              <a:t>○○○○●○○○○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テキスト ボックス 1"/>
          <p:cNvSpPr/>
          <p:nvPr/>
        </p:nvSpPr>
        <p:spPr>
          <a:xfrm>
            <a:off x="2615040" y="1668600"/>
            <a:ext cx="4490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ＭＳ Ｐゴシック"/>
              </a:rPr>
              <a:t>○</a:t>
            </a:r>
            <a:r>
              <a:rPr b="1" lang="ja-JP" sz="7200" spc="-1" strike="noStrike">
                <a:solidFill>
                  <a:srgbClr val="ff0000"/>
                </a:solidFill>
                <a:latin typeface="ＭＳ Ｐゴシック"/>
              </a:rPr>
              <a:t>月のおやすみ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2"/>
          <p:cNvSpPr/>
          <p:nvPr/>
        </p:nvSpPr>
        <p:spPr>
          <a:xfrm>
            <a:off x="2340360" y="3127320"/>
            <a:ext cx="5050440" cy="40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404040"/>
                </a:solidFill>
                <a:latin typeface="ＭＳ Ｐゴシック"/>
              </a:rPr>
              <a:t>00</a:t>
            </a:r>
            <a:r>
              <a:rPr b="1" lang="ja-JP" sz="6600" spc="-1" strike="noStrike">
                <a:solidFill>
                  <a:srgbClr val="404040"/>
                </a:solidFill>
                <a:latin typeface="ＭＳ Ｐゴシック"/>
              </a:rPr>
              <a:t>（月）・</a:t>
            </a:r>
            <a:r>
              <a:rPr b="1" lang="en-US" sz="6600" spc="-1" strike="noStrike">
                <a:solidFill>
                  <a:srgbClr val="404040"/>
                </a:solidFill>
                <a:latin typeface="ＭＳ Ｐゴシック"/>
              </a:rPr>
              <a:t>00</a:t>
            </a:r>
            <a:r>
              <a:rPr b="1" lang="ja-JP" sz="6600" spc="-1" strike="noStrike">
                <a:solidFill>
                  <a:srgbClr val="404040"/>
                </a:solidFill>
                <a:latin typeface="ＭＳ Ｐゴシック"/>
              </a:rPr>
              <a:t>（火）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404040"/>
                </a:solidFill>
                <a:latin typeface="ＭＳ Ｐゴシック"/>
              </a:rPr>
              <a:t>00</a:t>
            </a:r>
            <a:r>
              <a:rPr b="1" lang="ja-JP" sz="6600" spc="-1" strike="noStrike">
                <a:solidFill>
                  <a:srgbClr val="404040"/>
                </a:solidFill>
                <a:latin typeface="ＭＳ Ｐゴシック"/>
              </a:rPr>
              <a:t>（水）・</a:t>
            </a:r>
            <a:r>
              <a:rPr b="1" lang="en-US" sz="6600" spc="-1" strike="noStrike">
                <a:solidFill>
                  <a:srgbClr val="404040"/>
                </a:solidFill>
                <a:latin typeface="ＭＳ Ｐゴシック"/>
              </a:rPr>
              <a:t>00</a:t>
            </a:r>
            <a:r>
              <a:rPr b="1" lang="ja-JP" sz="6600" spc="-1" strike="noStrike">
                <a:solidFill>
                  <a:srgbClr val="404040"/>
                </a:solidFill>
                <a:latin typeface="ＭＳ Ｐゴシック"/>
              </a:rPr>
              <a:t>（木）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404040"/>
                </a:solidFill>
                <a:latin typeface="ＭＳ Ｐゴシック"/>
              </a:rPr>
              <a:t>00</a:t>
            </a:r>
            <a:r>
              <a:rPr b="1" lang="ja-JP" sz="6600" spc="-1" strike="noStrike">
                <a:solidFill>
                  <a:srgbClr val="404040"/>
                </a:solidFill>
                <a:latin typeface="ＭＳ Ｐゴシック"/>
              </a:rPr>
              <a:t>（金）・</a:t>
            </a:r>
            <a:r>
              <a:rPr b="1" lang="en-US" sz="6600" spc="-1" strike="noStrike">
                <a:solidFill>
                  <a:srgbClr val="404040"/>
                </a:solidFill>
                <a:latin typeface="ＭＳ Ｐゴシック"/>
              </a:rPr>
              <a:t>00</a:t>
            </a:r>
            <a:r>
              <a:rPr b="1" lang="ja-JP" sz="6600" spc="-1" strike="noStrike">
                <a:solidFill>
                  <a:srgbClr val="404040"/>
                </a:solidFill>
                <a:latin typeface="ＭＳ Ｐゴシック"/>
              </a:rPr>
              <a:t>（土）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テキスト ボックス 3"/>
          <p:cNvSpPr/>
          <p:nvPr/>
        </p:nvSpPr>
        <p:spPr>
          <a:xfrm>
            <a:off x="4568760" y="7736040"/>
            <a:ext cx="541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404040"/>
                </a:solidFill>
                <a:latin typeface="ＭＳ Ｐゴシック"/>
              </a:rPr>
              <a:t>ご来店の際は、お気をつけてください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図 10" descr="休業日_タイトル.png"/>
          <p:cNvPicPr/>
          <p:nvPr/>
        </p:nvPicPr>
        <p:blipFill>
          <a:blip r:embed="rId1"/>
          <a:stretch/>
        </p:blipFill>
        <p:spPr>
          <a:xfrm>
            <a:off x="8326440" y="1308240"/>
            <a:ext cx="10285560" cy="23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02T23:51:05Z</dcterms:created>
  <dc:creator/>
  <dc:description/>
  <dc:language>en-US</dc:language>
  <cp:lastModifiedBy>signage1</cp:lastModifiedBy>
  <dcterms:modified xsi:type="dcterms:W3CDTF">2016-12-27T06:52:18Z</dcterms:modified>
  <cp:revision>46</cp:revision>
  <dc:subject/>
  <dc:title>スライド 1</dc:title>
</cp:coreProperties>
</file>