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EB3-EE5D-4FA2-AE1E-782C4EDE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DEB-1151-4DEF-90DE-DD411D63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8FD-5947-425A-BE52-7C43979C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56A-1204-4252-BDBC-D99EB035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033-4F99-49A0-9481-B6B785FA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427-633D-4E6A-9DFB-9471BF62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D93-6072-4F38-9491-A8CE4FCD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7D7-3C80-4CA4-821D-C4B8924E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766-7CF5-4ACB-B8F8-D9C512E1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EB2-3C39-4A3A-8C74-3CD6776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5BD-1B7E-4421-8D42-EE96AEA7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736-DB02-4395-A028-AED43210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44AA-BB7A-4F49-ABFB-5A2526B2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休業日横_背景-01.jpg"/>
          <p:cNvPicPr/>
          <p:nvPr/>
        </p:nvPicPr>
        <p:blipFill>
          <a:blip r:embed="rId2"/>
          <a:stretch/>
        </p:blipFill>
        <p:spPr>
          <a:xfrm>
            <a:off x="4680" y="-3240"/>
            <a:ext cx="18365760" cy="103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3297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1"/>
          <p:cNvSpPr/>
          <p:nvPr/>
        </p:nvSpPr>
        <p:spPr>
          <a:xfrm>
            <a:off x="2615040" y="1668600"/>
            <a:ext cx="44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2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2340360" y="3127320"/>
            <a:ext cx="5050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4568760" y="773604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0" descr="休業日_タイトル.png"/>
          <p:cNvPicPr/>
          <p:nvPr/>
        </p:nvPicPr>
        <p:blipFill>
          <a:blip r:embed="rId1"/>
          <a:stretch/>
        </p:blipFill>
        <p:spPr>
          <a:xfrm>
            <a:off x="8326440" y="1308240"/>
            <a:ext cx="1028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52:18Z</dcterms:modified>
  <cp:revision>46</cp:revision>
  <dc:subject/>
  <dc:title>スライド 1</dc:title>
</cp:coreProperties>
</file>