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0B2-7A06-45D1-B09F-F1BA7485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140-327F-43F4-858C-5EA021E0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2C2-6237-44A8-80DA-23673E16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8B7-3244-4C70-BDCB-B776E915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03B-73A1-48A5-B522-705E7347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33E-9CDF-4537-AEAF-B404D979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F95-E103-4325-B52B-FDFE0C4A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ED4-C866-48AE-B39A-6D4B3750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1520"/>
            <a:ext cx="9261360" cy="14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AC0-D922-4257-8685-A24538EC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F93-7AC0-4376-8019-EF846225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A2F-ADCD-444E-A7DF-8F7A0559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2F4-0D7A-42EC-B2E0-B6085171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4C11-415B-49CF-8FF7-3A846C9BC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1"/>
          <p:cNvSpPr/>
          <p:nvPr/>
        </p:nvSpPr>
        <p:spPr>
          <a:xfrm>
            <a:off x="2951280" y="5313240"/>
            <a:ext cx="4370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2"/>
          <p:cNvSpPr/>
          <p:nvPr/>
        </p:nvSpPr>
        <p:spPr>
          <a:xfrm>
            <a:off x="2841840" y="7153200"/>
            <a:ext cx="460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"/>
          <p:cNvSpPr/>
          <p:nvPr/>
        </p:nvSpPr>
        <p:spPr>
          <a:xfrm>
            <a:off x="4874040" y="1096956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3" descr=""/>
          <p:cNvPicPr/>
          <p:nvPr/>
        </p:nvPicPr>
        <p:blipFill>
          <a:blip r:embed="rId1"/>
          <a:stretch/>
        </p:blipFill>
        <p:spPr>
          <a:xfrm>
            <a:off x="144360" y="1709640"/>
            <a:ext cx="10114200" cy="1833840"/>
          </a:xfrm>
          <a:prstGeom prst="rect">
            <a:avLst/>
          </a:prstGeom>
          <a:ln w="0">
            <a:noFill/>
          </a:ln>
        </p:spPr>
      </p:pic>
      <p:sp>
        <p:nvSpPr>
          <p:cNvPr id="4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3522960" y="1713384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5:24Z</dcterms:modified>
  <cp:revision>48</cp:revision>
  <dc:subject/>
  <dc:title>スライド 1</dc:title>
</cp:coreProperties>
</file>