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D9F-DEB4-470A-9412-B2E85E25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FF4-8324-4D53-837B-53E862D4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F80-773E-43D6-9E6E-ACFB9517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862-310B-47F1-835C-B971C0EE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4ED-1AC5-42C9-8047-1772CBEE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745-4948-4347-9F61-8486BF9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9DD-A696-4354-B3CA-BA832C30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59C-DFB4-4AEC-8272-80CB6FC6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2CD-09D9-4D1D-A354-4EC70523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902-21F9-4B49-ADBF-6C2E24D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E93-2032-4B11-91BD-44B1279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FAE-6B55-481D-8CC1-475B0DD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BB65-1FF9-4E19-83B2-0D1B0CE1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51:12Z</dcterms:modified>
  <cp:revision>40</cp:revision>
  <dc:subject/>
  <dc:title>スライド 1</dc:title>
</cp:coreProperties>
</file>