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D40-38B1-4B3A-AB4A-A4F7AA43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87C-747E-414A-884A-489D0D96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78C-0BE3-4DFF-9CCE-0392A7B4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106-B656-4CAF-BF34-07AC2391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17A-56F9-4328-9F72-995C5755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C3CB-B79E-4DD1-A433-20E823BB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F59-07BB-4676-A1D5-001294E0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6CA-C8D1-4FF8-93A8-C516FE49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72B-F654-4129-935E-C70FB31A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6BC-A929-420F-B34A-C8045C2C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3BD-75D2-45E5-82DB-FD32A07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8F6-754C-4B56-8788-2CE5936F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1F2B-399F-4601-83CD-3BEBE1F29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6:41Z</dcterms:modified>
  <cp:revision>41</cp:revision>
  <dc:subject/>
  <dc:title>スライド 1</dc:title>
</cp:coreProperties>
</file>