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84C-BA50-4A00-94AE-4B170A0A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5D7-BB4A-4582-87F2-C5D72103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8B7-66CF-4D8A-8A24-7D5836DA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0D6-3BD8-4702-A75E-85B28160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40E9-4384-4263-88CB-888FC3C3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58F-8A3F-49AE-90F7-A2B22CF4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FBB-D1BA-4B0E-AE4D-3D5209CD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32A-0497-4E19-B565-78D12434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0080"/>
            <a:ext cx="9261360" cy="14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8B0-DAE2-47DD-B7A9-66482F59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6C05-99E9-4E38-ADCF-7333289E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50E-E227-4BD6-B4C0-EFC7F4F2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F4D-A3B2-46A3-8C01-4B1913C9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6480" y="16660800"/>
            <a:ext cx="32572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388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E740-E281-4AFA-B5B9-ED57B2228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216080" y="44460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505480" y="44672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927000" y="42973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2"/>
          <p:cNvSpPr/>
          <p:nvPr/>
        </p:nvSpPr>
        <p:spPr>
          <a:xfrm>
            <a:off x="987480" y="335880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4" descr="line_横.png"/>
          <p:cNvPicPr/>
          <p:nvPr/>
        </p:nvPicPr>
        <p:blipFill>
          <a:blip r:embed="rId2"/>
          <a:stretch/>
        </p:blipFill>
        <p:spPr>
          <a:xfrm>
            <a:off x="763560" y="7851600"/>
            <a:ext cx="876312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図 15" descr="line_横.png"/>
          <p:cNvPicPr/>
          <p:nvPr/>
        </p:nvPicPr>
        <p:blipFill>
          <a:blip r:embed="rId3"/>
          <a:stretch/>
        </p:blipFill>
        <p:spPr>
          <a:xfrm>
            <a:off x="763560" y="12531600"/>
            <a:ext cx="876312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16"/>
          <p:cNvSpPr/>
          <p:nvPr/>
        </p:nvSpPr>
        <p:spPr>
          <a:xfrm>
            <a:off x="5505480" y="91598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6" descr="**写真.jpg"/>
          <p:cNvPicPr/>
          <p:nvPr/>
        </p:nvPicPr>
        <p:blipFill>
          <a:blip r:embed="rId4"/>
          <a:stretch/>
        </p:blipFill>
        <p:spPr>
          <a:xfrm>
            <a:off x="927000" y="89917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18"/>
          <p:cNvSpPr/>
          <p:nvPr/>
        </p:nvSpPr>
        <p:spPr>
          <a:xfrm>
            <a:off x="987480" y="80517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5505480" y="1387800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**写真.jpg"/>
          <p:cNvPicPr/>
          <p:nvPr/>
        </p:nvPicPr>
        <p:blipFill>
          <a:blip r:embed="rId5"/>
          <a:stretch/>
        </p:blipFill>
        <p:spPr>
          <a:xfrm>
            <a:off x="927000" y="13709520"/>
            <a:ext cx="4546800" cy="346896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21"/>
          <p:cNvSpPr/>
          <p:nvPr/>
        </p:nvSpPr>
        <p:spPr>
          <a:xfrm>
            <a:off x="987480" y="127695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5:06:41Z</dcterms:modified>
  <cp:revision>41</cp:revision>
  <dc:subject/>
  <dc:title>スライド 1</dc:title>
</cp:coreProperties>
</file>