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27B-70C2-46A4-A54B-9CADBF13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6FA-66CF-4FF1-A1FA-3EECE7C1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41A-D949-45AF-ABEC-ED640760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F50-EC42-4664-9711-F944E00F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B43-6D53-47D7-B4A4-0D9A5455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BC4-8434-46B4-824A-7F0F41A1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D24-DC1D-452D-9F37-B360BE4E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994-5E7D-45C8-BFB3-57F5D88C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03D-5985-4E55-9466-87093A62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5AF-AEB2-4AFF-8899-BBBA786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402-F10E-477A-8962-8EEB74A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9D2-10A8-44CC-AF7D-06F3300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A68C-2E2E-4A28-A4CA-65353B518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5:43Z</dcterms:modified>
  <cp:revision>41</cp:revision>
  <dc:subject/>
  <dc:title>スライド 1</dc:title>
</cp:coreProperties>
</file>