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646-FE0B-4D47-ABCC-B9D2B0F9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8AC-1D90-4851-9D1D-119F6EF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407-3445-4EFF-8E62-62BB2D2E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E9B-46FD-43CF-BA12-769EF5AE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96F-C29A-494A-888E-100E0A6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22E-49B8-4124-863E-25B4FBC6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408-1749-4993-A2F9-35474C3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F45-48F4-4428-A105-706F4B79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95F-403D-44EA-9DE2-1EF15CC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57D-5949-4D37-90C9-E8B18AFC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7E-88B0-4BFB-BC60-BD070B23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54E-1024-4D18-99B6-DAE3F52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B71-35E5-4250-953D-E9E69599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3:47Z</dcterms:modified>
  <cp:revision>40</cp:revision>
  <dc:subject/>
  <dc:title>スライド 1</dc:title>
</cp:coreProperties>
</file>