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DA2-7E67-4F97-904A-17A6A2B8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BE3-0920-439D-8D50-A71155D9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C38-F886-49C1-9695-39A284EC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354-A3B5-42A7-A0AA-3464EB30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90F-A7AC-4957-BE10-5AD8D706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0D2-2C95-47DD-AF90-4702DD63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CC1-04F9-4565-A18C-8D0F2DB9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A01-0628-47B1-8862-B39E1A70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C55-704A-40F2-8F89-ECCB9B5B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445-D7EA-4FF5-B272-61FD0A8E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230-6235-46BB-BDF7-0D9C0FAA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2B2-60D9-47F8-9A73-4CB45DC8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2D43-98D4-4124-863B-EABF2ACE1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5:43Z</dcterms:modified>
  <cp:revision>41</cp:revision>
  <dc:subject/>
  <dc:title>スライド 1</dc:title>
</cp:coreProperties>
</file>