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D9F-0353-4BC2-A44C-11EA03BF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FCB-D9AC-4688-86B7-46ED9E8D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98A-2CE4-492B-B389-CCA87CAF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814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488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4814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20488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A06-71CD-4846-B4EB-ADEA65C8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F02-8A78-459C-A188-2B6661FB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157-9E64-46DB-8669-72EA265F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7BD-3E7B-4714-938F-4A04EF73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1101-9ADF-4502-ABFB-5D5313CF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568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A53-339C-4190-861F-2EEE994A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37D-485D-4BB8-AF96-791131AF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5F3-1E8B-46D6-8858-3F8EC399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A75-590C-402D-BE4D-FD1A0F8E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C6B4-0887-4B53-9386-924BE2A8D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2162160" y="320760"/>
            <a:ext cx="139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938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822240" y="2816280"/>
            <a:ext cx="532296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9"/>
          <p:cNvSpPr/>
          <p:nvPr/>
        </p:nvSpPr>
        <p:spPr>
          <a:xfrm>
            <a:off x="6626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0" descr="**写真.jpg"/>
          <p:cNvPicPr/>
          <p:nvPr/>
        </p:nvPicPr>
        <p:blipFill>
          <a:blip r:embed="rId2"/>
          <a:stretch/>
        </p:blipFill>
        <p:spPr>
          <a:xfrm>
            <a:off x="651024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11"/>
          <p:cNvSpPr/>
          <p:nvPr/>
        </p:nvSpPr>
        <p:spPr>
          <a:xfrm>
            <a:off x="1224288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12" descr="**写真.jpg"/>
          <p:cNvPicPr/>
          <p:nvPr/>
        </p:nvPicPr>
        <p:blipFill>
          <a:blip r:embed="rId3"/>
          <a:stretch/>
        </p:blipFill>
        <p:spPr>
          <a:xfrm>
            <a:off x="1212516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554880" y="1956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89208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1218420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4" descr="line_縦.png"/>
          <p:cNvPicPr/>
          <p:nvPr/>
        </p:nvPicPr>
        <p:blipFill>
          <a:blip r:embed="rId4"/>
          <a:stretch/>
        </p:blipFill>
        <p:spPr>
          <a:xfrm>
            <a:off x="6267600" y="1976400"/>
            <a:ext cx="14256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図 15" descr="line_縦.png"/>
          <p:cNvPicPr/>
          <p:nvPr/>
        </p:nvPicPr>
        <p:blipFill>
          <a:blip r:embed="rId5"/>
          <a:stretch/>
        </p:blipFill>
        <p:spPr>
          <a:xfrm>
            <a:off x="11883960" y="1976400"/>
            <a:ext cx="142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4:27:41Z</dcterms:modified>
  <cp:revision>40</cp:revision>
  <dc:subject/>
  <dc:title>スライド 1</dc:title>
</cp:coreProperties>
</file>