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8295938" cy="10288588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9DE52-5838-42EC-8DF0-CB79342D9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5680" cy="17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2401920"/>
            <a:ext cx="1646568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914400" y="5948640"/>
            <a:ext cx="1646568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C3800-FE19-45F2-BE26-2A9CD0B36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5680" cy="17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14400" y="2401920"/>
            <a:ext cx="803520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351720" y="2401920"/>
            <a:ext cx="803520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14400" y="5948640"/>
            <a:ext cx="803520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9351720" y="5948640"/>
            <a:ext cx="803520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FC78A-D95B-4589-B15E-93357859A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5680" cy="17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2401920"/>
            <a:ext cx="530172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481440" y="2401920"/>
            <a:ext cx="530172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2048840" y="2401920"/>
            <a:ext cx="530172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914400" y="5948640"/>
            <a:ext cx="530172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6481440" y="5948640"/>
            <a:ext cx="530172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12048840" y="5948640"/>
            <a:ext cx="530172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5FA4A-EE90-4179-9984-2F4E145AE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5680" cy="17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914400" y="2401920"/>
            <a:ext cx="16465680" cy="67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48D26-C142-473B-ABCF-2DA6C251A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5680" cy="17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14400" y="2401920"/>
            <a:ext cx="16465680" cy="67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F3920-FEC9-4E53-A017-774A5D161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5680" cy="17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14400" y="2401920"/>
            <a:ext cx="8035200" cy="67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9351720" y="2401920"/>
            <a:ext cx="8035200" cy="67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A1CA8-EC80-4749-9AF8-D0DA2F5A6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5680" cy="17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6C63C-47EC-407F-8FB9-58BA55134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14400" y="410760"/>
            <a:ext cx="16465680" cy="79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56878-9AE6-41CB-9EFC-C7F34D3CF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5680" cy="17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2401920"/>
            <a:ext cx="803520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9351720" y="2401920"/>
            <a:ext cx="8035200" cy="67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914400" y="5948640"/>
            <a:ext cx="803520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4319A-0910-4B57-942F-E2B07D252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5680" cy="17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14400" y="2401920"/>
            <a:ext cx="8035200" cy="67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9351720" y="2401920"/>
            <a:ext cx="803520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351720" y="5948640"/>
            <a:ext cx="803520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F2508-CE6C-4CE5-A2F2-AA489DCF7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5680" cy="17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2401920"/>
            <a:ext cx="803520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9351720" y="2401920"/>
            <a:ext cx="803520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5948640"/>
            <a:ext cx="1646568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70D95-4D7E-4670-AD18-226F23563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5680" cy="17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14400" y="2401920"/>
            <a:ext cx="16465680" cy="67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14400" y="9371160"/>
            <a:ext cx="427032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251040" y="9371160"/>
            <a:ext cx="579132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3109040" y="9371160"/>
            <a:ext cx="42706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9DE38-50E9-4919-AF92-EDF1B10207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図 11" descr=""/>
          <p:cNvPicPr/>
          <p:nvPr/>
        </p:nvPicPr>
        <p:blipFill>
          <a:blip r:embed="rId2"/>
          <a:stretch/>
        </p:blipFill>
        <p:spPr>
          <a:xfrm>
            <a:off x="0" y="0"/>
            <a:ext cx="18294480" cy="10290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9"/>
          <p:cNvSpPr/>
          <p:nvPr/>
        </p:nvSpPr>
        <p:spPr>
          <a:xfrm>
            <a:off x="-11464920" y="7818480"/>
            <a:ext cx="85773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GP明朝B"/>
                <a:ea typeface="HGP明朝B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HGP明朝B"/>
                <a:ea typeface="HGP明朝B"/>
              </a:rPr>
              <a:t>　　　　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テキスト ボックス 4"/>
          <p:cNvSpPr/>
          <p:nvPr/>
        </p:nvSpPr>
        <p:spPr>
          <a:xfrm>
            <a:off x="2162160" y="320760"/>
            <a:ext cx="13970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ＭＳ Ｐゴシック"/>
              </a:rPr>
              <a:t>○○○○●○○○○●○○○○●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テキスト ボックス 5"/>
          <p:cNvSpPr/>
          <p:nvPr/>
        </p:nvSpPr>
        <p:spPr>
          <a:xfrm>
            <a:off x="938160" y="6864480"/>
            <a:ext cx="51847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ＭＳ Ｐゴシック"/>
              </a:rPr>
              <a:t>○○○○○●○○○○○●○○○○○●○○○○○●○○○○○●○○○○○●○○○○○●○○○○○●○○○○○●○○○○○●○○○○○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図 6" descr="**写真.jpg"/>
          <p:cNvPicPr/>
          <p:nvPr/>
        </p:nvPicPr>
        <p:blipFill>
          <a:blip r:embed="rId1"/>
          <a:stretch/>
        </p:blipFill>
        <p:spPr>
          <a:xfrm>
            <a:off x="822240" y="2816280"/>
            <a:ext cx="5322960" cy="4048200"/>
          </a:xfrm>
          <a:prstGeom prst="rect">
            <a:avLst/>
          </a:prstGeom>
          <a:ln w="0">
            <a:noFill/>
          </a:ln>
        </p:spPr>
      </p:pic>
      <p:sp>
        <p:nvSpPr>
          <p:cNvPr id="46" name="テキスト ボックス 9"/>
          <p:cNvSpPr/>
          <p:nvPr/>
        </p:nvSpPr>
        <p:spPr>
          <a:xfrm>
            <a:off x="6626160" y="6864480"/>
            <a:ext cx="51847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ＭＳ Ｐゴシック"/>
              </a:rPr>
              <a:t>○○○○○●○○○○○●○○○○○●○○○○○●○○○○○●○○○○○●○○○○○●○○○○○●○○○○○●○○○○○●○○○○○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図 10" descr="**写真.jpg"/>
          <p:cNvPicPr/>
          <p:nvPr/>
        </p:nvPicPr>
        <p:blipFill>
          <a:blip r:embed="rId2"/>
          <a:stretch/>
        </p:blipFill>
        <p:spPr>
          <a:xfrm>
            <a:off x="6510240" y="2816280"/>
            <a:ext cx="5321520" cy="4048200"/>
          </a:xfrm>
          <a:prstGeom prst="rect">
            <a:avLst/>
          </a:prstGeom>
          <a:ln w="0">
            <a:noFill/>
          </a:ln>
        </p:spPr>
      </p:pic>
      <p:sp>
        <p:nvSpPr>
          <p:cNvPr id="48" name="テキスト ボックス 11"/>
          <p:cNvSpPr/>
          <p:nvPr/>
        </p:nvSpPr>
        <p:spPr>
          <a:xfrm>
            <a:off x="12242880" y="6864480"/>
            <a:ext cx="51847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ＭＳ Ｐゴシック"/>
              </a:rPr>
              <a:t>○○○○○●○○○○○●○○○○○●○○○○○●○○○○○●○○○○○●○○○○○●○○○○○●○○○○○●○○○○○●○○○○○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図 12" descr="**写真.jpg"/>
          <p:cNvPicPr/>
          <p:nvPr/>
        </p:nvPicPr>
        <p:blipFill>
          <a:blip r:embed="rId3"/>
          <a:stretch/>
        </p:blipFill>
        <p:spPr>
          <a:xfrm>
            <a:off x="12125160" y="2816280"/>
            <a:ext cx="5321520" cy="4048200"/>
          </a:xfrm>
          <a:prstGeom prst="rect">
            <a:avLst/>
          </a:prstGeom>
          <a:ln w="0">
            <a:noFill/>
          </a:ln>
        </p:spPr>
      </p:pic>
      <p:sp>
        <p:nvSpPr>
          <p:cNvPr id="50" name="テキスト ボックス 10"/>
          <p:cNvSpPr/>
          <p:nvPr/>
        </p:nvSpPr>
        <p:spPr>
          <a:xfrm>
            <a:off x="6554880" y="1956600"/>
            <a:ext cx="518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ＭＳ Ｐゴシック"/>
              </a:rPr>
              <a:t>○○○○●○○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テキスト ボックス 12"/>
          <p:cNvSpPr/>
          <p:nvPr/>
        </p:nvSpPr>
        <p:spPr>
          <a:xfrm>
            <a:off x="892080" y="1945800"/>
            <a:ext cx="518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ＭＳ Ｐゴシック"/>
              </a:rPr>
              <a:t>○○○○●○○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3"/>
          <p:cNvSpPr/>
          <p:nvPr/>
        </p:nvSpPr>
        <p:spPr>
          <a:xfrm>
            <a:off x="12184200" y="1945800"/>
            <a:ext cx="518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ＭＳ Ｐゴシック"/>
              </a:rPr>
              <a:t>○○○○●○○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図 14" descr="line_縦.png"/>
          <p:cNvPicPr/>
          <p:nvPr/>
        </p:nvPicPr>
        <p:blipFill>
          <a:blip r:embed="rId4"/>
          <a:stretch/>
        </p:blipFill>
        <p:spPr>
          <a:xfrm>
            <a:off x="6267600" y="1976400"/>
            <a:ext cx="142560" cy="7620120"/>
          </a:xfrm>
          <a:prstGeom prst="rect">
            <a:avLst/>
          </a:prstGeom>
          <a:ln w="0">
            <a:noFill/>
          </a:ln>
        </p:spPr>
      </p:pic>
      <p:pic>
        <p:nvPicPr>
          <p:cNvPr id="54" name="図 15" descr="line_縦.png"/>
          <p:cNvPicPr/>
          <p:nvPr/>
        </p:nvPicPr>
        <p:blipFill>
          <a:blip r:embed="rId5"/>
          <a:stretch/>
        </p:blipFill>
        <p:spPr>
          <a:xfrm>
            <a:off x="11883960" y="1976400"/>
            <a:ext cx="142920" cy="762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02T23:51:05Z</dcterms:created>
  <dc:creator/>
  <dc:description/>
  <dc:language>en-US</dc:language>
  <cp:lastModifiedBy>signage1</cp:lastModifiedBy>
  <dcterms:modified xsi:type="dcterms:W3CDTF">2016-12-22T04:51:12Z</dcterms:modified>
  <cp:revision>40</cp:revision>
  <dc:subject/>
  <dc:title>スライド 1</dc:title>
</cp:coreProperties>
</file>