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F29-D59D-46BC-88F6-DA381F2A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7BD-36AE-43AF-A44A-4783484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EFF-EFD7-493E-8550-8744CB98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B2A-0B69-42C0-A2B4-0B16963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56C-6B8B-4395-AB01-254DA15E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587-09A9-4ECA-93EC-E588C03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55B-083A-493B-8F05-B886A48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300-EBD0-4F42-A777-69E1247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668-AE08-49F1-9B1D-933FEBB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F93-930F-423F-BA1A-6E8B948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A6D-5A8D-4513-84C5-8C46643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922-2633-4E35-B1E0-97EC9B0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ED2-4AC1-4170-B477-D3451096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5:43Z</dcterms:modified>
  <cp:revision>41</cp:revision>
  <dc:subject/>
  <dc:title>スライド 1</dc:title>
</cp:coreProperties>
</file>