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676-4848-47F8-B92C-C44F8726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1B9-DE2F-4670-8500-C8A1C5B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909-1416-4464-97BF-E28FBBB3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758-BA8D-417A-883A-BD8F8208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55A-8A32-46DC-AAE4-570D670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A56-8313-4B17-B433-1AAB4E2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50B-2CB6-4176-9F26-94EACA0D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EF6-2578-431D-BDA8-00EBFA7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6E1-B8E2-4951-97D5-51E3EC5D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DC4-88E9-4E6F-8AE3-D287280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6F-50EF-4713-B542-3661BB4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040-D64D-4180-9083-50B5290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714-8D3E-47BE-B399-AC3481FE5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51:12Z</dcterms:modified>
  <cp:revision>40</cp:revision>
  <dc:subject/>
  <dc:title>スライド 1</dc:title>
</cp:coreProperties>
</file>