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343-1F88-4393-A9AA-2A732F2C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2C3-688C-4C92-B589-939DA1BA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28E-CB4F-41FC-A055-3FAD173D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D38-5FA9-4A32-8066-C018933B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1DF-F3F7-45EB-B21D-8B01E63A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C7F-017D-4E2C-BD19-FBA15546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B41-1165-411F-B714-0024CF07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AF3-F181-4B77-9AAF-31958F71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B19-4167-4080-BD2E-6DB4BA07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C51-3DFA-4A3E-BBB9-E8AF7D9D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8E4-C9E3-4E49-81A8-27F66195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17B-4021-49E0-BE76-2BA62FAA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EE45-622D-4C96-85D7-7304041BB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27:41Z</dcterms:modified>
  <cp:revision>40</cp:revision>
  <dc:subject/>
  <dc:title>スライド 1</dc:title>
</cp:coreProperties>
</file>