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A0B-8D50-461E-91D6-0B3F69CD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B79-2E29-4027-9236-C3642C8A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54A-7E49-4426-81FE-686E4018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495-7FF3-4D00-A4A1-AC50F339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73C-EC4B-4053-AB21-CE3C5A00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113-275B-4F43-B206-C581855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4EC-1B2C-4648-84DF-E74EA735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9E6-1FB6-4AF6-9E1D-43BEACB2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DEF-9DFE-4C7B-8C07-0153278A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B20-9389-4095-831D-6595C94A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B24-B02D-4ED8-9039-6B510A1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64A-8D36-4DB3-8953-4A205AB6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5BF9-F73B-4A9A-9096-C3BB073C9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3:26Z</dcterms:modified>
  <cp:revision>39</cp:revision>
  <dc:subject/>
  <dc:title>スライド 1</dc:title>
</cp:coreProperties>
</file>