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6F7-287E-4ECD-A932-29B16D28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9B0-65E8-4205-BFEF-01618BF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421-CADB-42AE-8080-CA4D7AA0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3E0-0677-4E8F-846E-C411C261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A80-8D3A-49C3-984D-C26215E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204-C30A-48FF-96ED-A7237DD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AEE-0D0C-40CB-A4E5-FB3160F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E0F-2451-4507-B5B7-AE69659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8BA-0D10-4462-BB1E-B1AA3E4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873-BBFA-484A-B4C9-9554315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3DD-096E-48D1-BC60-8337651E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74A-EDA9-4520-8098-2BF3895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8C9-EE13-442D-B21F-C8391F654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3:47Z</dcterms:modified>
  <cp:revision>40</cp:revision>
  <dc:subject/>
  <dc:title>スライド 1</dc:title>
</cp:coreProperties>
</file>