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5938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F62-1E69-4CDF-9805-D844EE52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FF3-DF95-41D9-ACB6-5EAD1A36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78CB-B7D6-432A-8B83-8A817AAB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814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488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4814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20488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9368-340C-48DA-A70F-CADD5194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9EE-53D5-4B8E-A0C3-AB998AAE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BD95-8F92-49EC-AEF5-549957E9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A10-FECB-4820-B1D4-0CC1341B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A549-50D2-4BCB-B32F-1EE12BCB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5680" cy="79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45E0-16FD-443E-BF42-0B85056A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0B8-C4D6-4C48-A47D-8049A797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409-E42F-4467-BB43-33EBCD12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FF9-5C9B-4F2D-BD09-AF977F19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7116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1040" y="937116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9040" y="9371160"/>
            <a:ext cx="4270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8A9C-B7AB-492D-9377-7B518CFAF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8294480" cy="102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2162160" y="320760"/>
            <a:ext cx="1397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938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822240" y="2816280"/>
            <a:ext cx="532296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9"/>
          <p:cNvSpPr/>
          <p:nvPr/>
        </p:nvSpPr>
        <p:spPr>
          <a:xfrm>
            <a:off x="6626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0" descr="**写真.jpg"/>
          <p:cNvPicPr/>
          <p:nvPr/>
        </p:nvPicPr>
        <p:blipFill>
          <a:blip r:embed="rId2"/>
          <a:stretch/>
        </p:blipFill>
        <p:spPr>
          <a:xfrm>
            <a:off x="651024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48" name="テキスト ボックス 11"/>
          <p:cNvSpPr/>
          <p:nvPr/>
        </p:nvSpPr>
        <p:spPr>
          <a:xfrm>
            <a:off x="1224288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図 12" descr="**写真.jpg"/>
          <p:cNvPicPr/>
          <p:nvPr/>
        </p:nvPicPr>
        <p:blipFill>
          <a:blip r:embed="rId3"/>
          <a:stretch/>
        </p:blipFill>
        <p:spPr>
          <a:xfrm>
            <a:off x="1212516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0"/>
          <p:cNvSpPr/>
          <p:nvPr/>
        </p:nvSpPr>
        <p:spPr>
          <a:xfrm>
            <a:off x="6554880" y="19566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2"/>
          <p:cNvSpPr/>
          <p:nvPr/>
        </p:nvSpPr>
        <p:spPr>
          <a:xfrm>
            <a:off x="89208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3"/>
          <p:cNvSpPr/>
          <p:nvPr/>
        </p:nvSpPr>
        <p:spPr>
          <a:xfrm>
            <a:off x="1218420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14" descr="line_縦.png"/>
          <p:cNvPicPr/>
          <p:nvPr/>
        </p:nvPicPr>
        <p:blipFill>
          <a:blip r:embed="rId4"/>
          <a:stretch/>
        </p:blipFill>
        <p:spPr>
          <a:xfrm>
            <a:off x="6267600" y="1976400"/>
            <a:ext cx="142560" cy="7620120"/>
          </a:xfrm>
          <a:prstGeom prst="rect">
            <a:avLst/>
          </a:prstGeom>
          <a:ln w="0">
            <a:noFill/>
          </a:ln>
        </p:spPr>
      </p:pic>
      <p:pic>
        <p:nvPicPr>
          <p:cNvPr id="54" name="図 15" descr="line_縦.png"/>
          <p:cNvPicPr/>
          <p:nvPr/>
        </p:nvPicPr>
        <p:blipFill>
          <a:blip r:embed="rId5"/>
          <a:stretch/>
        </p:blipFill>
        <p:spPr>
          <a:xfrm>
            <a:off x="11883960" y="1976400"/>
            <a:ext cx="1429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4:23:26Z</dcterms:modified>
  <cp:revision>39</cp:revision>
  <dc:subject/>
  <dc:title>スライド 1</dc:title>
</cp:coreProperties>
</file>