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8E3-39AA-4059-9C82-7DD199A1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8B0-FFD1-46CF-A004-28B31014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350-15A1-46F7-BFAA-6B05A313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538-1930-4602-818C-C68C51E1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60F-8363-4AA1-BEC6-CC7CF147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F3F-DD00-49AA-9562-701B35B2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AC6-9AAA-419A-AAD7-52C62544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134-8846-4F85-8390-98FBCF32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9DC-627D-40AA-A37A-BF27C05A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087-27DE-4C34-B81A-766B68FA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FC6-E4E1-491C-924C-8F490272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FD2-D682-4BAE-8EB7-10BB76DD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37AA-42A0-4A10-9D4E-791229F1B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3:47Z</dcterms:modified>
  <cp:revision>40</cp:revision>
  <dc:subject/>
  <dc:title>スライド 1</dc:title>
</cp:coreProperties>
</file>