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96C-E651-4B65-B3BA-0970BBFA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8E2-4DFB-4044-A7ED-C8DFD73F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490-C352-4D5A-A149-B79943D9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D6E-C97A-4C63-9EF9-102BA871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0B-2490-49EE-B7F4-901930A9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347-E6DD-4098-BABB-7AE0672B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72B-2BD7-428D-9A68-BEEC75CA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F3D-99D8-4B5F-B35E-8564B545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39C-78CB-4920-86DA-EC6CAA3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7BA-A7CC-4F84-9518-87AF3DB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263-85BD-4256-9297-0522945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69A-A900-46B0-9BCC-04CC9F1C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9BA-1F2C-4FC1-8D25-A01315F4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6:41Z</dcterms:modified>
  <cp:revision>41</cp:revision>
  <dc:subject/>
  <dc:title>スライド 1</dc:title>
</cp:coreProperties>
</file>