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5687-FE98-4BFF-A695-8691FCEF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A90-1AD9-48B5-AEA0-329D3F6E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EAF-1DF3-4CE8-8461-C94D9032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166-14C0-4BDD-A976-233C9C13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98BF-67AA-4B02-BDF5-351BCEB6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DF7-1A9F-4FF8-B304-44DE032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4F4-020A-4E28-BCC2-6F0D2893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708-CE9C-4F86-834B-23BB86D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7656-36EB-4B75-AC3B-27AD62F9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5F8-CA3A-47F1-84FA-67E4BE2D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3F8-1278-4BBD-B608-77B02F2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3D5-F624-40CC-A9A5-C6AFF26A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A8B9-DEFA-44C9-BF82-F30A0AC0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5:43Z</dcterms:modified>
  <cp:revision>41</cp:revision>
  <dc:subject/>
  <dc:title>スライド 1</dc:title>
</cp:coreProperties>
</file>