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29A1-E900-4250-8CB4-8A686C37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EBD-638E-4260-8317-357C9C86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EC06-369A-4235-AE0E-B48D5489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72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7000" y="42703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72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7000" y="10575720"/>
            <a:ext cx="298188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26F9-EE9F-4435-9C20-77960BCC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4E7-7C5F-427B-9549-ECE5EAB3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17D-9B6A-49E7-ADCA-E76B7B5C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47E-D643-42B5-8D0B-5FFAE32A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E17-D9BB-4411-8BFD-2D86AE58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730080"/>
            <a:ext cx="9261360" cy="1414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6F0C-4425-4C7E-944D-3445310C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035-2DAF-445C-92DF-7B5A1FCC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0320" y="105757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23A-EE39-4A7C-81D1-327167B8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0320" y="4270320"/>
            <a:ext cx="45194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10575720"/>
            <a:ext cx="926136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006-9D32-4CE9-90CA-7F4461BE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30080"/>
            <a:ext cx="9261360" cy="30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4270320"/>
            <a:ext cx="9261360" cy="12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6480" y="16660800"/>
            <a:ext cx="325728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3880" y="16660800"/>
            <a:ext cx="2401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C26C-9B77-4146-887E-8F9319BD9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1216080" y="444600"/>
            <a:ext cx="785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5505480" y="44672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927000" y="42973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12"/>
          <p:cNvSpPr/>
          <p:nvPr/>
        </p:nvSpPr>
        <p:spPr>
          <a:xfrm>
            <a:off x="987480" y="335880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4" descr="line_横.png"/>
          <p:cNvPicPr/>
          <p:nvPr/>
        </p:nvPicPr>
        <p:blipFill>
          <a:blip r:embed="rId2"/>
          <a:stretch/>
        </p:blipFill>
        <p:spPr>
          <a:xfrm>
            <a:off x="763560" y="7851600"/>
            <a:ext cx="8763120" cy="142920"/>
          </a:xfrm>
          <a:prstGeom prst="rect">
            <a:avLst/>
          </a:prstGeom>
          <a:ln w="0">
            <a:noFill/>
          </a:ln>
        </p:spPr>
      </p:pic>
      <p:pic>
        <p:nvPicPr>
          <p:cNvPr id="48" name="図 15" descr="line_横.png"/>
          <p:cNvPicPr/>
          <p:nvPr/>
        </p:nvPicPr>
        <p:blipFill>
          <a:blip r:embed="rId3"/>
          <a:stretch/>
        </p:blipFill>
        <p:spPr>
          <a:xfrm>
            <a:off x="763560" y="12531600"/>
            <a:ext cx="8763120" cy="14292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16"/>
          <p:cNvSpPr/>
          <p:nvPr/>
        </p:nvSpPr>
        <p:spPr>
          <a:xfrm>
            <a:off x="5505480" y="915984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6" descr="**写真.jpg"/>
          <p:cNvPicPr/>
          <p:nvPr/>
        </p:nvPicPr>
        <p:blipFill>
          <a:blip r:embed="rId4"/>
          <a:stretch/>
        </p:blipFill>
        <p:spPr>
          <a:xfrm>
            <a:off x="927000" y="8991720"/>
            <a:ext cx="4546800" cy="3468600"/>
          </a:xfrm>
          <a:prstGeom prst="rect">
            <a:avLst/>
          </a:prstGeom>
          <a:ln w="0">
            <a:noFill/>
          </a:ln>
        </p:spPr>
      </p:pic>
      <p:sp>
        <p:nvSpPr>
          <p:cNvPr id="51" name="テキスト ボックス 18"/>
          <p:cNvSpPr/>
          <p:nvPr/>
        </p:nvSpPr>
        <p:spPr>
          <a:xfrm>
            <a:off x="987480" y="80517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9"/>
          <p:cNvSpPr/>
          <p:nvPr/>
        </p:nvSpPr>
        <p:spPr>
          <a:xfrm>
            <a:off x="5505480" y="13878000"/>
            <a:ext cx="388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6" descr="**写真.jpg"/>
          <p:cNvPicPr/>
          <p:nvPr/>
        </p:nvPicPr>
        <p:blipFill>
          <a:blip r:embed="rId5"/>
          <a:stretch/>
        </p:blipFill>
        <p:spPr>
          <a:xfrm>
            <a:off x="927000" y="13709520"/>
            <a:ext cx="4546800" cy="3468960"/>
          </a:xfrm>
          <a:prstGeom prst="rect">
            <a:avLst/>
          </a:prstGeom>
          <a:ln w="0">
            <a:noFill/>
          </a:ln>
        </p:spPr>
      </p:pic>
      <p:sp>
        <p:nvSpPr>
          <p:cNvPr id="54" name="テキスト ボックス 21"/>
          <p:cNvSpPr/>
          <p:nvPr/>
        </p:nvSpPr>
        <p:spPr>
          <a:xfrm>
            <a:off x="987480" y="12769560"/>
            <a:ext cx="831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5:03:47Z</dcterms:modified>
  <cp:revision>40</cp:revision>
  <dc:subject/>
  <dc:title>スライド 1</dc:title>
</cp:coreProperties>
</file>