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88C-A651-4A3B-9859-B94404DC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2A1-F1E1-42BB-9F53-F8F8ADE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02C-8384-4ED3-BEE4-5BDFBEA8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814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48840" y="240192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64814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2048840" y="5948640"/>
            <a:ext cx="530172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911-94FF-439F-ACDD-BC073E65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A28-432A-4632-A7FB-37FE48D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1E6-31AB-4138-9F31-2FA799CE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D7-6833-45E8-A680-0CDCDD03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0961-C90E-4070-9932-303802DA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5680" cy="79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17DA-6BCD-406C-8516-AD513D8E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8F6-0470-4F65-8D38-A6403CD6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351720" y="594864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C3F-96EC-4850-98C6-02C806B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351720" y="2401920"/>
            <a:ext cx="80352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5948640"/>
            <a:ext cx="164656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8235-8853-42F9-A295-C1ED9C98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568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6568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6A4A-2CE8-4F56-8E3B-8038EE4D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図 1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4"/>
          <p:cNvSpPr/>
          <p:nvPr/>
        </p:nvSpPr>
        <p:spPr>
          <a:xfrm>
            <a:off x="2162160" y="320760"/>
            <a:ext cx="139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ＭＳ Ｐゴシック"/>
              </a:rPr>
              <a:t>○○○○●○○○○●○○○○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938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6" descr="**写真.jpg"/>
          <p:cNvPicPr/>
          <p:nvPr/>
        </p:nvPicPr>
        <p:blipFill>
          <a:blip r:embed="rId1"/>
          <a:stretch/>
        </p:blipFill>
        <p:spPr>
          <a:xfrm>
            <a:off x="822240" y="2816280"/>
            <a:ext cx="532296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テキスト ボックス 9"/>
          <p:cNvSpPr/>
          <p:nvPr/>
        </p:nvSpPr>
        <p:spPr>
          <a:xfrm>
            <a:off x="662616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0" descr="**写真.jpg"/>
          <p:cNvPicPr/>
          <p:nvPr/>
        </p:nvPicPr>
        <p:blipFill>
          <a:blip r:embed="rId2"/>
          <a:stretch/>
        </p:blipFill>
        <p:spPr>
          <a:xfrm>
            <a:off x="651024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48" name="テキスト ボックス 11"/>
          <p:cNvSpPr/>
          <p:nvPr/>
        </p:nvSpPr>
        <p:spPr>
          <a:xfrm>
            <a:off x="12242880" y="6864480"/>
            <a:ext cx="518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ＭＳ Ｐゴシック"/>
              </a:rPr>
              <a:t>○○○○○●○○○○○●○○○○○●○○○○○●○○○○○●○○○○○●○○○○○●○○○○○●○○○○○●○○○○○●○○○○○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図 12" descr="**写真.jpg"/>
          <p:cNvPicPr/>
          <p:nvPr/>
        </p:nvPicPr>
        <p:blipFill>
          <a:blip r:embed="rId3"/>
          <a:stretch/>
        </p:blipFill>
        <p:spPr>
          <a:xfrm>
            <a:off x="12125160" y="2816280"/>
            <a:ext cx="5321520" cy="404820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554880" y="19566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89208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3"/>
          <p:cNvSpPr/>
          <p:nvPr/>
        </p:nvSpPr>
        <p:spPr>
          <a:xfrm>
            <a:off x="12184200" y="194580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14" descr="line_縦.png"/>
          <p:cNvPicPr/>
          <p:nvPr/>
        </p:nvPicPr>
        <p:blipFill>
          <a:blip r:embed="rId4"/>
          <a:stretch/>
        </p:blipFill>
        <p:spPr>
          <a:xfrm>
            <a:off x="6267600" y="1976400"/>
            <a:ext cx="142560" cy="7620120"/>
          </a:xfrm>
          <a:prstGeom prst="rect">
            <a:avLst/>
          </a:prstGeom>
          <a:ln w="0">
            <a:noFill/>
          </a:ln>
        </p:spPr>
      </p:pic>
      <p:pic>
        <p:nvPicPr>
          <p:cNvPr id="54" name="図 15" descr="line_縦.png"/>
          <p:cNvPicPr/>
          <p:nvPr/>
        </p:nvPicPr>
        <p:blipFill>
          <a:blip r:embed="rId5"/>
          <a:stretch/>
        </p:blipFill>
        <p:spPr>
          <a:xfrm>
            <a:off x="11883960" y="1976400"/>
            <a:ext cx="14292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2T04:23:26Z</dcterms:modified>
  <cp:revision>39</cp:revision>
  <dc:subject/>
  <dc:title>スライド 1</dc:title>
</cp:coreProperties>
</file>