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0288588" cy="1829593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96500A-04C0-4B68-B17F-72FD8EEE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ECE52-C578-4C0E-94A6-EEFE506A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C158A-284B-4822-A443-F5F5D0CB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309F12-1C19-4045-9450-427BFDE95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2930C-F159-4781-B3D5-7BC9709A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69903-D5E1-490F-8571-3E9B68C9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A9D48-B2A6-4A72-A6A6-72630D340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85486-5D9C-4708-A9A4-A3FDEEB7A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3D70AE-CE7B-4F55-BACA-7A2785A08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4441E-2EA5-45D6-85F5-E67C7260E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EE09A4-10A5-4E4B-91C4-7C3C3E388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EC3E7-67CB-42D5-A724-0B20BC52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18D3C1-1E59-4D0F-A841-2D4E0B9F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429873-DA47-4637-A7C0-28546A1A2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3DC5D1-C58B-45ED-A228-B3F7DF653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64A68-71F5-4FF2-8786-882C9C12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7079E-9670-413D-B7A8-C8E1A9BD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72E78D-1E35-4E36-B80A-8D6F85D0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AF914-87AA-476A-8B78-B0C9D247E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C4937D-FA5A-4D79-AC60-C302F1C21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A750D-19B4-4315-9B3A-250A480C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FADF19-91AD-4114-B254-A1B53C5BA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725106-FBFD-4BC9-B3D4-E2B2A93D2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E4938-5F37-444F-AD7A-F60DD132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E3F8A-143C-4DF6-878A-4E1B38F4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8A7A5-D0B1-4246-B0A1-24F4FB80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A2AED6-AB96-4B9E-940B-F02DE7D22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29A92-F74A-4F07-B2BE-E2DB2E03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4B1D3-EB3E-495F-AB8E-04BF7027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BE668-8ED5-43A8-AD11-1541F9C0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C9C0-AFB2-473A-A444-73291908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2964E8-4982-4DD1-B23B-BA1DC6BF2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9BCF1C-D8AF-4831-B0D1-DAC9807D8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864E98-3E49-402A-BE8C-05C3FC88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24EC7-67CB-4A08-92B7-C5A8BA661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5C65A0-CAFD-4EFF-8637-DE56385D0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EB216-12F2-4755-ABD3-7DA043444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B3FB1E-8C59-4BA2-AC72-B2B083CA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175F40-B9D3-4F88-BA0A-FEB75813A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0D2C1-3473-4D7E-8347-72D1187BD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0204DE-23CF-40ED-B954-687CDA58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9029-F476-4DD9-A03F-4E5073E3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F13CA-5D84-4088-B73F-950A178EC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0B1EEE-236D-42D0-95BF-75B23724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79A860-6E89-4365-99CD-F8E5CF5F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31C65-C91C-4A6B-A420-9D487D067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2F6A0-3223-469F-BCE6-EDF69965E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4FA1-55E7-4A2D-ABF0-A0690602F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E2EB-79BC-4F50-ADDF-70F1E04E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8B36-1120-4CED-BB43-167F6AF7D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CACC-A1FC-4290-AE93-98EF36FE3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DCB2-4177-4ADF-978A-9677F6A4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B80B-2E91-4E16-B6B1-6CE9FBE5F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5E3-AA28-4676-AFE3-E8386FC7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4F1F-2621-47F3-9C89-24D92A10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983-9B1F-4644-BEB5-3425A162D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3CFF-1F56-4DA6-99D1-683CB680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97607-0A43-4DE4-846E-FDCE5527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E4464-3A67-4A92-B5A5-684EF1D3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D9DF1-C674-4F18-A9C0-FAAB4A51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F46A4-7D3B-48C9-9D00-EA523ED4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2618-5C08-406B-9879-29BBF630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FA03-475B-4CBB-B6D3-96BE7D22A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89A28-3C78-4501-A9A9-C8BB12EDC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45F3-D4EC-4247-9C80-A45F445A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D14F-69E0-424B-AB4E-5574910F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CAC91-E8B3-43B9-8363-F7F5FC8A0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9EF82-CF81-45E2-A936-560783D1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1AAE-08FF-41ED-B126-C2F9092A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46C8F-0A23-45FE-8D2C-43E25C043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60755-9294-437E-B2CC-DF16782D1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4DC5A-05ED-4F62-94EE-10D6D92F2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41FCC-C005-4850-AEA6-1D360DFC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DD57-F99D-44B8-9C86-9781CE6D9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BDF2-2F1E-4DC9-ADA2-6885BE85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06FE8-3F29-4A3B-8B93-D8F3DC27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C99A6-4017-45A2-A470-899248EB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036EB-2C3D-45F0-8C2B-D8D6B2A6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0005A-E1FD-46F7-A817-2AB01D962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FD0D-55E7-4B02-B23B-65A04F4E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D282A-A90E-4259-B08D-DFF14E47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077207-772D-4504-94AD-B92E61D46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1D529-9F73-4D85-8F55-B54AAF29D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010BF-4D87-4935-824A-F5452C246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D1F17-CC35-4175-A460-B9788347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C8990-6DD7-4A50-AC24-65DC5A3D4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2D3AC-15D6-4B2A-B83C-321B42893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4FFA6-09EB-42D2-A50A-6DC25B6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FDC10A-0FF1-4BD7-9ABB-54CA46DF8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FE9DF5-7A1E-47D2-8B69-B6AAB62F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1639C-7DEE-4E95-9EE2-DCEC84FC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9EDCF-3F4C-452B-B582-4B4F9C3E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6A269-36F5-4F10-870B-51B0F763A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FA3976-2A3C-4D1E-A0F7-E92062974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C0DA91-C779-4526-82FA-058EC68A8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37E30-187F-43A3-9571-09D5D6E70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DF990-01E0-4FDA-848D-5772FFDD3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EED3E5-C633-4B33-8754-242F94EB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69833-ECA4-49C7-AE45-0CC640F5C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D521F-0885-40CB-95ED-D2D3FE12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23E3D5-5B84-4B4B-B8BF-11D92BC7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5AFE1-1989-4973-A4CD-03B0E0FD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07339-344A-4AD4-94F6-3D69CA68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9C89D-EEB5-437C-B3EF-C987D4C15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096978-B3C3-4F88-8C4A-CD08746F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B4D93-DDF8-409C-9719-6C2D4E8E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A37B8E-CAA3-4900-B393-30ADCAF2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94B1D-13A9-449A-A5EF-1A6A3402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52F8B-E4B7-40EF-86F3-B3487AD7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8E195-3B0F-4A96-881B-7B57B886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7FA6D-FD82-4C0B-B7C1-2D32D13CD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FD10E-92F2-4EA1-8DB1-A955E767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39837E-6E00-4E5F-8B18-7498EF4F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75F17F-EB9D-4F0A-AE29-9533D766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D5800-7866-496B-8DBB-E14F841F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33432-EA68-44A8-AFED-BA15974A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07A34-A5F6-4507-9B88-D04E90CE4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6B628-570B-4F94-9AA9-895931C6C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FD0B1-3434-4E14-884C-481AD0EA3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78DB9-473D-47F7-B4B4-FEDB2A200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B159F-6D19-446E-A5D9-10F7999A1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C4F420-6D27-44F9-AC54-B3863372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514440" y="729720"/>
            <a:ext cx="9259560" cy="141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D20814-F25E-41AC-B3A1-5493CD88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18FC8-5622-4BAF-9F73-5A0706B2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F58A7-F217-4876-B3F5-795E5C5E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7FDDEF-EFD9-42CF-96AA-BCD287E3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4440" y="9823320"/>
            <a:ext cx="92595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BA0A2-6998-4C08-B0FC-D638B793E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9240" y="428076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144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9240" y="9823320"/>
            <a:ext cx="45183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EB2344-A3CF-4A43-B651-1FECF60D3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64500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775560" y="428076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51444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64500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775560" y="9823320"/>
            <a:ext cx="2981160" cy="506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FC1058-4F22-470F-9CC3-A24B4A995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8C5094-1C88-4535-9D25-F8007C45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18823-A025-4000-BE37-A97B9566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11DC0-6CEB-4F9D-A7A6-ABABFD14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dt" idx="25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ftr" idx="26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Num" idx="27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8DBD-E234-485B-B02F-1B49A8A0F64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dt" idx="28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ftr" idx="29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sldNum" idx="30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06FB-121A-4216-860E-37BD43209FAB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dt" idx="3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ftr" idx="3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sldNum" idx="3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DAD3-BD67-48F4-85B3-D6DC5FF3987F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81A0-E1FB-43C0-8DE0-F4B11C5501D8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CA43-5C84-4AAD-8B5F-652F438EF314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7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8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9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C644-5284-47F9-97D2-3C92AF9B834E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10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11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12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F24D-B079-4961-8E73-C5262C992B8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3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4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5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408C2-A271-481A-A87F-939B5D077075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6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7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8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E150-1322-4BED-9CEB-0B81CCB5A9F1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図 1" descr="掲示板縦bg-01.jpg"/>
          <p:cNvPicPr/>
          <p:nvPr/>
        </p:nvPicPr>
        <p:blipFill>
          <a:blip r:embed="rId2"/>
          <a:stretch/>
        </p:blipFill>
        <p:spPr>
          <a:xfrm>
            <a:off x="0" y="0"/>
            <a:ext cx="10290240" cy="18294480"/>
          </a:xfrm>
          <a:prstGeom prst="rect">
            <a:avLst/>
          </a:prstGeom>
          <a:ln w="0">
            <a:noFill/>
          </a:ln>
        </p:spPr>
      </p:pic>
      <p:sp>
        <p:nvSpPr>
          <p:cNvPr id="271" name="PlaceHolder 1"/>
          <p:cNvSpPr>
            <a:spLocks noGrp="1"/>
          </p:cNvSpPr>
          <p:nvPr>
            <p:ph type="dt" idx="19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ftr" idx="20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21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E21E-4FA9-4166-912A-97FA8A5AC6A0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title"/>
          </p:nvPr>
        </p:nvSpPr>
        <p:spPr>
          <a:xfrm>
            <a:off x="514440" y="729720"/>
            <a:ext cx="9259560" cy="30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body"/>
          </p:nvPr>
        </p:nvSpPr>
        <p:spPr>
          <a:xfrm>
            <a:off x="514440" y="4280760"/>
            <a:ext cx="9259560" cy="1061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dt" idx="22"/>
          </p:nvPr>
        </p:nvSpPr>
        <p:spPr>
          <a:xfrm>
            <a:off x="51444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ftr" idx="23"/>
          </p:nvPr>
        </p:nvSpPr>
        <p:spPr>
          <a:xfrm>
            <a:off x="3516480" y="16956000"/>
            <a:ext cx="325728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Num" idx="24"/>
          </p:nvPr>
        </p:nvSpPr>
        <p:spPr>
          <a:xfrm>
            <a:off x="7373880" y="16956000"/>
            <a:ext cx="2401920" cy="9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A5B8-8C19-4926-B38B-FFBB8BD203C9}" type="slidenum"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9"/>
          <p:cNvSpPr/>
          <p:nvPr/>
        </p:nvSpPr>
        <p:spPr>
          <a:xfrm>
            <a:off x="-6448320" y="13900320"/>
            <a:ext cx="4824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テキスト ボックス 1"/>
          <p:cNvSpPr/>
          <p:nvPr/>
        </p:nvSpPr>
        <p:spPr>
          <a:xfrm>
            <a:off x="6927840" y="1042992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正方形/長方形 2"/>
          <p:cNvSpPr/>
          <p:nvPr/>
        </p:nvSpPr>
        <p:spPr>
          <a:xfrm>
            <a:off x="0" y="16708320"/>
            <a:ext cx="10290240" cy="158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図 11" descr="あたり用写真.jpg"/>
          <p:cNvPicPr/>
          <p:nvPr/>
        </p:nvPicPr>
        <p:blipFill>
          <a:blip r:embed="rId1"/>
          <a:stretch/>
        </p:blipFill>
        <p:spPr>
          <a:xfrm>
            <a:off x="933480" y="3279600"/>
            <a:ext cx="8423280" cy="6377040"/>
          </a:xfrm>
          <a:prstGeom prst="rect">
            <a:avLst/>
          </a:prstGeom>
          <a:ln w="0">
            <a:noFill/>
          </a:ln>
        </p:spPr>
      </p:pic>
      <p:sp>
        <p:nvSpPr>
          <p:cNvPr id="472" name="テキスト ボックス 13"/>
          <p:cNvSpPr/>
          <p:nvPr/>
        </p:nvSpPr>
        <p:spPr>
          <a:xfrm>
            <a:off x="911160" y="977904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テキスト ボックス 15"/>
          <p:cNvSpPr/>
          <p:nvPr/>
        </p:nvSpPr>
        <p:spPr>
          <a:xfrm>
            <a:off x="592200" y="1714032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テキスト ボックス 10"/>
          <p:cNvSpPr/>
          <p:nvPr/>
        </p:nvSpPr>
        <p:spPr>
          <a:xfrm>
            <a:off x="1076400" y="86688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ＭＳ Ｐゴシック"/>
              </a:rPr>
              <a:t>○○○○●○○</a:t>
            </a:r>
            <a:r>
              <a:rPr b="1" lang="en-US" sz="4400" spc="-1" strike="noStrike">
                <a:solidFill>
                  <a:srgbClr val="000000"/>
                </a:solidFill>
                <a:latin typeface="ＭＳ Ｐゴシック"/>
              </a:rPr>
              <a:t>のお知ら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4:17Z</dcterms:modified>
  <cp:revision>67</cp:revision>
  <dc:subject/>
  <dc:title>スライド 1</dc:title>
</cp:coreProperties>
</file>