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F61-C9D1-4DD6-B242-3B35D3DF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019-A58C-4003-BF81-FB157BC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CBB-3077-4888-9BCB-FE6C0DB9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13D-6C60-42E5-A027-84806A6B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2848-E069-40B8-8291-28939FC5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2048-3B0C-41A9-8680-EB101DB4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A48B-F0ED-4727-8560-D7246B9B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F250-CE67-4B74-AD00-A597BDFB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0785-4C7B-43DB-AEA5-91801C88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D214-FD21-4BBC-B6E6-3501D4B7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C8BA-BA89-4863-B2B8-03758292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565-D737-403D-9319-1C06AD08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359D-14EC-4E25-8701-A93339F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E2DA-FAEC-4C89-9FEE-19293173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C903-C96B-4C23-AA5A-7EAC266C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D1A3-697E-42B9-A6CD-B36F1CC7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5520-F279-4C6D-B0B1-EA6EAF0A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1E1-3777-4AB2-A499-233CF029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4BA-082F-4018-A117-AC1EECB4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899-87D3-4608-B502-29937E7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A45-BF7C-4CE5-9AEA-18C8ACDC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429-957B-4CD4-9E71-C8F6374B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421-55D6-456F-937D-6CB3B47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B99-D94C-49B5-93B6-D598ABBB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6F3F-9EDE-4AAE-86E1-046DB035F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8" descr="掲示板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E8C-A7CB-4E71-928B-019F3BDD2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図 8" descr="あたり用写真.jpg"/>
          <p:cNvPicPr/>
          <p:nvPr/>
        </p:nvPicPr>
        <p:blipFill>
          <a:blip r:embed="rId1"/>
          <a:stretch/>
        </p:blipFill>
        <p:spPr>
          <a:xfrm>
            <a:off x="993600" y="2925720"/>
            <a:ext cx="7120080" cy="5400720"/>
          </a:xfrm>
          <a:prstGeom prst="rect">
            <a:avLst/>
          </a:prstGeom>
          <a:ln w="0">
            <a:noFill/>
          </a:ln>
        </p:spPr>
      </p:pic>
      <p:sp>
        <p:nvSpPr>
          <p:cNvPr id="91" name="テキスト ボックス 9"/>
          <p:cNvSpPr/>
          <p:nvPr/>
        </p:nvSpPr>
        <p:spPr>
          <a:xfrm>
            <a:off x="8572680" y="30258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0"/>
          <p:cNvSpPr/>
          <p:nvPr/>
        </p:nvSpPr>
        <p:spPr>
          <a:xfrm>
            <a:off x="4595760" y="930132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1"/>
          <p:cNvSpPr/>
          <p:nvPr/>
        </p:nvSpPr>
        <p:spPr>
          <a:xfrm>
            <a:off x="4270320" y="671400"/>
            <a:ext cx="97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○○○○●○○</a:t>
            </a: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のお知ら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4:36Z</dcterms:modified>
  <cp:revision>63</cp:revision>
  <dc:subject/>
  <dc:title>スライド 1</dc:title>
</cp:coreProperties>
</file>