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65213-915C-43BC-ABE3-AB77BF9A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642E1-46E4-4554-8B39-2B1A4C6E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E8A5-3E86-4D78-834B-EEF203E7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5EF20-0B66-4474-B1F5-172C8304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0E81B-4E7E-4090-9782-24EAE32F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13F1E-7D2B-4289-BDB9-4948F6DB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11FA4-4EF9-4B43-A4A6-D92C07A9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F473C-AAB6-4D90-ABF6-4273E884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01A99-C165-4B66-96CA-633EFECA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8B5E7-0030-41FE-92AF-4221EB84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709E1-0AB2-454E-8D92-6C7B3BC0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99D17-51C9-45E4-816F-B2326939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8FE5D-E7FB-4B1B-B7DE-92EE3FF0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58C82-EFE2-43A0-9499-3B524E8F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5C863-9601-44DD-AD61-5A4CBFE0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E364A-2ADA-4EC6-B3C4-1CBADE89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F1C3F-6C56-47EC-8C6A-2667D63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2A5F5-2EAB-409E-9297-C0E3FD9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64CCE-5412-4A1C-8B9A-E45F45CE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51F22-2FBB-475E-942A-FCB880D9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7CC21-530F-4CE8-A303-FB9B222C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EA86F-9ABD-4204-8B7E-78F73FC4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9CBBF-58A9-45D5-8E1F-EAF708F0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9FA2C-BBC0-4B16-AA63-7A4C3269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495C4-40C9-49F3-97CF-B328A699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AAA63-5545-4C9A-8039-6279AC6A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11EA7-69DA-4099-B904-3D57DEFA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72E34-8E46-4ED8-BBBC-60F9C7E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1DC7A-D1B6-4D4B-9CCA-9741316E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491B0-606D-406B-AE21-4D595E8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034-E71F-4030-B9CE-98D7337C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39EEB-6461-415A-828A-589F1661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0A294-C68A-4815-A788-FAC4E8E2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2FB9E-4232-4D62-BD85-8BBD009F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B0FDD-27A4-4287-AF6D-145501D5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81847-DAFB-4D36-8CBD-31E2A76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840DF-E41F-461F-B9E7-DF46B40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5ADCD-FFEF-4B4D-89C9-4B4C3304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A66AD-610C-4B8E-81A8-66BFEADB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E8C77-AFA7-4B35-A5B0-83C83807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05832-F7B9-4416-8B3E-69BE251A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849-DAC8-426E-A17A-B9B4C14C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D0810-5C42-4787-8653-2C561E87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6FC3C-C2A0-4297-A2FA-5D7BD4C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3D5BB-A4CF-4360-9611-5AA24C4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D1E9E-7EBF-4FD2-9C9A-0067106B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EDD5C-0646-43B1-9D4C-2EFEC528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AF9-9A58-4364-AE60-EE261F99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20D-A14C-4D8C-9C7B-53B440CF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BC3-A708-4DE4-873F-2542DD6B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00C-FF8A-472A-9194-40B17EA9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6C1-DD71-40C5-AD6E-B23F32B0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8DA-07C4-45E9-8211-E1EA8765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831-B273-4794-85B4-0D4ADF47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EE7-A03C-44EF-B53C-2FAEFD3F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849-FE5A-4303-B0CC-9EEBE747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CC5-7120-4F5B-8383-0A6C16A2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BC4F-A6F0-486D-970B-AB888423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3DDE-2151-44D0-9D0C-0A829D34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E2B-1737-497E-A99F-6D6CF1D0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4945-2012-4459-9584-072A8A09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200E-4F5A-450C-BA69-81CFDFFA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C332-BB69-4192-985F-116162DC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8B99-6ECA-4AFD-848E-7F82249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BE80-AA8A-4FC8-B260-1D7A03B1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6A01-39B1-4E7B-B2F4-A8799F1E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0B49-03AA-4E50-BC05-0B0902F3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636-274E-41DB-AA3B-883CB5A2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0A5D-B8E3-47DC-B909-6BF3BD97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191B-A77A-4A66-A1A6-F1B060E3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F409-18F2-44AE-9A7D-3C822A34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5FA8-DD12-472A-A02D-348213E3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AA79-2C7B-475C-A3C1-7E4B38ED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D530-5B53-4441-8511-5235922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842C-03C5-412B-84A2-10AB4F09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0E81-4293-4B92-A4FA-616A819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09AD-875C-4940-BA12-074FCCBC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1512-798F-441E-93E0-9EDE9A96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91A8-0AFF-452B-B0C1-7926850D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7075-5813-4743-83CE-58291BFB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1629-FEA4-494A-9749-F2737C9F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42E4-CED2-4AC2-93A5-C2D8701E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1030-2640-4B84-853F-71FC7F4B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07C9-7C2D-4B37-95F8-B80A0BD9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994F-6DE6-43A9-872B-BFE3FE41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603D-6E30-49BA-A3E2-0D6341DA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B241-F942-44E6-AD52-69E2BE99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6FC3-FBA8-40BC-9596-E3D96305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B200-8C32-473C-A17D-79D7372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85955-3286-45FB-A85C-8611002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C46D-1242-41FB-A591-C3554266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9FDA-CBE1-4965-9624-BDDD8E0F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4DC9-47B3-40D4-BBEA-CA815A28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F583-F9F7-4EB8-8101-2A23E400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DBDA-C581-4AE7-AFED-B7A7FB91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5E1B0-CB25-487A-9C5D-59B341F9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DE16A-3535-4BFE-9217-1E351BAD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3AFC-4F67-47BE-994B-7E4B3FB4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4AE18-7443-4307-829D-0AA288F2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BBF6D-1A00-40D0-9409-9DB7B001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B9C8-732C-421F-95B6-76DD3974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FA061-D3A1-455D-9216-A6017BE0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5BBC-42E7-4EF3-9CDE-C7E3CBE8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4967-6C3F-4484-933F-445B9F39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A986-2525-413B-B793-1BBF8283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7EB99-863F-453C-B9C8-837EDCC3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3A453-33B4-4ACD-A682-14C0F084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D6A0-9200-4D1C-BC7F-71C639CF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CF5E7-FCA8-434F-B207-D66C3E54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7FC48-47A9-44BF-BD6F-DA98D8B6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C1474-CB24-4A70-B8FD-59163408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55B02-56C6-4FDD-A481-CDA2321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079B2-CC05-41DA-82FA-7AE0858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F72B3-0CB2-490B-A931-604DDCC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180F4-6435-486F-A2B0-4403F4B1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9D29-DEF6-4070-BA1E-B43A8B7D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AD291-2D21-4541-BED8-AE9FC328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712BC-55FE-40A1-8ACD-C8B897C6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45CB-159D-4C31-9849-58DEE6E3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79532-C647-49F8-A2B3-2D9DB69B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69F06-E990-4581-B749-EDE26F19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3A734-23B6-49C6-999A-9A4C96DB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FEE1-90B2-4F3A-A2C1-5253F915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E8CD1-AC15-4010-B2AA-69D6F5D2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B2AC-E9F3-4944-B8B9-E0C5DBF4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147F4-14B3-481F-A8CC-3A918A6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8DAE4-99DD-495A-A914-5B2F9A3E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18E94-379A-46A0-9A50-BA88EDAF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9F363-10E0-4DFB-BCF1-4A425F03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AE597-B5F8-4552-A9DD-906BCB82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5651C-CE4A-4391-9992-A56C681D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5ACF-D45F-4446-813F-81F19F79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1EF5-6DD3-4F01-9057-4EA6C5BE0D9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220F-D8F2-4663-A97C-5A46F7921B0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2603-7B23-4AB0-A112-FE4748513D0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30CC-5567-4E19-85F3-482C913DBA8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78E-4638-4E89-B20A-2EC32C88BD0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3356-802E-41D1-A1B8-58C86ADD7FE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79CD-E3A3-4FAE-9D6F-B46AC1AFED8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7911-7CC1-4D9A-9291-CF4B03A7FDA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7AA6-E1DC-45B7-8FA7-7B34677C48E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掲示板縦bg-01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BDD3-D98E-4C06-9557-9BCF42DA5BB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8C0C-6F4E-4D83-9ACA-C516CD58C6C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図 11" descr="あたり用写真.jpg"/>
          <p:cNvPicPr/>
          <p:nvPr/>
        </p:nvPicPr>
        <p:blipFill>
          <a:blip r:embed="rId1"/>
          <a:stretch/>
        </p:blipFill>
        <p:spPr>
          <a:xfrm>
            <a:off x="933480" y="3279600"/>
            <a:ext cx="8423280" cy="637704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3"/>
          <p:cNvSpPr/>
          <p:nvPr/>
        </p:nvSpPr>
        <p:spPr>
          <a:xfrm>
            <a:off x="911160" y="977904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テキスト ボックス 15"/>
          <p:cNvSpPr/>
          <p:nvPr/>
        </p:nvSpPr>
        <p:spPr>
          <a:xfrm>
            <a:off x="592200" y="1714032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テキスト ボックス 10"/>
          <p:cNvSpPr/>
          <p:nvPr/>
        </p:nvSpPr>
        <p:spPr>
          <a:xfrm>
            <a:off x="1076400" y="8668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ＭＳ Ｐゴシック"/>
              </a:rPr>
              <a:t>○○○○●○○</a:t>
            </a:r>
            <a:r>
              <a:rPr b="1" lang="en-US" sz="4400" spc="-1" strike="noStrike">
                <a:solidFill>
                  <a:srgbClr val="000000"/>
                </a:solidFill>
                <a:latin typeface="ＭＳ Ｐゴシック"/>
              </a:rPr>
              <a:t>のお知ら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4:17Z</dcterms:modified>
  <cp:revision>67</cp:revision>
  <dc:subject/>
  <dc:title>スライド 1</dc:title>
</cp:coreProperties>
</file>