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288588" cy="1829593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925DC-4FB3-4750-9272-A84E9DAD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099C4-9E59-434D-BE62-D3A75259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14D03-73CB-4D8B-9923-8511AF3E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93FCB-559F-4FAD-952C-59FF5E47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59CCB-CA97-4334-9E07-FF17A25F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539F5-FFF6-4334-A95F-FF4417E5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8620C-9762-4C3E-84A4-5A540F0C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8288B-25E0-42F2-B111-1F8C6BB7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BF579-13E9-40D2-B089-D20BC444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F582F-BC80-4A8B-B9EF-758F42D1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1B42C-EA1D-416E-86C2-E5BE0924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C0B7D-FE0E-44D1-AFCD-320F4819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8D9ED-25D6-4E75-B717-8164FA30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55F73-B3C7-4888-905B-B8936647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5C380-0C61-4F2B-A234-8A08D4BC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4D5F2-811E-481F-ADD6-E443BFE7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15939-07D6-49EE-B45C-DADB074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0F928-5431-4E00-87A2-DB73849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69684-D864-44D1-8618-BC3EA08A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F2200-15EB-4C2D-BC91-006D5119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71888-5FF9-431F-96D3-47DA79D0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DC483-231C-4DE2-9A25-1AA55F04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1DB8B-08AC-459F-9651-7F7F137E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2E791-DFBC-4E7C-9443-373FAFBA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9DECE-7065-4AB2-AB7F-9109B112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CD4A3-6CB6-431A-B1FC-700AD329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16B9C-FC29-4E55-AC55-898811A1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7AE7B-9096-44E5-BC92-B1BBA464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FA5D0-7D35-4BFD-A490-1C1CAB5C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A95DB-2EA8-4866-85B2-D6B6B9A7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C08-E893-45C9-BB55-7A723FFC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2FA47-1B12-4C0B-8582-A827BBF1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FFA7E-88CE-4CF2-978C-502C31AA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224B4-6BC6-4D1D-B611-4C1FBA39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91AF3-7811-4DF9-92A8-560ACD91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01621-97E7-4F22-B832-9009886F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EEDE3-6C65-46C6-9935-DCD0ADFA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F1036-91CD-41B0-9157-B98FF838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1F85B-2409-46F0-A760-F5023DF9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C77C8-F64E-4A52-A96D-332E9351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32ED6-5E0B-401B-B8E3-726709D1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4AB-12DF-4D34-AE42-32DA0B14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D2F65-3AD9-40ED-B616-26B480C3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21980-0F80-46B8-A0EB-A465DADB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BD560-DF2A-41C0-B794-77D381A4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C2080-B58E-406C-BAD6-1D8045D3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A94EE-EA9C-42B2-9BC2-13B1B0A1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24B-BAB6-41EC-ADA4-DFC241CA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B19-E051-4165-873B-94D7BB4F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758-E2C1-4372-9F5F-DBD53DB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5C4-5E37-485F-9E46-3AEF993C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350-BB3F-48C0-B058-A96E3693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233-C2AC-4745-BDF1-5546B7C4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F71-C2C6-4388-A9AE-938E958B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914-FCFC-4B31-ACD2-D5925A5B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6E0-DF3C-49FC-9A14-6A551E74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0C9-7F39-4DA6-9B02-3E9FC3A3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AEAA-F729-4C0A-AC71-3ECCD6C0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3F44-9D30-4F04-B158-3A5B0ED3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37BB-4CD8-45F8-95EA-FCED3B18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C6D6-E0FF-4802-8791-F7C40940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486B-7979-45A1-8DDD-2D14744B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AF38-FF25-40E1-910A-5AA3DFAD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E1BA-B185-4CA8-B314-B8AD15E9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FC85-6DEA-4658-8D1B-FF018203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E3EF-2F32-4DDE-A5BB-36B92923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5CD1-19AA-4703-B134-E5CA6F76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D416-5FC9-45BE-8385-D6553ED0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37C8-3D51-4EF5-A7D6-97FB543F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D6C9-035D-4F34-8BFE-8B8D416F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7B2D-8DD4-4882-BA6A-0A758050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8B26-0D69-4DF5-95C0-0FEFA7C2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9D152-C167-425E-8B32-C33CEA22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1A09-C23D-4D28-ACE0-56FE92E3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132F0-2153-46D0-A508-000DFCAD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212A-806B-4255-A687-9BC4E88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F846-F881-43E9-8D79-E3F1998C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2B30-B00E-437A-A876-49F16565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76B7-9437-49BD-A155-A90DDCD0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00026-895D-4EAB-8352-38E04A20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89AC6-BDAA-45F7-BCBA-A7A1AE85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A2D00-4D0C-4280-8AD0-298A9145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D756-CF00-461F-91B4-AE50A27C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7FE7-2D17-45F3-AEA2-A8DBE8E7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ECCF9-E7AF-418A-B8F0-FFBF7CF1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F046-36D9-4FCA-B302-8195F612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13BFD-BCC5-4CF2-AA24-D479B0C8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C179-90BB-456B-B360-070ED7AA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53BB-9C90-4D00-8B0D-1A4F535B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7E09-5A01-4748-8EBE-166FE086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B3B28-F8BE-4322-8AC2-C6D07CA6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C326-452A-4F5C-8AB4-71616C63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D970F-3C2F-44C0-8802-FD344C49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5FBF9-F4AE-4047-BF6A-2A810500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5449-934A-47DC-B1D5-71FB1D50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2A992-0102-40B8-B4E8-0021DD2E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5F848-5A66-400C-A8C0-2133E63B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2458B-8447-4F74-A5CC-186B4905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A8D33-3C25-4FCD-BB8C-72E6E592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2E5BD-26EA-4EB0-B96B-4A7CFBEC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473F9-687F-486C-9BEB-5570F5BA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5B971-A67A-4E60-A457-8E5BCC6B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74FBD-184D-422E-92A6-B8B93434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AD4C1-5D53-4038-AB78-60873DE6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03DD-7BAF-4C40-8727-5C58DC7F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B5A91-18BA-49CB-835D-301486D0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1A212-9F24-45B9-8BDD-018F4FAE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055C9-0B5B-459D-865F-2A487709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4A40-9AAD-48BD-933D-4D7E4BC7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70D3D-5ACA-42E4-89FD-EE2F487C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6B96C-7ADB-43E2-A4F4-B4684880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52BD9-CCC2-4B7E-90C7-CD8EF6F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2E4F6-E2D6-46C5-A72D-0E930C0E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87C5D-0F92-4309-B774-BE2E871B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C792B-0C4E-4C90-A83C-AF30EEB6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7E081-B6C9-47BE-9580-D130C49E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9CA49-A6A1-4B15-8F2B-AEDF714C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7CA7E-663C-4D47-B158-ABDDFCEA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82BC0-3305-4923-BFCD-04DE6ED8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EEA1E-8830-4984-91D8-EB6CDD7E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15F84-0ED7-4A9B-AFFA-1B3F6874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308C9-DA8C-439B-8141-9842F9EC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8D868-4932-4770-8259-65535077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4185C-1DA5-4C4A-B056-D0878F6B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4CCAB-027E-40C6-A301-3ED8248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E557A-A502-48B2-9860-5D4639C1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7CC48-0219-4484-A254-701B7512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13EA-D513-42DC-B2D6-A14ED3DD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7DE23-360D-4F15-85BD-7F2B6462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09D2B-2826-4CC2-BC51-218F2FF2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23133-B6AF-4310-9F55-1B5005F9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F57E0-6188-4968-BD02-EC51A7A4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5621-A04A-44ED-9171-819E53D5719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CA4B-AD8B-49F2-BF9E-66D233FFE9E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B6BF-2D64-4C47-A8E8-778A8B0323F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77A6-1942-4E1A-9E70-6CA326B2F57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6F4B-9F76-4B0A-B857-D28E1726432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FE3F-A859-4CCF-9A22-104AB9CBF73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7F29-0293-4818-BA36-F7D1070B92E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41A2-86B1-410A-B540-F2B28C4777F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0F40-24CE-4116-A689-0B8F36E3DA2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" descr="掲示板縦bg-01.jpg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4A54-8094-4916-9F36-C446571318A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98E6-F64B-44EA-95C4-A61F64E065C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図 11" descr="あたり用写真.jpg"/>
          <p:cNvPicPr/>
          <p:nvPr/>
        </p:nvPicPr>
        <p:blipFill>
          <a:blip r:embed="rId1"/>
          <a:stretch/>
        </p:blipFill>
        <p:spPr>
          <a:xfrm>
            <a:off x="933480" y="3279600"/>
            <a:ext cx="8423280" cy="637704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ボックス 13"/>
          <p:cNvSpPr/>
          <p:nvPr/>
        </p:nvSpPr>
        <p:spPr>
          <a:xfrm>
            <a:off x="911160" y="977904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テキスト ボックス 15"/>
          <p:cNvSpPr/>
          <p:nvPr/>
        </p:nvSpPr>
        <p:spPr>
          <a:xfrm>
            <a:off x="592200" y="1714032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テキスト ボックス 10"/>
          <p:cNvSpPr/>
          <p:nvPr/>
        </p:nvSpPr>
        <p:spPr>
          <a:xfrm>
            <a:off x="1076400" y="86688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ＭＳ Ｐゴシック"/>
              </a:rPr>
              <a:t>○○○○●○○</a:t>
            </a:r>
            <a:r>
              <a:rPr b="1" lang="en-US" sz="4400" spc="-1" strike="noStrike">
                <a:solidFill>
                  <a:srgbClr val="000000"/>
                </a:solidFill>
                <a:latin typeface="ＭＳ Ｐゴシック"/>
              </a:rPr>
              <a:t>のお知ら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4:17Z</dcterms:modified>
  <cp:revision>67</cp:revision>
  <dc:subject/>
  <dc:title>スライド 1</dc:title>
</cp:coreProperties>
</file>