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CDD-30E8-4AEF-B7DD-F2D900F8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149-267F-4A6D-8EEE-DA3D4F0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D23-0092-45E2-8D35-64FC4960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AF4-0F62-494C-B659-3781FF80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FD99-4412-4AB6-BFB8-7217CFCB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CCE-01A1-466C-B5B9-B0720166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6FF-D46E-438A-AA44-6D0E6292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C65F-F268-4B8A-BD00-C91CAF4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6AB-D0AD-447F-ADAD-062504B1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76A-2441-4A94-8C3C-B1C7504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2B7C-97D2-4073-978C-A9D3911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B9B-688B-43E4-9A37-E70166A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F0ED-C9D1-45C3-95C1-269E3B9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3011-93A7-476C-8D7B-FC35D72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8740-9B40-4245-9FD5-271E1B1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8957-C0EA-45F3-AF4A-93112F0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8A93-17CF-4A3E-9DF3-F03F2F45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9B6-3811-4749-93FF-22D5FEE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77D-5273-4A60-846A-7909064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188-A969-4D9F-9CC2-A3973D88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7F1-ACE6-4C94-B44C-6755113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3C9-63CA-4AAD-8F33-1E6F0AB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85C-5284-4098-8014-1C248166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281-DCFB-4582-9691-C9110E1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B22B-E15F-46BE-92C4-3D5E6E68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8" descr="掲示板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A2B-941E-441B-8431-9B1A8B13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図 8" descr="あたり用写真.jpg"/>
          <p:cNvPicPr/>
          <p:nvPr/>
        </p:nvPicPr>
        <p:blipFill>
          <a:blip r:embed="rId1"/>
          <a:stretch/>
        </p:blipFill>
        <p:spPr>
          <a:xfrm>
            <a:off x="993600" y="2925720"/>
            <a:ext cx="712008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テキスト ボックス 9"/>
          <p:cNvSpPr/>
          <p:nvPr/>
        </p:nvSpPr>
        <p:spPr>
          <a:xfrm>
            <a:off x="8572680" y="30258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0"/>
          <p:cNvSpPr/>
          <p:nvPr/>
        </p:nvSpPr>
        <p:spPr>
          <a:xfrm>
            <a:off x="4595760" y="930132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1"/>
          <p:cNvSpPr/>
          <p:nvPr/>
        </p:nvSpPr>
        <p:spPr>
          <a:xfrm>
            <a:off x="4270320" y="671400"/>
            <a:ext cx="97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○○○○●○○</a:t>
            </a: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のお知ら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4:36Z</dcterms:modified>
  <cp:revision>63</cp:revision>
  <dc:subject/>
  <dc:title>スライド 1</dc:title>
</cp:coreProperties>
</file>