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8299113" cy="10288588"/>
  <p:notesSz cx="6872288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B36-8420-44B3-8F64-B311EAD0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1793-92EC-4DF4-B77A-6170923F3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3FB7-CD9D-413E-B318-A685CD96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360F-7206-472C-8695-98524000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A3FF-8162-4C94-A43B-3C6DC78A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1EE90-7536-4A79-B52D-75D3BE96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39972-5B7A-4ECC-833D-4F53FE192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D7D91-4860-4B4D-8EE8-5C3BA2AD8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DB6D4-A408-494E-B6F6-06596620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083D-AF60-45CF-8A5E-61DA80AE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B2B1-09CA-46FF-9CAB-7088467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29C6-4EEB-4DEC-8566-A4A71143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1ADA3-88A5-4D25-9069-CC9E645E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755E-C144-445D-A260-6FFDB2FF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80B4C-ED5C-4217-91E9-6A48F5A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34B18-0C0A-4903-B4AF-396E3927D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48288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051000" y="240012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648288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12051000" y="5945400"/>
            <a:ext cx="530280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477FC-3B6A-4806-8865-C8243EB00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0F76-71EF-4D31-B22F-4F0810A2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B6A3-3B93-4AF9-A37D-6210137F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2EB4-EA27-49CE-927C-0D61550EC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410760"/>
            <a:ext cx="16468560" cy="79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2077-0F30-4E4F-82DA-C5B1B6EB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DCA-34BF-4269-91A9-75EB0AFE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353160" y="594540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8F7-69A5-4540-9C20-70BC85163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353160" y="2400120"/>
            <a:ext cx="803664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5945400"/>
            <a:ext cx="16468560" cy="323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A081-D776-491F-B0F9-2A05315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93AFC-EF51-4E85-9FD6-BB16F1A989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0"/>
          <p:cNvSpPr/>
          <p:nvPr/>
        </p:nvSpPr>
        <p:spPr>
          <a:xfrm>
            <a:off x="3450600" y="299880"/>
            <a:ext cx="331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デンソーセールス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 </a:t>
            </a:r>
            <a:r>
              <a:rPr b="0" lang="ja-JP" sz="3600" spc="-1" strike="noStrike">
                <a:solidFill>
                  <a:srgbClr val="ffffff"/>
                </a:solidFill>
                <a:latin typeface="Arial"/>
                <a:ea typeface="HGPｺﾞｼｯｸE"/>
              </a:rPr>
              <a:t>渋谷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1"/>
          <p:cNvSpPr/>
          <p:nvPr/>
        </p:nvSpPr>
        <p:spPr>
          <a:xfrm>
            <a:off x="696960" y="9637560"/>
            <a:ext cx="16773480" cy="4464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図 8" descr="掲示板横bg-01.jpg"/>
          <p:cNvPicPr/>
          <p:nvPr/>
        </p:nvPicPr>
        <p:blipFill>
          <a:blip r:embed="rId2"/>
          <a:stretch/>
        </p:blipFill>
        <p:spPr>
          <a:xfrm>
            <a:off x="4680" y="0"/>
            <a:ext cx="18288000" cy="10287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400" y="410760"/>
            <a:ext cx="16468560" cy="17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14400" y="2400120"/>
            <a:ext cx="16468560" cy="67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91440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6252840" y="9367920"/>
            <a:ext cx="5791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3112640" y="9367920"/>
            <a:ext cx="427032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5A03-2F74-4F50-BE7E-86EDA5E7C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9"/>
          <p:cNvSpPr/>
          <p:nvPr/>
        </p:nvSpPr>
        <p:spPr>
          <a:xfrm>
            <a:off x="-11466360" y="7816680"/>
            <a:ext cx="8578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HGP明朝B"/>
                <a:ea typeface="HGP明朝B"/>
              </a:rPr>
              <a:t>　　　　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1"/>
          <p:cNvSpPr/>
          <p:nvPr/>
        </p:nvSpPr>
        <p:spPr>
          <a:xfrm>
            <a:off x="12318840" y="58644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正方形/長方形 3"/>
          <p:cNvSpPr/>
          <p:nvPr/>
        </p:nvSpPr>
        <p:spPr>
          <a:xfrm>
            <a:off x="0" y="9031320"/>
            <a:ext cx="18297360" cy="12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図 8" descr="あたり用写真.jpg"/>
          <p:cNvPicPr/>
          <p:nvPr/>
        </p:nvPicPr>
        <p:blipFill>
          <a:blip r:embed="rId1"/>
          <a:stretch/>
        </p:blipFill>
        <p:spPr>
          <a:xfrm>
            <a:off x="993600" y="2925720"/>
            <a:ext cx="7120080" cy="5400720"/>
          </a:xfrm>
          <a:prstGeom prst="rect">
            <a:avLst/>
          </a:prstGeom>
          <a:ln w="0">
            <a:noFill/>
          </a:ln>
        </p:spPr>
      </p:pic>
      <p:sp>
        <p:nvSpPr>
          <p:cNvPr id="91" name="テキスト ボックス 9"/>
          <p:cNvSpPr/>
          <p:nvPr/>
        </p:nvSpPr>
        <p:spPr>
          <a:xfrm>
            <a:off x="8572680" y="3025800"/>
            <a:ext cx="856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ＭＳ Ｐゴシック"/>
              </a:rPr>
              <a:t>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○○○○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0"/>
          <p:cNvSpPr/>
          <p:nvPr/>
        </p:nvSpPr>
        <p:spPr>
          <a:xfrm>
            <a:off x="4595760" y="9301320"/>
            <a:ext cx="910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ＭＳ Ｐゴシック"/>
              </a:rPr>
              <a:t>○○○○●○○○○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1"/>
          <p:cNvSpPr/>
          <p:nvPr/>
        </p:nvSpPr>
        <p:spPr>
          <a:xfrm>
            <a:off x="4270320" y="671400"/>
            <a:ext cx="975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○○○○●○○</a:t>
            </a:r>
            <a:r>
              <a:rPr b="0" lang="en-US" sz="6000" spc="-1" strike="noStrike">
                <a:solidFill>
                  <a:srgbClr val="000000"/>
                </a:solidFill>
                <a:latin typeface="ＭＳ Ｐゴシック"/>
              </a:rPr>
              <a:t>のお知ら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2T23:51:05Z</dcterms:created>
  <dc:creator/>
  <dc:description/>
  <dc:language>en-US</dc:language>
  <cp:lastModifiedBy>signage1</cp:lastModifiedBy>
  <dcterms:modified xsi:type="dcterms:W3CDTF">2016-12-27T06:44:36Z</dcterms:modified>
  <cp:revision>63</cp:revision>
  <dc:subject/>
  <dc:title>スライド 1</dc:title>
</cp:coreProperties>
</file>