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</p:sldIdLst>
  <p:sldSz cx="10288588" cy="18295938"/>
  <p:notesSz cx="6872288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0" y="0"/>
            <a:ext cx="68724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76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dt" idx="34"/>
          </p:nvPr>
        </p:nvSpPr>
        <p:spPr>
          <a:xfrm>
            <a:off x="3892680" y="0"/>
            <a:ext cx="2976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sldImg"/>
          </p:nvPr>
        </p:nvSpPr>
        <p:spPr>
          <a:xfrm>
            <a:off x="2387160" y="744120"/>
            <a:ext cx="209556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body"/>
          </p:nvPr>
        </p:nvSpPr>
        <p:spPr>
          <a:xfrm>
            <a:off x="686880" y="4717800"/>
            <a:ext cx="549612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ftr" idx="35"/>
          </p:nvPr>
        </p:nvSpPr>
        <p:spPr>
          <a:xfrm>
            <a:off x="0" y="9433080"/>
            <a:ext cx="2976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 type="sldNum" idx="36"/>
          </p:nvPr>
        </p:nvSpPr>
        <p:spPr>
          <a:xfrm>
            <a:off x="3892680" y="9433080"/>
            <a:ext cx="2976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3585B-E3FF-4C8B-8BF8-C550BAB0FE85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2387520" y="744480"/>
            <a:ext cx="2095560" cy="37242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6880" y="4717800"/>
            <a:ext cx="549612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スライド番号プレースホルダ 3"/>
          <p:cNvSpPr/>
          <p:nvPr/>
        </p:nvSpPr>
        <p:spPr>
          <a:xfrm>
            <a:off x="3892680" y="9433080"/>
            <a:ext cx="2976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2DB9E-D7DD-4BC5-8F14-FACEDA22CA1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F74ADC-D06E-420E-A76E-FFFE545C8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1E5D2D-52D4-4FE1-9D2A-4C168916B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48FA34-054C-4454-9354-7DA2E7E5A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AA08D8-3012-47D1-BF2C-160DDBA1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3EA496-48D3-4AEB-84DC-310902D8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629234-D05F-46B1-8B7A-A62F2355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00AE55-E55B-44DA-A7F2-25902DD3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9FEA9F-7879-4AFA-A2AE-198950C98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C6196A-1D95-473F-8B92-7A25333B2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897557-9913-43EE-9DD5-392129A0D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648BCE-D54A-48E8-9CA7-496FEF129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A11A67-AC07-4E37-BADE-F25763C0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4D6FD5-27A3-4126-BCE8-E00E307EB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E5352D-B757-4F44-8BFB-B7323D35C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F2CC1C-0A1F-42A5-9D89-0E5445175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EF70F6-A418-4E52-B1EF-11FDC1FB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1E921F-81C0-4BF9-8BCC-87BC028F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7457ED-B799-4A49-AD5E-24197FC6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11FDC6-EF30-47A5-AB79-AA96812F0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8266BF-3B87-4E38-B886-0D1745C16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9A457E-9B84-4D7F-9C10-0FB67E90D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3E4499-58A5-483F-B8B8-9858A0414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3BED1B-73B5-4464-921B-6C6DC0B09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4AE07B-0E6B-418E-B61B-EECA86777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BB42E2-BC16-44CE-8557-74C074A3B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43DB2F-7699-4C42-8E2A-F04676C6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D09059-D77F-4BED-9076-31D627A99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3386EC-4CB6-4C9E-B455-CB425AC1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77B145-A78F-48E6-B72D-E2E16252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6D4699-BB45-4DED-85D4-B95CDC0F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1389-9FD9-4886-AD84-CEB88BC93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A81EFB-D7FA-44CC-837C-46EAD3CF5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F1950C-94A8-4030-A95B-9579D63A2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B30439-B2CA-4536-BD6E-8D0960415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2C93FB-ED9E-49F4-90D2-96DD2E566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27A5D2-8F89-4D33-B405-A408EE129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DA1391-D8F3-4912-8866-4538E98A5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892011-4C23-4B61-B99D-AFBA4804A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9827E3-329A-4F74-B768-4CF770175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3CA9C9-8F97-425C-8467-D5977CCA4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3EA9F9-3D9F-4816-AEAB-7B1E0D80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8356-4AF3-41D8-A618-6A2147133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88F08F-E8C3-4DBD-8DEE-F70021CF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87498D-6C3C-4B90-A64E-323C01DB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47471C-66F1-44EE-B7B7-99CF2BD89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7A95F8-0B35-470D-9EB0-E7404DFE1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F742AB-F77A-40AC-902B-0A6401FE3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9ACC-8EC9-45BA-A09C-2A138484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375F-C8F5-4834-AE0D-6A9C46F64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5992-F80A-4096-915D-CB0AD2EBA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E8E4-87B0-4EB5-AA91-74B3B5134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5659-5131-48D9-9857-649002E3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AB6F-45AB-4278-AE44-339FA57F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FD76-63C3-46BF-9C86-205350AA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B7A0-5222-42DA-80FD-3DF08A2BB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5987-E76A-479B-92B5-1AB845BC9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D6CE-9EC4-4554-981D-4EE18A1E0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79D0B-F2E4-4FAA-98A5-71E382344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2E20F-5DE5-4047-94D6-928A5CF60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C615D-1F1B-4F51-9D79-F9B99F937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66FF7-5EFB-4A34-880B-B3FCA0DB8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80ECB-2529-451A-A870-D0423F5ED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3AB30-8711-4E72-845F-9EFD7EFF9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4536A-90C2-4F68-B5C7-9E02E868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B415A-7D73-4E16-AC21-FC69B0BA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8CEAA-6833-4210-B52A-5960FD5B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E4D52-EF55-408E-AD4B-E5DC8FE1C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8B057-5530-4B12-92EE-0DF2685BA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A65B4-2725-4698-97CF-D6DA37DA8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E08FE-0492-4BAC-87D7-ADECFFAD0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413CB-1571-4C83-9BBB-A8A4E0C37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4176F-FBA4-4F2D-AC42-B7F13EDFD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68DEA-6C5B-432B-B0C7-11AD527F4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EFE4B-1B46-464B-83E6-CED894D60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35A9B-FEA5-4CC4-A411-E20B53232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2BDE9-6399-42DD-9811-706CD56F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D2196-D0A8-4C18-B959-9DAD6601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6F86D-E360-417B-B27E-1B085F04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902A4-0AFB-4F5B-87FB-491AC8F91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D7213-EA2B-40AF-B4F6-6D2852686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9688F-4706-424A-BC1E-F6E7F0805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03EBF-3863-422A-928F-0AB477F0D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85160-5214-4F09-958E-ED99CD4A3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983CE-FCFF-492F-9550-53E5F7CF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82F07-2E4E-4208-A18A-7B27CD50F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03D77-53C6-4075-BADD-E21C7EC5D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379BD-B796-467E-8FC1-A2C223592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21FE8-14A5-4BBE-9C65-E9E67043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0D9CD-1246-4B89-B10C-B9E95D24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32A9D-D20C-4BFF-895F-27B09127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E15F3-0660-4392-B0D3-09E263427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B3463-0B0F-4E47-BF69-4616457CE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0F99E-143F-488A-A961-F5C3B7A99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7660F-C0AC-4428-9AEF-C3A207F15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55D9E-308F-4783-8E36-55D1D662E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F901B-C625-4A59-B017-C2BF5FA32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871CC-6027-4D3C-8F5D-193DE4721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57553-2029-455B-962C-FB9D49B51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45FFD-E9D4-47F9-99D4-F06265A46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4B370-B081-43E6-AC9E-C04342B8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02906-8ED9-47BB-B4B8-98F65F92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DCBCE-4AF3-4C87-8DDD-1CD48547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D98CB-456D-4963-9233-C15F44E96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3FD0D-70D6-4132-BFD0-3032351A9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90208-3D1B-48A2-9779-3CEBEC6EA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EAA403-24F9-46D2-95A8-5EE1B2710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F21BC-0660-4153-B765-001A7D37A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1C995-6B06-4393-A32A-AE26A5A47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82717-A02B-4490-8227-77953960D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68A05-A7A2-4CF8-9E79-4E88E1FDA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C5B50C-AF73-428E-B0A7-4B31EDC43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56193-5296-4BFD-AA2F-8934C3BA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4FF66-92E8-4F9C-9AD3-3A880CEE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F7766-D9E9-4C90-81C6-36ECA68A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88BDF-CD53-4202-B015-A50D9CA40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F17A7-63D1-44F1-9DDD-61F0A3950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78420-8E8B-40D8-BA6E-78066A3D0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9E98D-F641-473C-9D20-BA1C381C3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5A1918-AFEA-47A8-96FD-98A6C5253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AB49E-4028-4B64-957A-FF24ACD59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56A5C-4A94-4D07-A99B-19EEE9113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9F62FC-B69F-40A1-9E75-F23280066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65015-1DB5-42F0-B209-21278FF15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A1A34-7BFE-4F88-B6D3-5B4237B4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CA65A9-B8CD-4D2C-8A9F-A4E35E01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E0C718-8FD6-4B1F-87CD-A62393B0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73760-77FF-43A8-B15F-E053DF588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B195F-3A29-4525-8344-8CF3F3D52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6B2C7-3CAC-44E2-8E23-6D8D8BA62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8CDA22-AF91-463E-8181-18BA00110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73B586-B07B-4C76-853D-3CC64603A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1D7CC2-F074-408B-B7D4-E27FBAF2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dt" idx="25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ftr" idx="26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Num" idx="27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2E89B-BD15-49B7-BC8B-456A79615777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dt" idx="28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ftr" idx="29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sldNum" idx="30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4B5F5-3451-4D51-AE79-D8C2B9531500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dt" idx="31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ftr" idx="32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33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78F8B-225D-411C-9A11-8840894EEE7D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F181C-8455-4934-AA45-69D7B2DA1E23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dt" idx="4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ftr" idx="5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Num" idx="6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DFF93-275E-45C9-ABFB-95A58CD1F009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dt" idx="7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ftr" idx="8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9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F9E95-2DC3-4168-9109-DA67C6A49E35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dt" idx="10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ftr" idx="11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Num" idx="12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C2200-45B2-4D7C-86BC-0FF2E6BEA4A0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dt" idx="13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ftr" idx="14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15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B6877-53D3-41F3-AD58-442F0E940EF1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dt" idx="16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ftr" idx="17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sldNum" idx="18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F70F3-9444-49D2-B01E-6DCA3FE2C8C2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図 1" descr="セミナー縦_bg.jpg"/>
          <p:cNvPicPr/>
          <p:nvPr/>
        </p:nvPicPr>
        <p:blipFill>
          <a:blip r:embed="rId2"/>
          <a:stretch/>
        </p:blipFill>
        <p:spPr>
          <a:xfrm>
            <a:off x="0" y="0"/>
            <a:ext cx="10290240" cy="1829448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19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ftr" idx="20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sldNum" idx="21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B4BFE-8D0C-4AEF-BB3B-C3CB82C54129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body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dt" idx="22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3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4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1925E-D0B4-4078-B4F2-6FB125F36F0B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85.xml"/><Relationship Id="rId8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9"/>
          <p:cNvSpPr/>
          <p:nvPr/>
        </p:nvSpPr>
        <p:spPr>
          <a:xfrm>
            <a:off x="-6448320" y="13900320"/>
            <a:ext cx="4824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テキスト ボックス 1"/>
          <p:cNvSpPr/>
          <p:nvPr/>
        </p:nvSpPr>
        <p:spPr>
          <a:xfrm>
            <a:off x="6927840" y="1042992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正方形/長方形 2"/>
          <p:cNvSpPr/>
          <p:nvPr/>
        </p:nvSpPr>
        <p:spPr>
          <a:xfrm>
            <a:off x="0" y="16708320"/>
            <a:ext cx="10290240" cy="158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テキスト ボックス 13"/>
          <p:cNvSpPr/>
          <p:nvPr/>
        </p:nvSpPr>
        <p:spPr>
          <a:xfrm>
            <a:off x="1387440" y="11430000"/>
            <a:ext cx="7574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ＭＳ Ｐゴシック"/>
              </a:rPr>
              <a:t>○○○○●○○○○●○○○○●○○○○●○○○○●○○○○●○○○○●○○○○●○○○○●○○○○●○○○○●○○○○●○○○○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テキスト ボックス 15"/>
          <p:cNvSpPr/>
          <p:nvPr/>
        </p:nvSpPr>
        <p:spPr>
          <a:xfrm>
            <a:off x="592200" y="17156160"/>
            <a:ext cx="910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○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テキスト ボックス 10"/>
          <p:cNvSpPr/>
          <p:nvPr/>
        </p:nvSpPr>
        <p:spPr>
          <a:xfrm>
            <a:off x="2984400" y="1445256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○○</a:t>
            </a: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/○○</a:t>
            </a:r>
            <a:r>
              <a:rPr b="0" lang="ja-JP" sz="3600" spc="-1" strike="noStrike">
                <a:solidFill>
                  <a:srgbClr val="404040"/>
                </a:solidFill>
                <a:latin typeface="ＭＳ Ｐゴシック"/>
              </a:rPr>
              <a:t>　</a:t>
            </a: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○○</a:t>
            </a:r>
            <a:r>
              <a:rPr b="0" lang="ja-JP" sz="3600" spc="-1" strike="noStrike">
                <a:solidFill>
                  <a:srgbClr val="404040"/>
                </a:solidFill>
                <a:latin typeface="ＭＳ Ｐゴシック"/>
              </a:rPr>
              <a:t>：</a:t>
            </a: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○○ 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テキスト ボックス 20"/>
          <p:cNvSpPr/>
          <p:nvPr/>
        </p:nvSpPr>
        <p:spPr>
          <a:xfrm>
            <a:off x="2984400" y="1368432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○○○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図 25" descr="セミナー縦_パーツ2.png"/>
          <p:cNvPicPr/>
          <p:nvPr/>
        </p:nvPicPr>
        <p:blipFill>
          <a:blip r:embed="rId1"/>
          <a:stretch/>
        </p:blipFill>
        <p:spPr>
          <a:xfrm>
            <a:off x="1087560" y="2998800"/>
            <a:ext cx="8115120" cy="1527120"/>
          </a:xfrm>
          <a:prstGeom prst="rect">
            <a:avLst/>
          </a:prstGeom>
          <a:ln w="0">
            <a:noFill/>
          </a:ln>
        </p:spPr>
      </p:pic>
      <p:pic>
        <p:nvPicPr>
          <p:cNvPr id="483" name="図 26" descr="セミナー縦_パーツ3.png"/>
          <p:cNvPicPr/>
          <p:nvPr/>
        </p:nvPicPr>
        <p:blipFill>
          <a:blip r:embed="rId2"/>
          <a:stretch/>
        </p:blipFill>
        <p:spPr>
          <a:xfrm>
            <a:off x="1414440" y="13684320"/>
            <a:ext cx="1428840" cy="761760"/>
          </a:xfrm>
          <a:prstGeom prst="rect">
            <a:avLst/>
          </a:prstGeom>
          <a:ln w="0">
            <a:noFill/>
          </a:ln>
        </p:spPr>
      </p:pic>
      <p:pic>
        <p:nvPicPr>
          <p:cNvPr id="484" name="図 27" descr="セミナー縦_パーツ4.png"/>
          <p:cNvPicPr/>
          <p:nvPr/>
        </p:nvPicPr>
        <p:blipFill>
          <a:blip r:embed="rId3"/>
          <a:stretch/>
        </p:blipFill>
        <p:spPr>
          <a:xfrm>
            <a:off x="1414440" y="14476320"/>
            <a:ext cx="1428840" cy="762120"/>
          </a:xfrm>
          <a:prstGeom prst="rect">
            <a:avLst/>
          </a:prstGeom>
          <a:ln w="0">
            <a:noFill/>
          </a:ln>
        </p:spPr>
      </p:pic>
      <p:pic>
        <p:nvPicPr>
          <p:cNvPr id="485" name="図 28" descr="セミナー縦_パーツ5.png"/>
          <p:cNvPicPr/>
          <p:nvPr/>
        </p:nvPicPr>
        <p:blipFill>
          <a:blip r:embed="rId4"/>
          <a:stretch/>
        </p:blipFill>
        <p:spPr>
          <a:xfrm>
            <a:off x="1414440" y="15195600"/>
            <a:ext cx="1428840" cy="762120"/>
          </a:xfrm>
          <a:prstGeom prst="rect">
            <a:avLst/>
          </a:prstGeom>
          <a:ln w="0">
            <a:noFill/>
          </a:ln>
        </p:spPr>
      </p:pic>
      <p:sp>
        <p:nvSpPr>
          <p:cNvPr id="486" name="正方形/長方形 18"/>
          <p:cNvSpPr/>
          <p:nvPr/>
        </p:nvSpPr>
        <p:spPr>
          <a:xfrm>
            <a:off x="1639080" y="10745640"/>
            <a:ext cx="33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正方形/長方形 29"/>
          <p:cNvSpPr/>
          <p:nvPr/>
        </p:nvSpPr>
        <p:spPr>
          <a:xfrm>
            <a:off x="2066760" y="3187800"/>
            <a:ext cx="615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ffffff"/>
                </a:solidFill>
                <a:latin typeface="ＭＳ 明朝"/>
                <a:ea typeface="ＭＳ 明朝"/>
              </a:rPr>
              <a:t>○○○○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テキスト ボックス 30"/>
          <p:cNvSpPr/>
          <p:nvPr/>
        </p:nvSpPr>
        <p:spPr>
          <a:xfrm>
            <a:off x="2984400" y="1524168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○○○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図 22" descr="インフォメーション_title.png"/>
          <p:cNvPicPr/>
          <p:nvPr/>
        </p:nvPicPr>
        <p:blipFill>
          <a:blip r:embed="rId5"/>
          <a:stretch/>
        </p:blipFill>
        <p:spPr>
          <a:xfrm>
            <a:off x="2265480" y="351000"/>
            <a:ext cx="5903640" cy="1714320"/>
          </a:xfrm>
          <a:prstGeom prst="rect">
            <a:avLst/>
          </a:prstGeom>
          <a:ln w="0">
            <a:noFill/>
          </a:ln>
        </p:spPr>
      </p:pic>
      <p:pic>
        <p:nvPicPr>
          <p:cNvPr id="490" name="図 23" descr="あたり用写真.jpg"/>
          <p:cNvPicPr/>
          <p:nvPr/>
        </p:nvPicPr>
        <p:blipFill>
          <a:blip r:embed="rId6"/>
          <a:stretch/>
        </p:blipFill>
        <p:spPr>
          <a:xfrm>
            <a:off x="1450800" y="4797360"/>
            <a:ext cx="7388280" cy="5595840"/>
          </a:xfrm>
          <a:prstGeom prst="rect">
            <a:avLst/>
          </a:prstGeom>
          <a:ln w="0">
            <a:noFill/>
          </a:ln>
        </p:spPr>
      </p:pic>
      <p:sp>
        <p:nvSpPr>
          <p:cNvPr id="491" name="テキスト ボックス 24"/>
          <p:cNvSpPr/>
          <p:nvPr/>
        </p:nvSpPr>
        <p:spPr>
          <a:xfrm>
            <a:off x="1400040" y="1375560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○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テキスト ボックス 25"/>
          <p:cNvSpPr/>
          <p:nvPr/>
        </p:nvSpPr>
        <p:spPr>
          <a:xfrm>
            <a:off x="1400040" y="1452420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○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テキスト ボックス 26"/>
          <p:cNvSpPr/>
          <p:nvPr/>
        </p:nvSpPr>
        <p:spPr>
          <a:xfrm>
            <a:off x="1400040" y="1526868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○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23:51:05Z</dcterms:created>
  <dc:creator/>
  <dc:description/>
  <dc:language>en-US</dc:language>
  <cp:lastModifiedBy>signage1</cp:lastModifiedBy>
  <dcterms:modified xsi:type="dcterms:W3CDTF">2016-12-27T06:43:16Z</dcterms:modified>
  <cp:revision>88</cp:revision>
  <dc:subject/>
  <dc:title>スライド 1</dc:title>
</cp:coreProperties>
</file>