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10288588" cy="1829593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72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34"/>
          </p:nvPr>
        </p:nvSpPr>
        <p:spPr>
          <a:xfrm>
            <a:off x="3892680" y="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2387160" y="744120"/>
            <a:ext cx="209556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686880" y="4717800"/>
            <a:ext cx="54961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5"/>
          </p:nvPr>
        </p:nvSpPr>
        <p:spPr>
          <a:xfrm>
            <a:off x="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36"/>
          </p:nvPr>
        </p:nvSpPr>
        <p:spPr>
          <a:xfrm>
            <a:off x="389268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E53A-3D0C-4E4C-94F1-7C66D2E1BA6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387520" y="744480"/>
            <a:ext cx="2095560" cy="3724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6880" y="4717800"/>
            <a:ext cx="5496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スライド番号プレースホルダ 3"/>
          <p:cNvSpPr/>
          <p:nvPr/>
        </p:nvSpPr>
        <p:spPr>
          <a:xfrm>
            <a:off x="389268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0B39-7CEE-4170-8982-2986CEEECC1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92582-73C3-4DCF-BF45-A3E9B844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41A2C-77A2-452C-A74C-8049FE9D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9D498-DB97-4DE8-8713-2544E5E9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8620A-1BEE-4B6D-A469-DF2607FE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E446E-AF95-4DFA-A3A1-402048BA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4FCB3-D5FB-414D-AD2A-32EC7A61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F2335-BB73-4FB2-A8AC-5F44ED13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ECC93-4DBA-4CFF-8627-EC303D14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D4C6F-44F7-4F0A-A429-3C632F03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EAF8D-690F-4971-A2CF-4A4F85F4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0B876-5AF7-44EF-89EA-EAC82C0D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57316-92D4-4FB2-AE76-AACE3AD6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D9F5A-BFAB-45EC-A0D1-687CEFFC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4A565-54C5-4F85-85B1-7109F137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B3BE2-7F67-4DAD-8374-E54B1782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837E9-F6E3-4897-A1BB-4D9EE4E0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53547-DF98-4312-9A82-CBC85863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CAFA0-F8B5-4775-B5DF-3C96D4CB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A70F2-655D-4E40-BC32-D8943E1D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51150-68B7-49EE-BEE1-F9D998B0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16789-DCF3-4613-8D8B-C96ED225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B74D8-5813-481F-8095-C828B4E3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A613E-061D-4605-A889-FE65E44B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5C466-3513-42C3-AAE3-DBB100D5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C939D-B76F-40D4-947B-0CBD732C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FF616-F553-4032-9996-6818E47A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4B2E9-E5E8-48EF-A095-065A2157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FB67B-1069-4E83-870A-19C1978C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893EF-DCDA-4557-92B6-D947B864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0FD54-EBBE-46FB-A294-3FB79A48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C50-4880-49BB-B82B-572004BD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988A5-101F-4598-9B38-A928A0CB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11B89-2C4D-4C3A-BA52-C3757972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163D8-902C-4591-847D-97949B6D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0DA47-938C-4D77-9BD1-8930DE1F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9166F-3D06-4546-A64A-BDF873F1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DB881-FAD9-4580-B8FA-61AE83C5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995B5-8330-490C-94C5-4070D6D8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89A1B-3FC3-4D07-92B7-945C9609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90593-386A-4338-86CB-088F2EBA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F4FAE-75A4-4184-A5CA-074CA6EA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49E-5684-4698-9132-B793B30B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79F23-80A4-4EAD-A413-260B2B32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C8B64-8531-4D39-80DB-5F89D1B6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03ED0-3E6D-467D-AB73-2986522A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79B6C-44F1-44E2-B643-8A57C510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5B02E-DAAF-4480-8DC3-E031C7C9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385-40A6-487B-A56D-A4743BC6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991-5D49-4FF8-9266-8278FD20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332-F99B-44B2-AC33-29C6A94B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965-59AD-4ACE-BF6F-6525DE33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FF21-A6F2-4A55-9FD2-A1D8E8DA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8F8-715B-44CC-9F1D-5B16CD47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1BB-59F7-4EAA-9E68-F3113BDF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394-BAD7-428A-942F-4AE3E5A5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849-C096-4CB7-88A2-485E1C7B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EFA-AAC6-40FE-A0B7-D1160E35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BC05-3280-4990-B6CC-A0660F8A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7B13-C885-4CC6-9932-FB5D529C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FFDC-079F-4968-8D48-C3AFD7BF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C8A7-C06B-4C8A-A983-0C3882AE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10B8-C216-46E4-A84B-954C4B6D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772D-723A-4943-A944-E4B1296D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04E2-D4E4-466C-B2FA-4FF7421F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0E5B-9EBB-4BB1-B4E4-76C64E64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5036-A5A9-4E96-BC93-2359D096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5E29-DF01-4C3B-A366-03CA1539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1DD9-3E46-4D3F-96FB-BAE56BEC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B82D-CAF0-4EA9-95E1-11AA0319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EDAE1-E171-4563-B0EF-86756142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9CD59-65A1-47A7-BFD5-9ABBEE40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B3B90-983C-4168-8ACE-7CF1E01D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AE9E-5A06-4790-8E9B-D8AD9E6E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F0B1E-F1D0-4F5A-9363-7F23223B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3A5A2-77F7-4485-AE0B-44B95B36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43B36-416B-4235-AE06-121ADFCF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C666F-7B3D-4D76-915B-64365A81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23605-F6B4-45EF-98F6-0222D40A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75476-3BE2-4F10-9EE6-5AA8934E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1453-F300-42BD-AAA5-AD27BFF4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CB6B-5F5A-4064-833B-A3B74264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DF24-A0D2-4D92-9CCF-49575486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9CB43-F3B2-4BC9-BDD7-4B7B0F72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A5B14-BE0F-492B-BC3A-1C5A96A2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45469-8F87-421C-9837-C2D325A8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D6863-C879-4D7B-91FB-5A7316C7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B930F-E14D-4593-B756-F7FEF6A6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2AD94-3856-4C66-AA0F-4094A6A7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1B365-B08E-4EFB-AE3A-331EDD13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224CE-DC75-4AFD-BA33-8B7FA105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75110-44B8-4F96-925F-292791A9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DFA18-6C59-4C68-A67A-54750EA3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A4FBC-9BCC-46E7-AC59-4B77F1C7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148DC-D997-48FC-B9BE-7A612FD3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2B606-4A31-49EB-841A-8E8912FE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7C16B-0ED2-45F0-B4EE-76023232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A1483-4D40-42BC-9FFA-233A3B4C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97747-295D-4446-A829-F18883A5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44698-35D2-45B6-8041-70D78330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3CDB4-4654-46A6-9D89-9C6D5C46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475B3-7D75-444A-8C54-66AFB90F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FD53E-E306-4A0F-9D78-31E99739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29B64-999E-4D3C-89F4-4B031C63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32C30-97FF-4C80-BD5A-68EDC049F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02CF2-F3E0-4C6E-BF1A-08A41E80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2F0AD-4ED6-424E-9460-560A2E52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AB1D8-EDCA-4283-B40D-B59D4C74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EEDCD-57C4-4E32-BC46-B8772492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D2DFC-B8DB-46F6-9805-A9C55923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5D660-FDE4-4480-9713-3A841FB6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4AAC7-5B35-4DBF-B71F-712655E7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B237B-1076-4922-A96A-51045543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3F77D-9F81-48E4-B4E8-3511A856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8327F-66A8-43E4-A77B-DC85C96D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D8043-C536-4324-90D9-EC3BC575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DD926-FC42-4EDF-A023-74AE0A3A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FBEA7-AFC2-4E17-8C01-B59BBAA6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6C882-0BC4-4B90-B3C3-73B4399A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D5F57-55F9-4FAB-8BAE-C170A477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3EC4A-8922-4CD6-BEFB-17AC9A47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1C58E-2D21-4EFC-A39D-ED8FF57B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B70D4-DA12-4B52-BD3C-9F927283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FB950-8582-4BBC-AE13-ACAE1715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8DC20-63D4-46CB-ABEA-75B9A9E7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6C550-98B7-4EDD-8B90-F4A52BE4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DFD4E-8695-4593-9C3D-44233A43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26CE2-7A74-4886-8079-F1F897D3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17371-7A81-4DE3-89DE-D0AB32E3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D30B1-1ADB-4C61-96CC-3E7BF784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72A8F-5886-4A77-B724-9F150949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666EA-4630-487C-AB81-DAEED312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63068-8A40-4E8E-BA89-4E48C8E4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dt" idx="25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26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27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717C-23E2-4A42-A53A-3F3D881B614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dt" idx="28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9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30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D95D-B910-4F53-AFB2-0B26D70FB6B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dt" idx="3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ftr" idx="3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3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3C15-6F2F-42C3-9DA0-05F2C7B7D62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9D22-AEAB-456E-84D2-EF2BEC14B0B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ABBD-A7E0-4B29-B51D-3CC88526282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8564-F48B-4456-94BE-1A73E92DA1B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8253-2AA2-47CC-9437-6B1550B6A66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A8D2-1AA9-4D8A-89B9-A26FF1D059A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16C5-4BC0-4563-B200-4BC63B00329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図 1" descr="セミナー縦_bg.jpg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19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0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1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73CE-600B-485D-9491-9CB0EF9A25BD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22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3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4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376B-79D1-41B7-86B3-002FB280787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テキスト ボックス 1"/>
          <p:cNvSpPr/>
          <p:nvPr/>
        </p:nvSpPr>
        <p:spPr>
          <a:xfrm>
            <a:off x="6927840" y="10429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テキスト ボックス 13"/>
          <p:cNvSpPr/>
          <p:nvPr/>
        </p:nvSpPr>
        <p:spPr>
          <a:xfrm>
            <a:off x="1387440" y="11430000"/>
            <a:ext cx="757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テキスト ボックス 15"/>
          <p:cNvSpPr/>
          <p:nvPr/>
        </p:nvSpPr>
        <p:spPr>
          <a:xfrm>
            <a:off x="592200" y="171561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10"/>
          <p:cNvSpPr/>
          <p:nvPr/>
        </p:nvSpPr>
        <p:spPr>
          <a:xfrm>
            <a:off x="2984400" y="144525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/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：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 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20"/>
          <p:cNvSpPr/>
          <p:nvPr/>
        </p:nvSpPr>
        <p:spPr>
          <a:xfrm>
            <a:off x="2984400" y="13684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図 25" descr="セミナー縦_パーツ2.png"/>
          <p:cNvPicPr/>
          <p:nvPr/>
        </p:nvPicPr>
        <p:blipFill>
          <a:blip r:embed="rId1"/>
          <a:stretch/>
        </p:blipFill>
        <p:spPr>
          <a:xfrm>
            <a:off x="1087560" y="2998800"/>
            <a:ext cx="8115120" cy="1527120"/>
          </a:xfrm>
          <a:prstGeom prst="rect">
            <a:avLst/>
          </a:prstGeom>
          <a:ln w="0">
            <a:noFill/>
          </a:ln>
        </p:spPr>
      </p:pic>
      <p:pic>
        <p:nvPicPr>
          <p:cNvPr id="483" name="図 26" descr="セミナー縦_パーツ3.png"/>
          <p:cNvPicPr/>
          <p:nvPr/>
        </p:nvPicPr>
        <p:blipFill>
          <a:blip r:embed="rId2"/>
          <a:stretch/>
        </p:blipFill>
        <p:spPr>
          <a:xfrm>
            <a:off x="1414440" y="13684320"/>
            <a:ext cx="1428840" cy="761760"/>
          </a:xfrm>
          <a:prstGeom prst="rect">
            <a:avLst/>
          </a:prstGeom>
          <a:ln w="0">
            <a:noFill/>
          </a:ln>
        </p:spPr>
      </p:pic>
      <p:pic>
        <p:nvPicPr>
          <p:cNvPr id="484" name="図 27" descr="セミナー縦_パーツ4.png"/>
          <p:cNvPicPr/>
          <p:nvPr/>
        </p:nvPicPr>
        <p:blipFill>
          <a:blip r:embed="rId3"/>
          <a:stretch/>
        </p:blipFill>
        <p:spPr>
          <a:xfrm>
            <a:off x="1414440" y="14476320"/>
            <a:ext cx="1428840" cy="762120"/>
          </a:xfrm>
          <a:prstGeom prst="rect">
            <a:avLst/>
          </a:prstGeom>
          <a:ln w="0">
            <a:noFill/>
          </a:ln>
        </p:spPr>
      </p:pic>
      <p:pic>
        <p:nvPicPr>
          <p:cNvPr id="485" name="図 28" descr="セミナー縦_パーツ5.png"/>
          <p:cNvPicPr/>
          <p:nvPr/>
        </p:nvPicPr>
        <p:blipFill>
          <a:blip r:embed="rId4"/>
          <a:stretch/>
        </p:blipFill>
        <p:spPr>
          <a:xfrm>
            <a:off x="1414440" y="1519560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正方形/長方形 18"/>
          <p:cNvSpPr/>
          <p:nvPr/>
        </p:nvSpPr>
        <p:spPr>
          <a:xfrm>
            <a:off x="1639080" y="1074564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正方形/長方形 29"/>
          <p:cNvSpPr/>
          <p:nvPr/>
        </p:nvSpPr>
        <p:spPr>
          <a:xfrm>
            <a:off x="2066760" y="31878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○○○○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30"/>
          <p:cNvSpPr/>
          <p:nvPr/>
        </p:nvSpPr>
        <p:spPr>
          <a:xfrm>
            <a:off x="2984400" y="15241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図 22" descr="インフォメーション_title.png"/>
          <p:cNvPicPr/>
          <p:nvPr/>
        </p:nvPicPr>
        <p:blipFill>
          <a:blip r:embed="rId5"/>
          <a:stretch/>
        </p:blipFill>
        <p:spPr>
          <a:xfrm>
            <a:off x="2265480" y="351000"/>
            <a:ext cx="5903640" cy="1714320"/>
          </a:xfrm>
          <a:prstGeom prst="rect">
            <a:avLst/>
          </a:prstGeom>
          <a:ln w="0">
            <a:noFill/>
          </a:ln>
        </p:spPr>
      </p:pic>
      <p:pic>
        <p:nvPicPr>
          <p:cNvPr id="490" name="図 23" descr="あたり用写真.jpg"/>
          <p:cNvPicPr/>
          <p:nvPr/>
        </p:nvPicPr>
        <p:blipFill>
          <a:blip r:embed="rId6"/>
          <a:stretch/>
        </p:blipFill>
        <p:spPr>
          <a:xfrm>
            <a:off x="1450800" y="4797360"/>
            <a:ext cx="7388280" cy="5595840"/>
          </a:xfrm>
          <a:prstGeom prst="rect">
            <a:avLst/>
          </a:prstGeom>
          <a:ln w="0">
            <a:noFill/>
          </a:ln>
        </p:spPr>
      </p:pic>
      <p:sp>
        <p:nvSpPr>
          <p:cNvPr id="491" name="テキスト ボックス 24"/>
          <p:cNvSpPr/>
          <p:nvPr/>
        </p:nvSpPr>
        <p:spPr>
          <a:xfrm>
            <a:off x="1400040" y="137556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25"/>
          <p:cNvSpPr/>
          <p:nvPr/>
        </p:nvSpPr>
        <p:spPr>
          <a:xfrm>
            <a:off x="1400040" y="145242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26"/>
          <p:cNvSpPr/>
          <p:nvPr/>
        </p:nvSpPr>
        <p:spPr>
          <a:xfrm>
            <a:off x="1400040" y="152686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3:16Z</dcterms:modified>
  <cp:revision>88</cp:revision>
  <dc:subject/>
  <dc:title>スライド 1</dc:title>
</cp:coreProperties>
</file>