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ABE-E828-4603-9524-95707BDC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0E2-6A48-4349-BFBA-7A062290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05C-1F25-4602-B917-1BFB6F7F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2EC-5BEE-4E86-9A31-1930FB48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1039-AB2C-49EC-8DB2-0945E510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C296-0A34-492C-A789-1F0DCB55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F38-7333-465F-8202-DE33E18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2012-C1E2-4167-9F91-1768B350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133E-D9AD-4A4A-8C3C-E04F599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0F54-259F-428B-83F4-0E063E02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7E2F-C4BF-43BB-8F92-D8246BC6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E14-8A28-48D8-BEC2-33932A0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2DCC-F17D-4CA9-BE89-D3844C22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CB90-E07F-4706-97E2-25C16DE1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1CEF-4151-459E-B159-6F1D6E14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A0B0-6032-4AFE-B02E-6FB4E20C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E124-33F7-463B-948F-20B1743F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96EB2-E881-4494-BB7E-8C39195E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43EE-7461-4965-81A2-F7D43E1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A446-7AE0-439E-9B1E-28BA23CC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C030-6FD2-4A14-B797-60B0C327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1985-D6F9-4DF7-BDD8-425CCD87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E5F-FF6B-401A-B946-CD685F03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8BEA-32B1-48F0-853D-6CB17244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C03B-037D-452C-9A04-37AB0C7E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3872-7804-4C2F-B26D-DFD9278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BF2D-1646-4061-9D9A-5564FEB6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EFD71-D900-43FB-B6CD-94EC87F9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7272-CE53-4700-84E6-8549BE33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658A-207C-442C-AE38-9A1D7290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F81-50ED-425B-91AB-0CB92796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1A8-92BC-41EA-A7B8-1A0E5836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7F9-2B61-4D34-9A07-B6BEF10E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FEF-1CBA-4638-9D26-A361E22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16C-89A4-473B-97D0-610E6DB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257-F331-4041-AF3D-610E3A3A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6828-2A48-436B-9D06-955F287F1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685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400480"/>
            <a:ext cx="164685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40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51400" y="9534240"/>
            <a:ext cx="57945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311264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ED96-3A0F-40DF-AFE2-E162FD07C0E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図 7" descr="イベント情報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図 8" descr="セミナー横_bg.jpg"/>
          <p:cNvPicPr/>
          <p:nvPr/>
        </p:nvPicPr>
        <p:blipFill>
          <a:blip r:embed="rId2"/>
          <a:stretch/>
        </p:blipFill>
        <p:spPr>
          <a:xfrm>
            <a:off x="-115920" y="-68400"/>
            <a:ext cx="18529200" cy="1042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91FC-7F1E-4AD1-8F7B-97B12951F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0"/>
          <p:cNvSpPr/>
          <p:nvPr/>
        </p:nvSpPr>
        <p:spPr>
          <a:xfrm>
            <a:off x="4595760" y="929340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図 31" descr="セミナー横_パーツ1.png"/>
          <p:cNvPicPr/>
          <p:nvPr/>
        </p:nvPicPr>
        <p:blipFill>
          <a:blip r:embed="rId1"/>
          <a:stretch/>
        </p:blipFill>
        <p:spPr>
          <a:xfrm>
            <a:off x="5719680" y="214200"/>
            <a:ext cx="685800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テキスト ボックス 36"/>
          <p:cNvSpPr/>
          <p:nvPr/>
        </p:nvSpPr>
        <p:spPr>
          <a:xfrm>
            <a:off x="9629640" y="38988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37"/>
          <p:cNvSpPr/>
          <p:nvPr/>
        </p:nvSpPr>
        <p:spPr>
          <a:xfrm>
            <a:off x="11226960" y="6921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38"/>
          <p:cNvSpPr/>
          <p:nvPr/>
        </p:nvSpPr>
        <p:spPr>
          <a:xfrm>
            <a:off x="11226960" y="6153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図 25" descr="セミナー縦_パーツ2.png"/>
          <p:cNvPicPr/>
          <p:nvPr/>
        </p:nvPicPr>
        <p:blipFill>
          <a:blip r:embed="rId2"/>
          <a:stretch/>
        </p:blipFill>
        <p:spPr>
          <a:xfrm>
            <a:off x="385920" y="26082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138" name="図 26" descr="セミナー縦_パーツ3.png"/>
          <p:cNvPicPr/>
          <p:nvPr/>
        </p:nvPicPr>
        <p:blipFill>
          <a:blip r:embed="rId3"/>
          <a:stretch/>
        </p:blipFill>
        <p:spPr>
          <a:xfrm>
            <a:off x="9656640" y="61531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図 27" descr="セミナー縦_パーツ4.png"/>
          <p:cNvPicPr/>
          <p:nvPr/>
        </p:nvPicPr>
        <p:blipFill>
          <a:blip r:embed="rId4"/>
          <a:stretch/>
        </p:blipFill>
        <p:spPr>
          <a:xfrm>
            <a:off x="9656640" y="694548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図 28" descr="セミナー縦_パーツ5.png"/>
          <p:cNvPicPr/>
          <p:nvPr/>
        </p:nvPicPr>
        <p:blipFill>
          <a:blip r:embed="rId5"/>
          <a:stretch/>
        </p:blipFill>
        <p:spPr>
          <a:xfrm>
            <a:off x="9656640" y="76644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正方形/長方形 44"/>
          <p:cNvSpPr/>
          <p:nvPr/>
        </p:nvSpPr>
        <p:spPr>
          <a:xfrm>
            <a:off x="9881280" y="321480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45"/>
          <p:cNvSpPr/>
          <p:nvPr/>
        </p:nvSpPr>
        <p:spPr>
          <a:xfrm>
            <a:off x="11226960" y="7710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正方形/長方形 29"/>
          <p:cNvSpPr/>
          <p:nvPr/>
        </p:nvSpPr>
        <p:spPr>
          <a:xfrm>
            <a:off x="1365120" y="280512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19" descr="あたり用写真.jpg"/>
          <p:cNvPicPr/>
          <p:nvPr/>
        </p:nvPicPr>
        <p:blipFill>
          <a:blip r:embed="rId6"/>
          <a:stretch/>
        </p:blipFill>
        <p:spPr>
          <a:xfrm>
            <a:off x="682560" y="4327560"/>
            <a:ext cx="7504200" cy="4187880"/>
          </a:xfrm>
          <a:prstGeom prst="rect">
            <a:avLst/>
          </a:prstGeom>
          <a:ln w="0">
            <a:noFill/>
          </a:ln>
        </p:spPr>
      </p:pic>
      <p:sp>
        <p:nvSpPr>
          <p:cNvPr id="145" name="テキスト ボックス 20"/>
          <p:cNvSpPr/>
          <p:nvPr/>
        </p:nvSpPr>
        <p:spPr>
          <a:xfrm>
            <a:off x="9921960" y="6211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21"/>
          <p:cNvSpPr/>
          <p:nvPr/>
        </p:nvSpPr>
        <p:spPr>
          <a:xfrm>
            <a:off x="9921960" y="701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2"/>
          <p:cNvSpPr/>
          <p:nvPr/>
        </p:nvSpPr>
        <p:spPr>
          <a:xfrm>
            <a:off x="9921960" y="773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51Z</dcterms:modified>
  <cp:revision>60</cp:revision>
  <dc:subject/>
  <dc:title>スライド 1</dc:title>
</cp:coreProperties>
</file>