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68724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dt" idx="34"/>
          </p:nvPr>
        </p:nvSpPr>
        <p:spPr>
          <a:xfrm>
            <a:off x="3892680" y="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sldImg"/>
          </p:nvPr>
        </p:nvSpPr>
        <p:spPr>
          <a:xfrm>
            <a:off x="2387160" y="744120"/>
            <a:ext cx="209556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ftr" idx="35"/>
          </p:nvPr>
        </p:nvSpPr>
        <p:spPr>
          <a:xfrm>
            <a:off x="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 type="sldNum" idx="36"/>
          </p:nvPr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F7AB-25BD-4E81-B82D-5CB490809380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387520" y="744480"/>
            <a:ext cx="2095560" cy="37242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6880" y="4717800"/>
            <a:ext cx="549612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スライド番号プレースホルダ 3"/>
          <p:cNvSpPr/>
          <p:nvPr/>
        </p:nvSpPr>
        <p:spPr>
          <a:xfrm>
            <a:off x="3892680" y="9433080"/>
            <a:ext cx="2976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FA8A-D58E-4839-8EE7-55D3EAD2C86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8AB87-74C7-4304-883D-30F4B6CC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97582-4F0D-449A-AC19-A623EE9B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CFF6CB-DDCC-4395-930A-8CCDEFAE6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121111-04EB-451D-BFC6-2FB68085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E1CBC4-2A44-4CB6-82C9-2662A881A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828D8-EBEF-42D8-A0C5-4754874B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F2670-2339-4289-9C24-27B05D513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E5170-058C-4545-8937-D64A8233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25873-9BC1-4405-8968-EEAAA15B8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512D23-17C9-4928-B085-E27981404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D86548-D87A-44A5-8B2F-2F41BD94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5077E-04EF-498C-B0B9-06B0BCDF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63459-B4AC-4DC5-863D-F9FA10E43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9F385-F699-4300-8872-3567B9BC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4A7E0-4A25-4010-AF4C-BF42767B7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9308C4-3FD5-4AC7-BBB5-5E942807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7B879-A30F-4B5B-B422-0D8CFAED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6D4AC-7657-4204-AB86-C0E1FB05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F9D5FF-E07F-466E-B16D-40DAF5629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496E33-0EC2-432F-AB25-142E800C7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AAA759-1B65-40C3-82FA-64300D4C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3FF88-F220-44CF-841E-32E6AC49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CF6A7-DE7C-4A83-BAAD-6347EFC6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307F16-EFF2-408D-85BF-9FAF8440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CF11FF-D5F8-4392-AB71-F8BFB55F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70868-5C27-4262-AA20-2F8A6D64E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767E0-FD73-4EE8-9EDB-91067DC8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33363-14A1-474A-B318-79B21C2B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52E53-BA68-4F67-9302-24D5739E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6018C-BF63-401F-BA6B-8F91CE55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1242-65B9-4515-955A-4301924F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51C15-789A-4247-AF25-3BD56CBF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7E776-02F0-4AF2-A4FA-5C5DB1EA8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ECAB0-8AC1-41FB-BCFD-9DBA4B58B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D5CA4-D0FC-4909-A614-0DAB144E5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41CCEA-6ABF-4285-8E61-7F64C924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C835E7-E3B8-4E9D-BF09-D2E298A7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F709ED-AC52-458C-AB51-0A4A94C4A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9A55EE-E51F-4579-8383-C5C04206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DDB280-5ADB-486C-835A-701FEE1B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F27D1-E6A1-4C7E-BFA8-4CCC6517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43F-C03F-4D5D-B3F7-1BDEA9149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6FEC25-155E-4D23-9083-1C7666A29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C5794A-F964-4B67-A468-6956EE02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35F33B-B8DB-4C1F-AE3D-0C89D53E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EE61BB-E697-433B-BA6A-76A011C11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3ED1C-997B-419D-B339-1ED2A662F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4A28-6A09-4401-B71D-25A5A409B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917-315A-48AF-9818-4EB9501DD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4463-5874-4D5F-BEF6-72DE3811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6FA3-35C7-4730-A740-360D8132D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447C-75D4-44F6-B9A4-37ADD7C8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C206-F45C-4AE6-B4DA-AF089C6B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9150-E869-45DF-AA6B-F6CBB55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8C7C-3687-4BCB-A19C-6600D4E7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22F-16EC-4184-83A7-36167E82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075-9F46-463D-A55E-59ADFE269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8A57-A9CC-4AFC-AAD4-5D1C0221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7063B-329E-4D80-B80D-0EA57248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F94A5-C31A-4C7D-8226-1157E00BD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9A4D-4D96-45DE-9FC9-CE4B535E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5A67-4238-4664-9B52-0E1148B3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10FA6-901F-40F3-B65C-79C3A1F6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85B2-056E-4990-93F3-097818B6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E178-65CF-46BB-952D-794FA13A2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B13D-5B88-4AF0-BC89-8A67664A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7D9E-EC19-46EE-9287-AB29121B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497D-BE9D-47F1-A708-DEB406DFE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93A9-2798-477B-AEC9-320C8D14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1F97-06B9-402C-870F-3427B4A3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7E4598-C73B-4EF5-8CF7-DDE273FB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AC37-EB69-49B8-B0C2-2C577D80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36C1-B752-46ED-B699-F194A3BD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695ED-9A4B-45B8-87F6-35BAE665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F9643-FD6A-43D4-9046-2375BE31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C7065-C841-467A-9745-94E52DBD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D446B-58A9-421E-B783-98526AE1E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32DBD-067D-4874-95E6-EAE7E97A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AA5C34-8DAF-48FA-8C98-8AFB9833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CDF30-22E4-4ABA-A678-88E15BF5A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6EC4-7113-4F5C-8449-2242EE28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773A1-F1F1-4DF1-93F6-295E2AA9B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02AC7-900A-4B9E-8C14-B1F374F0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AD7E0-4F9A-40D0-A28B-458E3C450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645E4-7D26-4BE0-A2E5-B80DDADD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A2D99-DDB9-4EEA-B5CE-B907E9E6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31EFA8-3532-4E4C-A49B-2148B9A1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D878C-CE97-4DC9-AECA-1B754A2D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A46244-6C72-4E07-AFC0-DBD3E106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52472-5FEB-4C8B-97C4-13A315FD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14384F-D41E-45FF-A5C2-E677A6BE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2DDEB-5A2D-49EE-A5C6-657095FD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8E10A-C808-427C-BFD9-9BFD26F4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D56A87-23DC-4025-BDEE-22C7E6DE0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A9285-9A17-474D-9FC8-718B4167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D41BA7-6A65-4CB1-A80C-367E8D17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ED4D5-A54C-417F-93DC-B2A33B06B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C730-DEC1-4FDC-95F6-6B5AD58D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998FC-6228-466C-9051-D084F872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7D3E-674F-4FF9-A5CE-3849BD6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E4C0B-A086-44C1-ADB8-C4839E3B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34417-8584-453A-9458-86409F59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E02D7-F5DA-418A-9756-401DCCA8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E390-8E14-4B66-B729-512EA06B3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F5BCC-8B00-4D48-8A8C-6BD65DD5F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A9792-91AD-4E51-8724-54E05A06C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3BF899-C88C-419B-ABC9-254B773B8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D1A5D7-7859-466F-AF4B-1B379733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B23F8-CE89-4BB8-98A1-1CF6E9921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09497-B991-4F5E-A188-F34C901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477097-A8EC-4743-824A-F1A6FF803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3DC0D-0062-4F3E-99FD-27C133C7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7AE1C-1A76-4298-B278-E91A9DE9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9E28D-A2A9-414D-95C8-EED737BEF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E3D64-7EBF-4737-B872-AD2489C9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99B76-0ACE-476E-813B-8A6BBB89D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7715F-6D15-437D-8AC4-4A3DD6999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8EDCA-D20E-40E2-93A4-610EF91E4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26B7A-51AA-4FEC-8DCC-032905BF7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AF611-2F80-4C11-88A5-60DE2D7E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6AB53-5628-4C9E-92A1-281926C22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2070B-53BF-4CB4-84AB-3258C955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F3145-8169-4FA9-A930-A9147088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A7490-F6AA-43AD-9B10-6FBD137A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86618-2060-4DE2-BC2E-DD0636E1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1FF82-0B5C-4B7E-8C6E-2CFE8214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009E2-8706-413B-8F62-665D76D0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E100F-48D4-47E8-A956-21C81F55A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0A514-29AC-4D55-8140-40368FA8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CC8505-1C63-40E3-9C4C-7C6B14A0C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C9592-F862-47A6-A42C-B8C697D88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2BF893-CCDB-4A1B-9571-1AD735E1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2B2A1-C02C-43D9-86D9-58603C4565C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EBFF0-EA6A-452F-9B1F-B7DFAAD40B9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CC7E-F64B-4BBA-BCFF-401BED51562A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87C8-7A20-4543-8664-C375DEF84AE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B6F6-67F6-4205-896F-5289131911E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99E8-1CD5-4CA4-8CCC-1BE6334513F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92C4B-63EF-4FA5-871F-48075343D25C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95AEA-D844-4B2A-9B21-5D97506F0733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38B32-D020-486E-9593-7E10AC45629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セミナー縦_bg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AF00-7B9E-484B-ACE6-9AE4D9CDA8F7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0742-5AF4-4233-8BA0-B349D716E20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テキスト ボックス 13"/>
          <p:cNvSpPr/>
          <p:nvPr/>
        </p:nvSpPr>
        <p:spPr>
          <a:xfrm>
            <a:off x="1387440" y="114300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テキスト ボックス 15"/>
          <p:cNvSpPr/>
          <p:nvPr/>
        </p:nvSpPr>
        <p:spPr>
          <a:xfrm>
            <a:off x="592200" y="1715616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テキスト ボックス 10"/>
          <p:cNvSpPr/>
          <p:nvPr/>
        </p:nvSpPr>
        <p:spPr>
          <a:xfrm>
            <a:off x="2984400" y="144525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テキスト ボックス 20"/>
          <p:cNvSpPr/>
          <p:nvPr/>
        </p:nvSpPr>
        <p:spPr>
          <a:xfrm>
            <a:off x="2984400" y="136843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図 25" descr="セミナー縦_パーツ2.png"/>
          <p:cNvPicPr/>
          <p:nvPr/>
        </p:nvPicPr>
        <p:blipFill>
          <a:blip r:embed="rId1"/>
          <a:stretch/>
        </p:blipFill>
        <p:spPr>
          <a:xfrm>
            <a:off x="1087560" y="29988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483" name="図 26" descr="セミナー縦_パーツ3.png"/>
          <p:cNvPicPr/>
          <p:nvPr/>
        </p:nvPicPr>
        <p:blipFill>
          <a:blip r:embed="rId2"/>
          <a:stretch/>
        </p:blipFill>
        <p:spPr>
          <a:xfrm>
            <a:off x="1414440" y="1368432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図 27" descr="セミナー縦_パーツ4.png"/>
          <p:cNvPicPr/>
          <p:nvPr/>
        </p:nvPicPr>
        <p:blipFill>
          <a:blip r:embed="rId3"/>
          <a:stretch/>
        </p:blipFill>
        <p:spPr>
          <a:xfrm>
            <a:off x="1414440" y="144763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485" name="図 28" descr="セミナー縦_パーツ5.png"/>
          <p:cNvPicPr/>
          <p:nvPr/>
        </p:nvPicPr>
        <p:blipFill>
          <a:blip r:embed="rId4"/>
          <a:stretch/>
        </p:blipFill>
        <p:spPr>
          <a:xfrm>
            <a:off x="1414440" y="151956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486" name="正方形/長方形 18"/>
          <p:cNvSpPr/>
          <p:nvPr/>
        </p:nvSpPr>
        <p:spPr>
          <a:xfrm>
            <a:off x="1639080" y="1074564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正方形/長方形 29"/>
          <p:cNvSpPr/>
          <p:nvPr/>
        </p:nvSpPr>
        <p:spPr>
          <a:xfrm>
            <a:off x="2066760" y="318780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テキスト ボックス 30"/>
          <p:cNvSpPr/>
          <p:nvPr/>
        </p:nvSpPr>
        <p:spPr>
          <a:xfrm>
            <a:off x="2984400" y="152416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図 22" descr="インフォメーション_title.png"/>
          <p:cNvPicPr/>
          <p:nvPr/>
        </p:nvPicPr>
        <p:blipFill>
          <a:blip r:embed="rId5"/>
          <a:stretch/>
        </p:blipFill>
        <p:spPr>
          <a:xfrm>
            <a:off x="2265480" y="351000"/>
            <a:ext cx="5903640" cy="1714320"/>
          </a:xfrm>
          <a:prstGeom prst="rect">
            <a:avLst/>
          </a:prstGeom>
          <a:ln w="0">
            <a:noFill/>
          </a:ln>
        </p:spPr>
      </p:pic>
      <p:pic>
        <p:nvPicPr>
          <p:cNvPr id="490" name="図 23" descr="あたり用写真.jpg"/>
          <p:cNvPicPr/>
          <p:nvPr/>
        </p:nvPicPr>
        <p:blipFill>
          <a:blip r:embed="rId6"/>
          <a:stretch/>
        </p:blipFill>
        <p:spPr>
          <a:xfrm>
            <a:off x="1450800" y="4797360"/>
            <a:ext cx="7388280" cy="5595840"/>
          </a:xfrm>
          <a:prstGeom prst="rect">
            <a:avLst/>
          </a:prstGeom>
          <a:ln w="0">
            <a:noFill/>
          </a:ln>
        </p:spPr>
      </p:pic>
      <p:sp>
        <p:nvSpPr>
          <p:cNvPr id="491" name="テキスト ボックス 24"/>
          <p:cNvSpPr/>
          <p:nvPr/>
        </p:nvSpPr>
        <p:spPr>
          <a:xfrm>
            <a:off x="1400040" y="137556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テキスト ボックス 25"/>
          <p:cNvSpPr/>
          <p:nvPr/>
        </p:nvSpPr>
        <p:spPr>
          <a:xfrm>
            <a:off x="1400040" y="145242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テキスト ボックス 26"/>
          <p:cNvSpPr/>
          <p:nvPr/>
        </p:nvSpPr>
        <p:spPr>
          <a:xfrm>
            <a:off x="1400040" y="1526868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16Z</dcterms:modified>
  <cp:revision>88</cp:revision>
  <dc:subject/>
  <dc:title>スライド 1</dc:title>
</cp:coreProperties>
</file>