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</p:sldIdLst>
  <p:sldSz cx="10288588" cy="18295938"/>
  <p:notesSz cx="6872288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0" y="0"/>
            <a:ext cx="68724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76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dt" idx="34"/>
          </p:nvPr>
        </p:nvSpPr>
        <p:spPr>
          <a:xfrm>
            <a:off x="3892680" y="0"/>
            <a:ext cx="2976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sldImg"/>
          </p:nvPr>
        </p:nvSpPr>
        <p:spPr>
          <a:xfrm>
            <a:off x="2387160" y="744120"/>
            <a:ext cx="209556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body"/>
          </p:nvPr>
        </p:nvSpPr>
        <p:spPr>
          <a:xfrm>
            <a:off x="686880" y="4717800"/>
            <a:ext cx="549612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ftr" idx="35"/>
          </p:nvPr>
        </p:nvSpPr>
        <p:spPr>
          <a:xfrm>
            <a:off x="0" y="9433080"/>
            <a:ext cx="2976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 type="sldNum" idx="36"/>
          </p:nvPr>
        </p:nvSpPr>
        <p:spPr>
          <a:xfrm>
            <a:off x="3892680" y="9433080"/>
            <a:ext cx="2976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7D1C3-E77C-4692-BE4E-3801B00D182A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2387520" y="744480"/>
            <a:ext cx="2095560" cy="37242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6880" y="4717800"/>
            <a:ext cx="549612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スライド番号プレースホルダ 3"/>
          <p:cNvSpPr/>
          <p:nvPr/>
        </p:nvSpPr>
        <p:spPr>
          <a:xfrm>
            <a:off x="3892680" y="9433080"/>
            <a:ext cx="2976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E1D2F-D0BA-419B-AFFA-C17895BC5BA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FCD981-7486-4DE8-A788-31F9B132F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CB6F5A-621C-400E-9F79-F1E75EEC2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BD6B69-4115-4330-B28F-A98E0635E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0FB666-63F9-43F4-B33B-F9A6A464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B0A330-EACD-4304-B460-EEF04D03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AFD567-779A-40B9-8878-0E250730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2BF1F2-10AE-4231-A429-3A0D8D2C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4BC0AA-199C-431C-B755-17A0411BC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91C157-E00C-4AE0-856E-E8D536BBD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6062E1-2F94-484D-90F9-A759AA332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FC2FCF-D900-4A1B-882D-A1F34F1FD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674E4F-3791-4D08-ACA4-DAAC2C239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8E8A49-0341-47E0-987C-5AEC13916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56163C-0C47-434F-9BFE-96FC93A69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CAB8B4-01AC-4044-B099-729F90EE2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289A88-360A-4B4C-9840-F35BA609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37A7C0-2780-4C0D-8184-75A6FBA0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3999D5-0886-4E44-B7B7-832E093B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AE89BE-13C3-453A-B867-5C3E6FD9A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4FE205-BFF1-46F9-B9BA-07EF4D2B1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0AC13A-99A9-4359-9E87-829784966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E0F8DB-F5B1-4101-BA46-4F5AD7355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968754-3B1A-4A58-973B-A6B3DB87C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27F962-70E1-4ED6-9544-F6FD41C83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4C046E-BE66-4CE5-A624-12BDAE486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8DB3CA-F211-4634-A42A-0E132EFAA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7B4190-108A-4C5E-9090-CACF4409D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5156B2-8C7A-4287-B846-AA06437F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005D95-95E8-4B97-900A-6E6C4EA5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26C32F-A4C7-4798-BC2D-929DC600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D235-F2D8-4A79-8CC7-55389107B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CBB82F-895C-4AA8-A99D-8993DED69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A7D0FA-07A4-4748-A22D-D996BBFFE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7A7278-4281-4B3E-BFB5-457837B16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701126-CAE0-4793-BDE8-6DBCB8143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F8501F-1FBA-4919-B9D3-321F5C3EB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B1BDDD-4A81-4698-8019-CF877682A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96FD12-0EA7-4B48-8D49-C9733EDD5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92B469-FD7E-4F06-9E5B-A9FCD2442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31566F-6BC1-4420-9CB8-D01EF67AB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2D8E27-BD79-4A6A-930F-33465A28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450E-9C5C-43E8-8601-FEAFA2300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3902CE-792D-4C7E-BAED-8A31AE86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9D9A75-1D33-4085-AD74-862DFE72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646BD2-FB92-49B3-80AF-E7FBE2515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1E1BCA-1995-4418-82BD-D4FFB85BC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78E1A7-9AA0-4E41-A349-F17C3455B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E5DD-38C4-4C68-9702-99C19FE8B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6911-7CC1-416B-B282-68E8A85D6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F17B-8617-4042-B5E4-025AC2FC2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4051-4163-48FA-8449-D5CBF9E97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5609-D645-455C-A69F-7CFEAB58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86C5-34BE-4312-A788-2B1D410C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9CE8-E86B-4C37-9B75-3B950635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980F-D2EA-4575-A5ED-C1B41EBFB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B07A-9226-4D4C-B06D-8302A6E58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6CFD-945D-4F15-BAE8-5B700BCE8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7D2BD-50C5-4725-B02B-2AA6233E4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CF35A-7792-4E01-8550-89B640DE7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C3F68-513E-437E-B139-75CFE6D2D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A8AE0-9D58-4890-9D4B-3CEAF17D9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E2FF9-AE6F-4237-86F8-F417BF6AE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E0A2E-5D07-4DAD-8334-70CC1903C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361FD-7029-439F-8974-1D61A55B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BC8BE-D638-4BC5-8CAF-517C346F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82415-CFCB-4C2D-85E1-3465B576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881DD-0D71-4522-A512-F7AB37B36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3E719-E2EB-48B3-9969-4B0198924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208F5-87E7-4EA4-B2A9-E8D158F54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AEAEB-8EBF-487F-960E-AA2A9022A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66014-C72F-48CA-80E0-4C8F9BBB2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48A96-8E28-4389-8945-E0FAEF3FD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1A627-4138-4A66-9EB7-F506FDCD0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D71A0-2BD3-4A14-8B1D-4C7D43AE2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C8919-ED8E-48F7-93F6-D34A334E3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841F9-4E4B-4D91-A016-31E9F03F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BC67A-D49B-453B-8E62-59F9DB9B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BE13C-1C17-436B-A68F-58F8595D9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07149-602A-4009-87E7-5F575F8DF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B2405-6C1D-4EB0-9B36-ACE0BCDAF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47204-EC73-4B97-A0F4-F847D260B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C9EE0-8B97-4B8A-89DC-002B2774C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11A4E-D334-466C-996F-D94366101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EB90E-ED23-43DE-B24D-290E4089E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0CB9E-F415-4C4A-B588-029209933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8B2EE-06EF-4764-A854-8CE39AB70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A3D3D-7171-4412-B575-83C5A17C4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09D4A-0AD2-4576-9DBE-92C78D7E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0D295-DE2C-4DD7-A3F1-1DA73993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D8164-C6C5-4C40-AAB3-4314DD2CA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86D94-B68C-4673-8B74-D7062786D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2661C-B430-4E4B-B73C-97AD29078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FB2B6-417A-44A1-9E1D-36541A335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742CE-2C30-4F12-A663-D6C6276C9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A0C55-5991-4A88-8170-DF7A837DB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DCA5A-EAD8-4753-840B-B4CE384EA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9559C-6D56-458C-B7DE-AC6B7D229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F46E8-9195-4542-92D6-C5A4B440C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24EDA-0D5D-41AA-B821-BB35E8A72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CCD6B-DE73-4CEB-B691-E7A566A3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1BFE9-68B2-47D2-AE7B-E6F93DDA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B502D-5A9A-48CF-8C78-3F520C94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5F0AE-DE7F-4AB5-B134-0B5140221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83180-1170-43BB-BB60-38CB05991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872AD-8BBD-4316-AB7E-A1A7674A7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C780E7-87E4-4A32-B630-467D18866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854243-CC88-4CD0-9E6E-FE9019B80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D1F20E-2E4C-41BE-B4AB-FC8A6241E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17845-B0DE-408C-A598-CE4BEBB4A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438CCE-3109-428C-BA0E-22F57263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B52900-DC77-49D6-B36A-BB51BA3E9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DDA76-436B-4D77-BF74-6C3CACFC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CCECE7-5420-4F1E-9695-0818F5F9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FEB8A-30FC-4CCF-8911-9DD8284F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19071-81C7-4377-9AF8-11A51303B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433C29-CB23-4F06-AD34-F8195E157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0743E-7A08-4946-ACFA-86B18762D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4F0C1C-8306-4A0C-B525-BA69BB982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059F2F-0479-48B8-9BF8-B7796CBF1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716450-A49F-4C99-B8AF-74C1BB745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CDF35A-CDB5-4CD0-928C-BE7878745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6F79E4-42D7-453D-96D2-B3E3D9F5C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F4E95-7D5A-4674-9866-0271A9D80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0C620A-25BD-4A86-883E-204B2A6E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00A807-0249-4C11-A910-7A389C64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8C71B-6095-4A19-8759-EB75F7C0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E9EE87-1BED-4012-B2F6-525D49717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1584D9-7A04-4E53-A648-BCA3561F0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69F2C1-34A6-4C92-B662-F34C058A7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903669-C015-42B9-A1E0-2210BC919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D9A9CF-8306-4FD9-8E1B-166B6456F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0ACEBB-7FC2-46F5-8287-C54CEF28F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dt" idx="25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ftr" idx="26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Num" idx="27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8EBFA-93E1-4281-8E93-7A96F6B67524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dt" idx="28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ftr" idx="29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sldNum" idx="30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C9E10-96B1-4E78-B269-023150630F78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dt" idx="31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ftr" idx="32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33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08A44-CEAA-4BF9-8C0E-981D19A570A9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1D588-67C5-44C2-9249-D5BA3009987A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dt" idx="4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ftr" idx="5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Num" idx="6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773F0-1CD2-4339-8747-2C283D04FEA7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dt" idx="7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ftr" idx="8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9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7DC0F-DCA3-4276-9B1C-2C36001FB0AA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dt" idx="10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ftr" idx="11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Num" idx="12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8BED6-470C-4700-AAC3-3A76E5C3624B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dt" idx="13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ftr" idx="14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15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D3C27-7A2D-46D9-BEC1-509230D938DB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dt" idx="16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ftr" idx="17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sldNum" idx="18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54079-4139-4D09-B5C5-3A6D62C344DE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図 1" descr="セミナー縦_bg.jpg"/>
          <p:cNvPicPr/>
          <p:nvPr/>
        </p:nvPicPr>
        <p:blipFill>
          <a:blip r:embed="rId2"/>
          <a:stretch/>
        </p:blipFill>
        <p:spPr>
          <a:xfrm>
            <a:off x="0" y="0"/>
            <a:ext cx="10290240" cy="1829448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19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ftr" idx="20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sldNum" idx="21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FA7F1-06A7-4E33-894B-21B2C5355C78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body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dt" idx="22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3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4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A39AE-3603-40CE-A569-2C5E10D5C208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85.xml"/><Relationship Id="rId8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9"/>
          <p:cNvSpPr/>
          <p:nvPr/>
        </p:nvSpPr>
        <p:spPr>
          <a:xfrm>
            <a:off x="-6448320" y="13900320"/>
            <a:ext cx="4824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テキスト ボックス 1"/>
          <p:cNvSpPr/>
          <p:nvPr/>
        </p:nvSpPr>
        <p:spPr>
          <a:xfrm>
            <a:off x="6927840" y="1042992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正方形/長方形 2"/>
          <p:cNvSpPr/>
          <p:nvPr/>
        </p:nvSpPr>
        <p:spPr>
          <a:xfrm>
            <a:off x="0" y="16708320"/>
            <a:ext cx="10290240" cy="158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テキスト ボックス 13"/>
          <p:cNvSpPr/>
          <p:nvPr/>
        </p:nvSpPr>
        <p:spPr>
          <a:xfrm>
            <a:off x="1387440" y="11430000"/>
            <a:ext cx="7574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ＭＳ Ｐゴシック"/>
              </a:rPr>
              <a:t>○○○○●○○○○●○○○○●○○○○●○○○○●○○○○●○○○○●○○○○●○○○○●○○○○●○○○○●○○○○●○○○○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テキスト ボックス 15"/>
          <p:cNvSpPr/>
          <p:nvPr/>
        </p:nvSpPr>
        <p:spPr>
          <a:xfrm>
            <a:off x="592200" y="17156160"/>
            <a:ext cx="910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○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テキスト ボックス 10"/>
          <p:cNvSpPr/>
          <p:nvPr/>
        </p:nvSpPr>
        <p:spPr>
          <a:xfrm>
            <a:off x="2984400" y="1445256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ＭＳ Ｐゴシック"/>
              </a:rPr>
              <a:t>○○</a:t>
            </a:r>
            <a:r>
              <a:rPr b="0" lang="en-US" sz="3600" spc="-1" strike="noStrike">
                <a:solidFill>
                  <a:srgbClr val="404040"/>
                </a:solidFill>
                <a:latin typeface="ＭＳ Ｐゴシック"/>
              </a:rPr>
              <a:t>/○○</a:t>
            </a:r>
            <a:r>
              <a:rPr b="0" lang="ja-JP" sz="3600" spc="-1" strike="noStrike">
                <a:solidFill>
                  <a:srgbClr val="404040"/>
                </a:solidFill>
                <a:latin typeface="ＭＳ Ｐゴシック"/>
              </a:rPr>
              <a:t>　</a:t>
            </a:r>
            <a:r>
              <a:rPr b="0" lang="en-US" sz="3600" spc="-1" strike="noStrike">
                <a:solidFill>
                  <a:srgbClr val="404040"/>
                </a:solidFill>
                <a:latin typeface="ＭＳ Ｐゴシック"/>
              </a:rPr>
              <a:t>○○</a:t>
            </a:r>
            <a:r>
              <a:rPr b="0" lang="ja-JP" sz="3600" spc="-1" strike="noStrike">
                <a:solidFill>
                  <a:srgbClr val="404040"/>
                </a:solidFill>
                <a:latin typeface="ＭＳ Ｐゴシック"/>
              </a:rPr>
              <a:t>：</a:t>
            </a:r>
            <a:r>
              <a:rPr b="0" lang="en-US" sz="3600" spc="-1" strike="noStrike">
                <a:solidFill>
                  <a:srgbClr val="404040"/>
                </a:solidFill>
                <a:latin typeface="ＭＳ Ｐゴシック"/>
              </a:rPr>
              <a:t>○○ 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テキスト ボックス 20"/>
          <p:cNvSpPr/>
          <p:nvPr/>
        </p:nvSpPr>
        <p:spPr>
          <a:xfrm>
            <a:off x="2984400" y="1368432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ＭＳ Ｐゴシック"/>
              </a:rPr>
              <a:t>○○○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図 25" descr="セミナー縦_パーツ2.png"/>
          <p:cNvPicPr/>
          <p:nvPr/>
        </p:nvPicPr>
        <p:blipFill>
          <a:blip r:embed="rId1"/>
          <a:stretch/>
        </p:blipFill>
        <p:spPr>
          <a:xfrm>
            <a:off x="1087560" y="2998800"/>
            <a:ext cx="8115120" cy="1527120"/>
          </a:xfrm>
          <a:prstGeom prst="rect">
            <a:avLst/>
          </a:prstGeom>
          <a:ln w="0">
            <a:noFill/>
          </a:ln>
        </p:spPr>
      </p:pic>
      <p:pic>
        <p:nvPicPr>
          <p:cNvPr id="483" name="図 26" descr="セミナー縦_パーツ3.png"/>
          <p:cNvPicPr/>
          <p:nvPr/>
        </p:nvPicPr>
        <p:blipFill>
          <a:blip r:embed="rId2"/>
          <a:stretch/>
        </p:blipFill>
        <p:spPr>
          <a:xfrm>
            <a:off x="1414440" y="13684320"/>
            <a:ext cx="1428840" cy="761760"/>
          </a:xfrm>
          <a:prstGeom prst="rect">
            <a:avLst/>
          </a:prstGeom>
          <a:ln w="0">
            <a:noFill/>
          </a:ln>
        </p:spPr>
      </p:pic>
      <p:pic>
        <p:nvPicPr>
          <p:cNvPr id="484" name="図 27" descr="セミナー縦_パーツ4.png"/>
          <p:cNvPicPr/>
          <p:nvPr/>
        </p:nvPicPr>
        <p:blipFill>
          <a:blip r:embed="rId3"/>
          <a:stretch/>
        </p:blipFill>
        <p:spPr>
          <a:xfrm>
            <a:off x="1414440" y="14476320"/>
            <a:ext cx="1428840" cy="762120"/>
          </a:xfrm>
          <a:prstGeom prst="rect">
            <a:avLst/>
          </a:prstGeom>
          <a:ln w="0">
            <a:noFill/>
          </a:ln>
        </p:spPr>
      </p:pic>
      <p:pic>
        <p:nvPicPr>
          <p:cNvPr id="485" name="図 28" descr="セミナー縦_パーツ5.png"/>
          <p:cNvPicPr/>
          <p:nvPr/>
        </p:nvPicPr>
        <p:blipFill>
          <a:blip r:embed="rId4"/>
          <a:stretch/>
        </p:blipFill>
        <p:spPr>
          <a:xfrm>
            <a:off x="1414440" y="15195600"/>
            <a:ext cx="1428840" cy="762120"/>
          </a:xfrm>
          <a:prstGeom prst="rect">
            <a:avLst/>
          </a:prstGeom>
          <a:ln w="0">
            <a:noFill/>
          </a:ln>
        </p:spPr>
      </p:pic>
      <p:sp>
        <p:nvSpPr>
          <p:cNvPr id="486" name="正方形/長方形 18"/>
          <p:cNvSpPr/>
          <p:nvPr/>
        </p:nvSpPr>
        <p:spPr>
          <a:xfrm>
            <a:off x="1639080" y="10745640"/>
            <a:ext cx="33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正方形/長方形 29"/>
          <p:cNvSpPr/>
          <p:nvPr/>
        </p:nvSpPr>
        <p:spPr>
          <a:xfrm>
            <a:off x="2066760" y="3187800"/>
            <a:ext cx="615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ffffff"/>
                </a:solidFill>
                <a:latin typeface="ＭＳ 明朝"/>
                <a:ea typeface="ＭＳ 明朝"/>
              </a:rPr>
              <a:t>○○○○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テキスト ボックス 30"/>
          <p:cNvSpPr/>
          <p:nvPr/>
        </p:nvSpPr>
        <p:spPr>
          <a:xfrm>
            <a:off x="2984400" y="1524168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ＭＳ Ｐゴシック"/>
              </a:rPr>
              <a:t>○○○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図 22" descr="インフォメーション_title.png"/>
          <p:cNvPicPr/>
          <p:nvPr/>
        </p:nvPicPr>
        <p:blipFill>
          <a:blip r:embed="rId5"/>
          <a:stretch/>
        </p:blipFill>
        <p:spPr>
          <a:xfrm>
            <a:off x="2265480" y="351000"/>
            <a:ext cx="5903640" cy="1714320"/>
          </a:xfrm>
          <a:prstGeom prst="rect">
            <a:avLst/>
          </a:prstGeom>
          <a:ln w="0">
            <a:noFill/>
          </a:ln>
        </p:spPr>
      </p:pic>
      <p:pic>
        <p:nvPicPr>
          <p:cNvPr id="490" name="図 23" descr="あたり用写真.jpg"/>
          <p:cNvPicPr/>
          <p:nvPr/>
        </p:nvPicPr>
        <p:blipFill>
          <a:blip r:embed="rId6"/>
          <a:stretch/>
        </p:blipFill>
        <p:spPr>
          <a:xfrm>
            <a:off x="1450800" y="4797360"/>
            <a:ext cx="7388280" cy="5595840"/>
          </a:xfrm>
          <a:prstGeom prst="rect">
            <a:avLst/>
          </a:prstGeom>
          <a:ln w="0">
            <a:noFill/>
          </a:ln>
        </p:spPr>
      </p:pic>
      <p:sp>
        <p:nvSpPr>
          <p:cNvPr id="491" name="テキスト ボックス 24"/>
          <p:cNvSpPr/>
          <p:nvPr/>
        </p:nvSpPr>
        <p:spPr>
          <a:xfrm>
            <a:off x="1400040" y="1375560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○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テキスト ボックス 25"/>
          <p:cNvSpPr/>
          <p:nvPr/>
        </p:nvSpPr>
        <p:spPr>
          <a:xfrm>
            <a:off x="1400040" y="1452420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○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テキスト ボックス 26"/>
          <p:cNvSpPr/>
          <p:nvPr/>
        </p:nvSpPr>
        <p:spPr>
          <a:xfrm>
            <a:off x="1400040" y="1526868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○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23:51:05Z</dcterms:created>
  <dc:creator/>
  <dc:description/>
  <dc:language>en-US</dc:language>
  <cp:lastModifiedBy>signage1</cp:lastModifiedBy>
  <dcterms:modified xsi:type="dcterms:W3CDTF">2016-12-27T06:43:16Z</dcterms:modified>
  <cp:revision>88</cp:revision>
  <dc:subject/>
  <dc:title>スライド 1</dc:title>
</cp:coreProperties>
</file>