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10288588" cy="1829593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72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34"/>
          </p:nvPr>
        </p:nvSpPr>
        <p:spPr>
          <a:xfrm>
            <a:off x="389268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2387160" y="744120"/>
            <a:ext cx="209556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5"/>
          </p:nvPr>
        </p:nvSpPr>
        <p:spPr>
          <a:xfrm>
            <a:off x="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6"/>
          </p:nvPr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7F77-BD35-4047-84C1-E51CBED7515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387520" y="744480"/>
            <a:ext cx="209556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スライド番号プレースホルダ 3"/>
          <p:cNvSpPr/>
          <p:nvPr/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77F6-24AE-453E-AD6C-3A2B1C362F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34FD1-3681-43F7-9D13-CC22D861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91369-82FE-4534-BE86-324A0BD8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CE993-9194-447B-8856-00068CBC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990E-833E-41CC-AC06-3C64066E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95637-78A0-489C-834C-BCFC2E8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06E5C-AE60-4F2C-A84C-584B0B79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E1946-47C0-4A5F-B39E-ED1EA99B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2EE2B-2797-42E6-AFBC-96EEAA9C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03B60-87F9-4C3A-97DB-C909FE6A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7685F-E280-4824-8139-EC7CBF50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93045-5442-4201-B087-A30A9AC3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28C55-082C-43E1-BBF3-F28465EB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FDD70-F5D6-4555-BC39-EADAB785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F7EA1-3971-483F-939E-F0359FAE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D75F9-46B0-4C11-974F-D7D13FD3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923C0-F459-4A3C-BAAA-F0E86B0A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AF241-1BEA-4782-8CE5-0FDB5F6E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10669-B990-48A3-AE47-FF33F00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AA3E3-1CF5-455D-93A7-66E63B79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3C565-B867-4D57-B1FF-3E034679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42D47-2FD7-4E9E-95E9-608D369C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51691-0899-485F-8169-BA7FA081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0506B-78E2-49EF-B3C7-B7F40EC4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FCD6D-ACDA-4D29-9C0C-97106BF5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318F5-AB70-463B-A3FA-AF45FAB7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68002-82A4-480D-B303-0A45FCF3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2F3D6-5C58-4FDB-A479-6F71B30C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A04D1-4908-408E-B092-D37754AA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296E8-3987-46C3-A558-7C833BF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F2139-3636-4FD5-A3C4-DD31CC0C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37E-471F-4CCF-9C28-0640E785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0293E-3DF9-4522-838C-3E0F2237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E35A6-D2CA-4C1D-9532-BF4145FB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2EB74-7A74-4131-A8E8-575CE531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55AA7-9BB9-45A2-9856-19808501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57271-304B-4A82-8314-CC1D118F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92EA0-EB4F-4BDC-9965-5D9AF85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44CCF-DF3D-439C-839D-FE74CB21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2AD20-42AA-4D18-B7A2-4FAF86ED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4852B-2B71-4364-85F2-59859EF8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3797A-F898-4243-AEC3-4CD637B3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5B9-FB14-406F-976B-83261221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D6EB8-05B6-48F6-9FA3-7D9544A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EFBAC-41E0-4FA6-A8DE-7E9B3F0A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75D31-6151-4983-A6FD-5BC06DC7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1876C-FB83-4B8C-8904-E37312FC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437A6-62C5-4069-B21C-4109EEEB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503-5BF3-427F-A060-67A09D27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C29-07B9-4D4F-B5A7-9B583AB3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EA7-94A6-44E6-B956-6E87BE12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35C-700D-4B32-BB6D-82B148B8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6B1-FA9D-4893-A3EE-7E69393A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4E8-DC19-4ADA-AB37-CDBAF27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073-1F7F-4E4A-AC24-3D6A90F5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5CD-C749-4E12-B082-8D89EA9F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FEA-6605-49F8-B2A7-0ED9736A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881-1B22-4E45-8E8F-BB72001B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8D14-224E-4126-A2A8-641446BE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ADFA-2085-4F20-A8FE-C9A25CE5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8A21-C34A-436F-B4E7-B8A647C3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C4B5-26F2-448E-B57D-570B8F0D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CBEA-1CBE-49F1-8A3C-ADAF7407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7D15-9583-452F-A98C-65FBDF9B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D64D-9ADB-4660-9722-D4F750BB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52F5-A1C2-408C-BEE7-76F314D6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BD1-D97E-4600-B9BB-CD82F03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6AE2-2705-429B-B579-BF3FB4E5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164F-62E8-4F7A-AD24-AF4F2AD0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CB01-6DF2-4A6A-9D9B-2DB53692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8335-2358-4F26-90AA-7B66409C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68F89-8545-422C-A7D6-8785DC16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D078-0D66-4961-B4AF-8A7D484D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55F3-6703-4BE9-A0B3-F774DC8E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06BF-EDB4-4B48-9FB6-846DD5AB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F81B-3DBD-4CA2-AA16-4DE37552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2836-06AE-487F-9621-E60DF5DB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59AC-66E7-4A31-BC9F-C29876AA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2516-5406-409D-8C44-4A592303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AB30-4DE8-4628-8679-6996A88F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4705-2970-4758-8AD2-1D0565ED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4D39-390B-4768-836F-D85D88CE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9625-F04D-4683-8D6F-274E89C7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BB944-2846-43D4-8179-28F1E581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74B6D-721E-4FC4-B906-2714DE00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8B69-D164-4716-B34E-AEE8EB7D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8A7C-09BF-45EF-9AD8-DFEB56C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F932-156E-4A7B-BC21-057BF026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F76D-62E8-45A6-9C2E-854B1D9E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E0F4-FE63-4526-BE25-EA968781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C1C5-3801-4960-8F03-6FA15303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C47C-DF7F-485D-AB9C-5CC01717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FDD16-A3B6-4E4B-8F81-3E2493E1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8A74-980A-4942-9573-20AEF8DE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FD00B-30E4-4FD0-8799-48EF8422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A3EE-9D0E-4828-B994-68F2C9C3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8047B-DF5E-4F45-8D86-4FF9039A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CBAA0-21B8-406B-8473-CF8A5174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FB15-4F01-4CAE-AA8C-C52F64CC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AAC6E-17F4-46D6-AAD4-71959119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4F9F1-4634-4E58-98EA-4DEE9A54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DFB6F-4BC7-4FF0-B537-65874420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DA6A7-8F5D-4516-8E27-C2935130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5B594-877D-4C71-A120-1CDF19B8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DD977-0ED8-4828-9538-EADF3245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B012-894B-4537-9D29-A8F31755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4BAE9-DCFA-4264-ABDB-82748400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44DDF-D60D-497F-8DC3-E967F533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E4E53-77A9-4A05-9C79-889A60DE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CA526-4BE5-4CEC-9E7C-04F4BCDF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A962A-79AE-4EAE-8DF6-48986582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D299E-AB79-4EE2-BA89-4CAE41FA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933CC-7AC2-4D38-AD8B-DA653308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AA850-2223-4C58-A1CE-A73AFC39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FCF6C-DD9C-494E-AC90-7C5F32AD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E58D3-D5EE-4017-A0B9-DE7E2EBE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8438-2814-467D-978E-754DF288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438A8-F710-40A1-870A-C732B9BF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5B1E3-636B-4A2C-99B1-F78EB45B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7B8DB-E4AC-4EC1-8878-BC241EDF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86665-BBAB-4F8F-8124-F3EE073D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F226F-BF06-40B9-92FE-5A9FFA32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C39B4-0AB2-4677-A48E-B3A763B2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2A39-857A-4B21-B20C-98B5361F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77118-46FA-4C6C-B8AA-6FB9A6ED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05EB8-44C8-46C8-901D-81DADD1D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08351-B4C9-4680-9EFC-FA15F80F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3612E-953F-400A-9BB1-5C1F167A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F6CD8-ABEE-41DC-8C94-E83ED852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5AE43-4276-41EC-A132-4AE13E28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B087D-DC58-4D5C-B2B1-99F078DE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9C111-6473-4B4B-AC1A-F23B2FF7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46B18-86C1-4BFA-BC3A-ABAA6F13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2E34-6767-43B8-A04C-D2CC87F7EA4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FD70-B63C-4826-8D6E-F28DCA03218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ECFF-5848-458D-9D0B-7A8D7EB1EF2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53FB-649B-4B4E-8E35-5AD992E1578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1D94-5C95-4E1E-B58E-801BF79E512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03AC-025E-4EBB-99A0-A42BCE2AE8C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85E4-D6B7-484B-9015-CD9C6163AE9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AD2F-D0EA-48A6-8BD7-88C03ADAF2A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56C4-ED24-4756-BA2B-126DE59B007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" descr="セミナー縦_bg.jpg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33B0-8656-4292-A437-5A78B48D6C4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7402-414B-4733-8520-16748D8551B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テキスト ボックス 13"/>
          <p:cNvSpPr/>
          <p:nvPr/>
        </p:nvSpPr>
        <p:spPr>
          <a:xfrm>
            <a:off x="1387440" y="114300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テキスト ボックス 15"/>
          <p:cNvSpPr/>
          <p:nvPr/>
        </p:nvSpPr>
        <p:spPr>
          <a:xfrm>
            <a:off x="592200" y="171561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0"/>
          <p:cNvSpPr/>
          <p:nvPr/>
        </p:nvSpPr>
        <p:spPr>
          <a:xfrm>
            <a:off x="2984400" y="144525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20"/>
          <p:cNvSpPr/>
          <p:nvPr/>
        </p:nvSpPr>
        <p:spPr>
          <a:xfrm>
            <a:off x="2984400" y="13684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図 25" descr="セミナー縦_パーツ2.png"/>
          <p:cNvPicPr/>
          <p:nvPr/>
        </p:nvPicPr>
        <p:blipFill>
          <a:blip r:embed="rId1"/>
          <a:stretch/>
        </p:blipFill>
        <p:spPr>
          <a:xfrm>
            <a:off x="1087560" y="29988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483" name="図 26" descr="セミナー縦_パーツ3.png"/>
          <p:cNvPicPr/>
          <p:nvPr/>
        </p:nvPicPr>
        <p:blipFill>
          <a:blip r:embed="rId2"/>
          <a:stretch/>
        </p:blipFill>
        <p:spPr>
          <a:xfrm>
            <a:off x="1414440" y="1368432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図 27" descr="セミナー縦_パーツ4.png"/>
          <p:cNvPicPr/>
          <p:nvPr/>
        </p:nvPicPr>
        <p:blipFill>
          <a:blip r:embed="rId3"/>
          <a:stretch/>
        </p:blipFill>
        <p:spPr>
          <a:xfrm>
            <a:off x="1414440" y="144763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図 28" descr="セミナー縦_パーツ5.png"/>
          <p:cNvPicPr/>
          <p:nvPr/>
        </p:nvPicPr>
        <p:blipFill>
          <a:blip r:embed="rId4"/>
          <a:stretch/>
        </p:blipFill>
        <p:spPr>
          <a:xfrm>
            <a:off x="1414440" y="151956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正方形/長方形 18"/>
          <p:cNvSpPr/>
          <p:nvPr/>
        </p:nvSpPr>
        <p:spPr>
          <a:xfrm>
            <a:off x="1639080" y="10745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正方形/長方形 29"/>
          <p:cNvSpPr/>
          <p:nvPr/>
        </p:nvSpPr>
        <p:spPr>
          <a:xfrm>
            <a:off x="2066760" y="31878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30"/>
          <p:cNvSpPr/>
          <p:nvPr/>
        </p:nvSpPr>
        <p:spPr>
          <a:xfrm>
            <a:off x="2984400" y="15241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図 22" descr="インフォメーション_title.png"/>
          <p:cNvPicPr/>
          <p:nvPr/>
        </p:nvPicPr>
        <p:blipFill>
          <a:blip r:embed="rId5"/>
          <a:stretch/>
        </p:blipFill>
        <p:spPr>
          <a:xfrm>
            <a:off x="2265480" y="351000"/>
            <a:ext cx="5903640" cy="1714320"/>
          </a:xfrm>
          <a:prstGeom prst="rect">
            <a:avLst/>
          </a:prstGeom>
          <a:ln w="0">
            <a:noFill/>
          </a:ln>
        </p:spPr>
      </p:pic>
      <p:pic>
        <p:nvPicPr>
          <p:cNvPr id="490" name="図 23" descr="あたり用写真.jpg"/>
          <p:cNvPicPr/>
          <p:nvPr/>
        </p:nvPicPr>
        <p:blipFill>
          <a:blip r:embed="rId6"/>
          <a:stretch/>
        </p:blipFill>
        <p:spPr>
          <a:xfrm>
            <a:off x="1450800" y="4797360"/>
            <a:ext cx="7388280" cy="559584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24"/>
          <p:cNvSpPr/>
          <p:nvPr/>
        </p:nvSpPr>
        <p:spPr>
          <a:xfrm>
            <a:off x="1400040" y="137556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25"/>
          <p:cNvSpPr/>
          <p:nvPr/>
        </p:nvSpPr>
        <p:spPr>
          <a:xfrm>
            <a:off x="1400040" y="14524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6"/>
          <p:cNvSpPr/>
          <p:nvPr/>
        </p:nvSpPr>
        <p:spPr>
          <a:xfrm>
            <a:off x="1400040" y="152686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16Z</dcterms:modified>
  <cp:revision>88</cp:revision>
  <dc:subject/>
  <dc:title>スライド 1</dc:title>
</cp:coreProperties>
</file>