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</p:sldIdLst>
  <p:sldSz cx="18299113" cy="1028858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A5E4-3B0C-4D56-98ED-8DB3B7E21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5AC7-C4D4-4775-83A2-F4FA907E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7CD-5DC5-4526-B6C0-1735DD53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758C-1833-45A5-8A68-FBDA58AC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AE12-3AAD-47E6-A16F-EF6179351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E716-AE38-4AFC-B9AF-BC5C4C73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6BF72-DCA7-478C-BF4A-8640BBDC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6D3A-7808-4D18-86C3-1C9C1ABF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B7AE-75AE-484C-B4E6-97199CB8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CC418-0384-4147-989A-20FCEF8C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41E4-3044-4CF7-935A-8AB672B9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633-9403-44B5-9F3A-A3CA3A36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DF721-A5AB-46B9-9E44-657BFB6B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0504-D4BB-4302-B201-14F87078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A89B3-91E1-4BB5-90CE-FA72EED1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D88E-38BF-4836-8763-24A575B4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A3769-985F-43AB-8EE5-5D0174F4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AE3AAF-4284-43D8-93DF-2A2EAE6E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BC9A6-A97C-4774-A6F5-C7AEF29F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6CF86-6660-4011-84B2-DCE83DF8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251AA-35F8-4269-B216-C66FDDDD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C55EC-222B-4E8D-BB30-2425778E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D52F-B652-4930-9879-7091BB0F7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07D6-0E61-4BD7-B012-B990856F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60FFE0-689F-4303-A748-893E8BB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F62B5-92B0-49D4-BE2C-39BC6687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88DFE-D736-4E2F-9E0E-4FCB7D863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C6F60-2A7A-4FCD-B7EF-321CFFC87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6676C-2886-4109-95D5-DFE6F8637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C7D4A-D7A6-4F43-BB50-40635176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94F-8450-4A1E-9E10-E3A32FC4E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E238-E575-4844-B3C3-7238E8D1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0424-F026-4609-A9D4-60C81E65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5243-3A18-4881-B397-6B44466B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A116-0292-4D71-A62C-EDC0E2A7D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6C33-B78D-4E8B-98D5-42279A33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B115-D47D-4E11-A829-CF27C5A0AF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412920"/>
            <a:ext cx="1646856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914400" y="2400480"/>
            <a:ext cx="16468560" cy="67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1440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251400" y="9534240"/>
            <a:ext cx="579456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13112640" y="9534240"/>
            <a:ext cx="4270320" cy="5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7E41-BDE4-4701-BEDB-43EEFFFCA72E}" type="slidenum">
              <a:rPr b="0" lang="ja-JP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図 7" descr="イベント情報横bg-01.jpg"/>
          <p:cNvPicPr/>
          <p:nvPr/>
        </p:nvPicPr>
        <p:blipFill>
          <a:blip r:embed="rId2"/>
          <a:stretch/>
        </p:blipFill>
        <p:spPr>
          <a:xfrm>
            <a:off x="4680" y="0"/>
            <a:ext cx="18288000" cy="10287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図 8" descr="セミナー横_bg.jpg"/>
          <p:cNvPicPr/>
          <p:nvPr/>
        </p:nvPicPr>
        <p:blipFill>
          <a:blip r:embed="rId2"/>
          <a:stretch/>
        </p:blipFill>
        <p:spPr>
          <a:xfrm>
            <a:off x="-115920" y="-68400"/>
            <a:ext cx="18529200" cy="104238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89EE9-8B48-423F-8FEF-3592086B7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10"/>
          <p:cNvSpPr/>
          <p:nvPr/>
        </p:nvSpPr>
        <p:spPr>
          <a:xfrm>
            <a:off x="4595760" y="929340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図 31" descr="セミナー横_パーツ1.png"/>
          <p:cNvPicPr/>
          <p:nvPr/>
        </p:nvPicPr>
        <p:blipFill>
          <a:blip r:embed="rId1"/>
          <a:stretch/>
        </p:blipFill>
        <p:spPr>
          <a:xfrm>
            <a:off x="5719680" y="214200"/>
            <a:ext cx="6858000" cy="1905120"/>
          </a:xfrm>
          <a:prstGeom prst="rect">
            <a:avLst/>
          </a:prstGeom>
          <a:ln w="0">
            <a:noFill/>
          </a:ln>
        </p:spPr>
      </p:pic>
      <p:sp>
        <p:nvSpPr>
          <p:cNvPr id="134" name="テキスト ボックス 36"/>
          <p:cNvSpPr/>
          <p:nvPr/>
        </p:nvSpPr>
        <p:spPr>
          <a:xfrm>
            <a:off x="9629640" y="3898800"/>
            <a:ext cx="7574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テキスト ボックス 37"/>
          <p:cNvSpPr/>
          <p:nvPr/>
        </p:nvSpPr>
        <p:spPr>
          <a:xfrm>
            <a:off x="11226960" y="69213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/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　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</a:t>
            </a:r>
            <a:r>
              <a:rPr b="0" lang="ja-JP" sz="3600" spc="-1" strike="noStrike">
                <a:solidFill>
                  <a:srgbClr val="404040"/>
                </a:solidFill>
                <a:latin typeface="ＭＳ Ｐゴシック"/>
              </a:rPr>
              <a:t>：</a:t>
            </a: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 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テキスト ボックス 38"/>
          <p:cNvSpPr/>
          <p:nvPr/>
        </p:nvSpPr>
        <p:spPr>
          <a:xfrm>
            <a:off x="11226960" y="615312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図 25" descr="セミナー縦_パーツ2.png"/>
          <p:cNvPicPr/>
          <p:nvPr/>
        </p:nvPicPr>
        <p:blipFill>
          <a:blip r:embed="rId2"/>
          <a:stretch/>
        </p:blipFill>
        <p:spPr>
          <a:xfrm>
            <a:off x="385920" y="2608200"/>
            <a:ext cx="8115120" cy="1527120"/>
          </a:xfrm>
          <a:prstGeom prst="rect">
            <a:avLst/>
          </a:prstGeom>
          <a:ln w="0">
            <a:noFill/>
          </a:ln>
        </p:spPr>
      </p:pic>
      <p:pic>
        <p:nvPicPr>
          <p:cNvPr id="138" name="図 26" descr="セミナー縦_パーツ3.png"/>
          <p:cNvPicPr/>
          <p:nvPr/>
        </p:nvPicPr>
        <p:blipFill>
          <a:blip r:embed="rId3"/>
          <a:stretch/>
        </p:blipFill>
        <p:spPr>
          <a:xfrm>
            <a:off x="9656640" y="6153120"/>
            <a:ext cx="1428840" cy="762120"/>
          </a:xfrm>
          <a:prstGeom prst="rect">
            <a:avLst/>
          </a:prstGeom>
          <a:ln w="0">
            <a:noFill/>
          </a:ln>
        </p:spPr>
      </p:pic>
      <p:pic>
        <p:nvPicPr>
          <p:cNvPr id="139" name="図 27" descr="セミナー縦_パーツ4.png"/>
          <p:cNvPicPr/>
          <p:nvPr/>
        </p:nvPicPr>
        <p:blipFill>
          <a:blip r:embed="rId4"/>
          <a:stretch/>
        </p:blipFill>
        <p:spPr>
          <a:xfrm>
            <a:off x="9656640" y="6945480"/>
            <a:ext cx="1428840" cy="761760"/>
          </a:xfrm>
          <a:prstGeom prst="rect">
            <a:avLst/>
          </a:prstGeom>
          <a:ln w="0">
            <a:noFill/>
          </a:ln>
        </p:spPr>
      </p:pic>
      <p:pic>
        <p:nvPicPr>
          <p:cNvPr id="140" name="図 28" descr="セミナー縦_パーツ5.png"/>
          <p:cNvPicPr/>
          <p:nvPr/>
        </p:nvPicPr>
        <p:blipFill>
          <a:blip r:embed="rId5"/>
          <a:stretch/>
        </p:blipFill>
        <p:spPr>
          <a:xfrm>
            <a:off x="9656640" y="7664400"/>
            <a:ext cx="1428840" cy="762120"/>
          </a:xfrm>
          <a:prstGeom prst="rect">
            <a:avLst/>
          </a:prstGeom>
          <a:ln w="0">
            <a:noFill/>
          </a:ln>
        </p:spPr>
      </p:pic>
      <p:sp>
        <p:nvSpPr>
          <p:cNvPr id="141" name="正方形/長方形 44"/>
          <p:cNvSpPr/>
          <p:nvPr/>
        </p:nvSpPr>
        <p:spPr>
          <a:xfrm>
            <a:off x="9881280" y="3214800"/>
            <a:ext cx="33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テキスト ボックス 45"/>
          <p:cNvSpPr/>
          <p:nvPr/>
        </p:nvSpPr>
        <p:spPr>
          <a:xfrm>
            <a:off x="11226960" y="77104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正方形/長方形 29"/>
          <p:cNvSpPr/>
          <p:nvPr/>
        </p:nvSpPr>
        <p:spPr>
          <a:xfrm>
            <a:off x="1365120" y="2805120"/>
            <a:ext cx="615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6000" spc="-1" strike="noStrike">
                <a:solidFill>
                  <a:srgbClr val="ffffff"/>
                </a:solidFill>
                <a:latin typeface="ＭＳ 明朝"/>
                <a:ea typeface="ＭＳ 明朝"/>
              </a:rPr>
              <a:t>○○○○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図 19" descr="あたり用写真.jpg"/>
          <p:cNvPicPr/>
          <p:nvPr/>
        </p:nvPicPr>
        <p:blipFill>
          <a:blip r:embed="rId6"/>
          <a:stretch/>
        </p:blipFill>
        <p:spPr>
          <a:xfrm>
            <a:off x="682560" y="4327560"/>
            <a:ext cx="7504200" cy="4187880"/>
          </a:xfrm>
          <a:prstGeom prst="rect">
            <a:avLst/>
          </a:prstGeom>
          <a:ln w="0">
            <a:noFill/>
          </a:ln>
        </p:spPr>
      </p:pic>
      <p:sp>
        <p:nvSpPr>
          <p:cNvPr id="145" name="テキスト ボックス 20"/>
          <p:cNvSpPr/>
          <p:nvPr/>
        </p:nvSpPr>
        <p:spPr>
          <a:xfrm>
            <a:off x="9921960" y="621180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21"/>
          <p:cNvSpPr/>
          <p:nvPr/>
        </p:nvSpPr>
        <p:spPr>
          <a:xfrm>
            <a:off x="9921960" y="701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テキスト ボックス 22"/>
          <p:cNvSpPr/>
          <p:nvPr/>
        </p:nvSpPr>
        <p:spPr>
          <a:xfrm>
            <a:off x="9921960" y="773748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○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3:51Z</dcterms:modified>
  <cp:revision>60</cp:revision>
  <dc:subject/>
  <dc:title>スライド 1</dc:title>
</cp:coreProperties>
</file>