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D8D-2132-4B79-B533-64B16DB3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7C4-78EE-4C29-BEEF-93B9924C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8A8-2E37-4B80-9B50-920E0AD5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70E-FA0B-47F4-BA9E-EC035045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D60B-F628-425F-AE8B-71F82DD2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A750-AFEA-460E-9BD2-55557C90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04F9-95DF-4354-B9E6-8412AC7F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D1F7-9553-4493-92A1-0B703089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4975-859E-4E3A-AEC3-5BC7B636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F157-C8CB-46EA-A338-DD6B2C0F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351B-6758-445D-B56A-B66CD80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F25-0DA6-42CD-A8F7-29E0280F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FF94-C15C-4AF1-82F8-DE00BF9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813C-A2F2-4001-8AC8-F24FF5C0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5DB5-6ABA-4E17-A718-77953B9E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2D2E-8174-442B-9D5B-73BFD699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C5BE-DB45-4580-B292-AE1266A3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BF9C-63F7-4FA2-BF9B-D08CC0C4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E164-E847-406A-8BF8-58E8172D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7007-B41B-46E5-AC94-0AC752DD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D174-3E11-4D22-8069-D3BCE24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3C1A-EB54-4F69-B37B-06AE1BDF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66C-3548-4BFB-9926-0D6EE702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CF68-37CB-4BAF-95F4-0B1BC8DB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6CC3E-5D91-4FBF-B860-8E8002C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94CC-3B06-476A-A423-87FAA5DB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0DDE-556B-4C60-9E57-083A8EF2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4099-AE35-4575-9733-9F1A83F8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25F2-1089-4B5A-8D6C-7AB78FC9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5C27-8FE0-479B-8C25-A474AD4B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83D-8A98-4EC3-BD1C-FE9D6989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A5D-0C8F-4109-B269-5CD8F1F9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D6D-940D-4203-8ADE-B551AADD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741-F3EB-406D-9733-202347D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C3E-C94A-47C2-A373-F13BA523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F85-3F49-4CF9-993A-C586FE8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4EA1-BFFA-40BC-9C3D-A03FAE1EF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685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400480"/>
            <a:ext cx="164685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40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51400" y="9534240"/>
            <a:ext cx="57945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11264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3F24-D320-45A6-BBB2-99F356FC614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図 7" descr="イベント情報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図 8" descr="セミナー横_bg.jpg"/>
          <p:cNvPicPr/>
          <p:nvPr/>
        </p:nvPicPr>
        <p:blipFill>
          <a:blip r:embed="rId2"/>
          <a:stretch/>
        </p:blipFill>
        <p:spPr>
          <a:xfrm>
            <a:off x="-115920" y="-68400"/>
            <a:ext cx="18529200" cy="1042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831-780A-4E30-8470-DE0CDE964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4595760" y="929340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図 31" descr="セミナー横_パーツ1.png"/>
          <p:cNvPicPr/>
          <p:nvPr/>
        </p:nvPicPr>
        <p:blipFill>
          <a:blip r:embed="rId1"/>
          <a:stretch/>
        </p:blipFill>
        <p:spPr>
          <a:xfrm>
            <a:off x="5719680" y="214200"/>
            <a:ext cx="685800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36"/>
          <p:cNvSpPr/>
          <p:nvPr/>
        </p:nvSpPr>
        <p:spPr>
          <a:xfrm>
            <a:off x="9629640" y="38988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37"/>
          <p:cNvSpPr/>
          <p:nvPr/>
        </p:nvSpPr>
        <p:spPr>
          <a:xfrm>
            <a:off x="11226960" y="69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38"/>
          <p:cNvSpPr/>
          <p:nvPr/>
        </p:nvSpPr>
        <p:spPr>
          <a:xfrm>
            <a:off x="11226960" y="6153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25" descr="セミナー縦_パーツ2.png"/>
          <p:cNvPicPr/>
          <p:nvPr/>
        </p:nvPicPr>
        <p:blipFill>
          <a:blip r:embed="rId2"/>
          <a:stretch/>
        </p:blipFill>
        <p:spPr>
          <a:xfrm>
            <a:off x="385920" y="26082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138" name="図 26" descr="セミナー縦_パーツ3.png"/>
          <p:cNvPicPr/>
          <p:nvPr/>
        </p:nvPicPr>
        <p:blipFill>
          <a:blip r:embed="rId3"/>
          <a:stretch/>
        </p:blipFill>
        <p:spPr>
          <a:xfrm>
            <a:off x="9656640" y="61531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図 27" descr="セミナー縦_パーツ4.png"/>
          <p:cNvPicPr/>
          <p:nvPr/>
        </p:nvPicPr>
        <p:blipFill>
          <a:blip r:embed="rId4"/>
          <a:stretch/>
        </p:blipFill>
        <p:spPr>
          <a:xfrm>
            <a:off x="9656640" y="694548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図 28" descr="セミナー縦_パーツ5.png"/>
          <p:cNvPicPr/>
          <p:nvPr/>
        </p:nvPicPr>
        <p:blipFill>
          <a:blip r:embed="rId5"/>
          <a:stretch/>
        </p:blipFill>
        <p:spPr>
          <a:xfrm>
            <a:off x="9656640" y="76644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正方形/長方形 44"/>
          <p:cNvSpPr/>
          <p:nvPr/>
        </p:nvSpPr>
        <p:spPr>
          <a:xfrm>
            <a:off x="9881280" y="321480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45"/>
          <p:cNvSpPr/>
          <p:nvPr/>
        </p:nvSpPr>
        <p:spPr>
          <a:xfrm>
            <a:off x="11226960" y="7710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29"/>
          <p:cNvSpPr/>
          <p:nvPr/>
        </p:nvSpPr>
        <p:spPr>
          <a:xfrm>
            <a:off x="1365120" y="280512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19" descr="あたり用写真.jpg"/>
          <p:cNvPicPr/>
          <p:nvPr/>
        </p:nvPicPr>
        <p:blipFill>
          <a:blip r:embed="rId6"/>
          <a:stretch/>
        </p:blipFill>
        <p:spPr>
          <a:xfrm>
            <a:off x="682560" y="4327560"/>
            <a:ext cx="7504200" cy="41878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20"/>
          <p:cNvSpPr/>
          <p:nvPr/>
        </p:nvSpPr>
        <p:spPr>
          <a:xfrm>
            <a:off x="9921960" y="6211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21"/>
          <p:cNvSpPr/>
          <p:nvPr/>
        </p:nvSpPr>
        <p:spPr>
          <a:xfrm>
            <a:off x="9921960" y="701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2"/>
          <p:cNvSpPr/>
          <p:nvPr/>
        </p:nvSpPr>
        <p:spPr>
          <a:xfrm>
            <a:off x="9921960" y="773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51Z</dcterms:modified>
  <cp:revision>60</cp:revision>
  <dc:subject/>
  <dc:title>スライド 1</dc:title>
</cp:coreProperties>
</file>