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8685E-F08C-4B45-AF8B-13BC3AD2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9BF6D-CC7D-4FFE-ADDE-ACCCA8CA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12FFD-1B2A-4E35-94FF-B2413829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C0012-085E-4A93-9484-298A8C05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BB25C-C162-48EA-B101-F9981669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99E0B-7133-4BB6-B38B-B01EBE6F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A9753-2EB9-4DDA-9340-C2B3297C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E3034-C771-4207-9FBD-48E6256A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37232-33D6-4773-8043-8199C000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4D3F7-CFC2-4F51-8C69-D476891D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4D0A9-3CDD-405C-812B-BA2C39EB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152F0-FF75-4C83-BBB3-73F164ED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2F5E5-CA09-4641-8152-3F3287C7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FC75D-4341-45B7-BEFF-3769689B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3ED5E-6EE0-4FC4-8596-2C2CD0B5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5A963-46A5-44E5-A557-B597E885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7E554-ADF9-484E-8890-247A938C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42BE8-DE1F-4450-A118-6D16637C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7DDE4-6244-4CCB-A1CB-AB8E9E45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C23C5-5A2D-4C2C-80BC-48BAA157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A9B5B-1BE2-4E09-B5D7-29292332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0BE2A-00F3-4F68-A450-570361BB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AFA7A-B8B3-45B8-88AE-F658D7DA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7BC7C-3EC4-4703-BBB5-50D1E076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C0A8A-387D-4682-824F-847BE7E4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C96AA-3623-4FBA-8893-7F4D5C25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B90AF-E601-471D-BA50-C2EC73BD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4A6AC-3545-4B64-B732-97D8C8C0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9137D-ADE1-49EC-8D3C-F2190497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F54FA-E4E2-4FFB-979B-AE7B4FF4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5A1-DC8D-47FF-AC89-F57BC7B3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5308C-F5FE-4BDB-B73F-8C14A084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3E1D2-DC07-4470-9CBA-13ADC862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27C31-04E4-408F-9FA2-78996A66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B8CCD-C20F-46CC-8259-A412DBBA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CE2D9-CEA4-441C-99EB-21E512EE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DF4DA-BFC9-4580-BFB7-C3F093A3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3AC32-3F2D-4E21-B362-4825CD57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6C7CD-14F8-4EF7-9CEC-AF23C6EA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2E584-926E-44FD-87B3-EBA0163F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D4471-4007-4A73-8250-F55C596E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98F-4680-4C14-AE15-8C8EC039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74C40-946C-4707-B8EE-1815E28D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AC19C-B410-4E37-8182-FCACC236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7EBAC-DDC0-4006-8DBE-1D73D718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03DC9-8ADD-44AA-B8F7-DF10BBCB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50719-26EB-444A-A022-4E4E8510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E04-85E9-44CA-A74C-2C7F0978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992-FFCE-438B-8596-0302F3FF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408-C485-4677-A6B8-A96426EC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5BF-42A6-4DD4-8CA0-6DBC271B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5B1-72E6-49BF-AFA8-E05264E9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654-8AF4-4B29-BF03-A767EFC8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A0F-BCD8-4B6A-B44D-414BD8FC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05C-24F0-4EB1-8FC6-3A798E1C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95C-5E70-4E04-9D32-B33E9657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6F5-E1B7-434A-9979-C9CAA646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FD76-EB1A-4017-8712-770B5696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FC8A-FF57-488F-A2BA-F1606F8F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E2AD-BA31-4BA3-8039-A21464AF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83FD-BED8-4C4F-82C9-740EE8B6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B34C-33F7-4136-99C2-1F2F6C21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48E0-9D9F-4C6A-B74A-7A049D85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3525-5E6A-4D49-AF3F-A29637C9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0C70-3B6B-4052-84C0-0CFD1275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6BDD-103A-457B-810C-5CD3DCD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91B6-F05A-4EAE-B8DE-0B7A248E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AB0D-1A00-4F47-9E4B-CAC13278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CA7E-806A-4315-8954-71442B26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7D4E-3486-45CC-9249-A2845C8B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CE59-F9EF-427F-A06C-2B624EE1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6C16-B8F7-4484-AA68-C99DA430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85EC-CD1A-4D57-8AC3-2D39BB53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CC93-B9DF-4739-8EC4-9D1CFC2D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6D04-AA10-4540-B874-B2DA752F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EB83-6E95-43B3-AE94-5F4A1A94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68DF3-173C-4887-8464-12AB945D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F234-8E6E-489C-AA4D-489DC23C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81C9-152E-4090-BD5E-7C1A8D32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FB25C-A13E-4374-A632-AB5348A2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53425-3621-4AD2-92EF-B4A7C6A5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B006-90C3-4972-8221-6D103BA9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37961-D546-4F16-8896-4639D1C3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0892-2189-420C-990B-2CA5E787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55D8-FB98-4468-90C6-B11BED2C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ED64A-5EE6-40DB-AC64-BCFCC716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3308B-3E54-4457-B608-806E354B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B4401-8731-4BEC-B81B-6A74F638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C638-19D5-454C-8A39-8E29DF3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1F643-EDBB-4FB4-849D-78348CF9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819F2-754A-4FC0-B725-9F092804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ABAF2-4494-4D9B-ABE2-373FC024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A9EAF-03F1-48D3-8A2C-33A67797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2015A-6B39-4557-9EC2-6ABDD6EA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1154-06E5-49EC-8626-470E5749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3529E-E00D-41A5-BB26-90803F28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B1E9-42B0-4FF6-988A-A78B393E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DED5B-2519-4A20-B275-8553682C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5928-25D4-42DB-B8FE-ECBDEBB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6C07F-0768-40E1-9701-D9B9FE8D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15FF4-D0D8-44F3-A4E1-5EA82B03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1DDA2-C365-4209-9B67-4B733ECC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D0BFF-36A9-4569-9A29-8E9EFC88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31453-AEAB-49A5-8EB1-B6199CBC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6FE3-037C-434D-95EE-FF8D3689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F2016-D1CD-483E-82F8-EEF11E0D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7B7B-B71B-451B-8F86-0CBCCCE2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F422E-E34B-4AF1-9F81-2F178ADB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0B328-CCE0-429B-B8F7-B96D94FA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88D54-1DF8-43DB-984B-7D785888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D77EE-0E80-4216-BAAC-DCF2A291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D259B-CD38-4F9E-B51C-64C16175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B2614-5EC7-48AD-8EFC-D3C0FA59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E3F2E-66EE-4D10-ABB0-3EB3E005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270FE-33FA-4239-8139-FAD870F0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D960E-930F-4D8B-A437-DF50F6D7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22979-A877-4AD3-8E74-E59D36CE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5958D-C9C5-4AE4-B806-D304A449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EF8E0-B069-41A8-993B-2815C2D1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34740-6E3A-4475-8490-F5B35578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17B61-D1E9-473A-A261-12A2CCDB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C3958-78F5-4553-AD1D-86FE8790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89362-860B-4E3D-B776-EF336A9D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5087-44A5-42AE-87F5-297E907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F8843-5AA1-41F0-BBA5-CCEFDFDF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C96ED-5E35-450F-A85F-86090A5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40FA0-37AA-474F-956B-E00927F6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54E7C-768C-4E12-AEA6-F95DA16D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CCAFC-496C-477B-A271-39E0F385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DDD5E-C0AD-489C-9439-71F21A5A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4F193-3F43-4A81-A6D5-D4CB457D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8FB5D-C6E9-41A0-B2C7-9EB85595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E309-B0DA-471B-AF5F-A9CCAD8C2DB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F340-8682-4737-85E0-C55B54263DC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DCA9-1227-41EF-9A95-B911D3D2DF2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0EBE-61ED-4B58-A791-128AAE6AF5B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945E-0972-42AC-9869-C7DE940BE27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606C-C769-4AD7-8EBF-31F22BFF101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B7D2-825F-4AB9-87A7-AC41B104AE1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1470-A979-4989-A2C8-7BB8C980D9D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4973-85D4-4CB0-A178-D3AA3C04B166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55C0-AF8D-4DB4-B9A2-AE564D500F4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C7CE-B3E2-4528-A4AC-22053AF4680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4"/>
          <p:cNvSpPr/>
          <p:nvPr/>
        </p:nvSpPr>
        <p:spPr>
          <a:xfrm>
            <a:off x="3522960" y="1714032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595959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9"/>
          <p:cNvSpPr/>
          <p:nvPr/>
        </p:nvSpPr>
        <p:spPr>
          <a:xfrm>
            <a:off x="2937240" y="415800"/>
            <a:ext cx="441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</a:t>
            </a:r>
            <a:r>
              <a:rPr b="0" lang="ja-JP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10" descr="あたり用写真.jpg"/>
          <p:cNvPicPr/>
          <p:nvPr/>
        </p:nvPicPr>
        <p:blipFill>
          <a:blip r:embed="rId1"/>
          <a:stretch/>
        </p:blipFill>
        <p:spPr>
          <a:xfrm>
            <a:off x="1184400" y="447516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85" name="テキスト ボックス 11"/>
          <p:cNvSpPr/>
          <p:nvPr/>
        </p:nvSpPr>
        <p:spPr>
          <a:xfrm>
            <a:off x="1274760" y="3459240"/>
            <a:ext cx="79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12"/>
          <p:cNvSpPr/>
          <p:nvPr/>
        </p:nvSpPr>
        <p:spPr>
          <a:xfrm>
            <a:off x="5216400" y="450864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図 13" descr="あたり用写真.jpg"/>
          <p:cNvPicPr/>
          <p:nvPr/>
        </p:nvPicPr>
        <p:blipFill>
          <a:blip r:embed="rId2"/>
          <a:stretch/>
        </p:blipFill>
        <p:spPr>
          <a:xfrm>
            <a:off x="1184400" y="895824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14"/>
          <p:cNvSpPr/>
          <p:nvPr/>
        </p:nvSpPr>
        <p:spPr>
          <a:xfrm>
            <a:off x="1274760" y="7869240"/>
            <a:ext cx="78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15"/>
          <p:cNvSpPr/>
          <p:nvPr/>
        </p:nvSpPr>
        <p:spPr>
          <a:xfrm>
            <a:off x="5216400" y="898992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図 16" descr="あたり用写真.jpg"/>
          <p:cNvPicPr/>
          <p:nvPr/>
        </p:nvPicPr>
        <p:blipFill>
          <a:blip r:embed="rId3"/>
          <a:stretch/>
        </p:blipFill>
        <p:spPr>
          <a:xfrm>
            <a:off x="1184400" y="1338732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91" name="テキスト ボックス 17"/>
          <p:cNvSpPr/>
          <p:nvPr/>
        </p:nvSpPr>
        <p:spPr>
          <a:xfrm>
            <a:off x="1274760" y="12306240"/>
            <a:ext cx="78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8"/>
          <p:cNvSpPr/>
          <p:nvPr/>
        </p:nvSpPr>
        <p:spPr>
          <a:xfrm>
            <a:off x="5216400" y="1341756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図 19" descr="news_title.png"/>
          <p:cNvPicPr/>
          <p:nvPr/>
        </p:nvPicPr>
        <p:blipFill>
          <a:blip r:embed="rId4"/>
          <a:stretch/>
        </p:blipFill>
        <p:spPr>
          <a:xfrm>
            <a:off x="2163600" y="1012680"/>
            <a:ext cx="5962680" cy="2302200"/>
          </a:xfrm>
          <a:prstGeom prst="rect">
            <a:avLst/>
          </a:prstGeom>
          <a:ln w="0">
            <a:noFill/>
          </a:ln>
        </p:spPr>
      </p:pic>
      <p:pic>
        <p:nvPicPr>
          <p:cNvPr id="494" name="図 20" descr="line.png"/>
          <p:cNvPicPr/>
          <p:nvPr/>
        </p:nvPicPr>
        <p:blipFill>
          <a:blip r:embed="rId5"/>
          <a:stretch/>
        </p:blipFill>
        <p:spPr>
          <a:xfrm>
            <a:off x="801720" y="7454880"/>
            <a:ext cx="8686800" cy="193680"/>
          </a:xfrm>
          <a:prstGeom prst="rect">
            <a:avLst/>
          </a:prstGeom>
          <a:ln w="0">
            <a:noFill/>
          </a:ln>
        </p:spPr>
      </p:pic>
      <p:pic>
        <p:nvPicPr>
          <p:cNvPr id="495" name="図 21" descr="line.png"/>
          <p:cNvPicPr/>
          <p:nvPr/>
        </p:nvPicPr>
        <p:blipFill>
          <a:blip r:embed="rId6"/>
          <a:stretch/>
        </p:blipFill>
        <p:spPr>
          <a:xfrm>
            <a:off x="801720" y="11999880"/>
            <a:ext cx="868680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6:17:22Z</dcterms:modified>
  <cp:revision>46</cp:revision>
  <dc:subject/>
  <dc:title>スライド 1</dc:title>
</cp:coreProperties>
</file>