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10288588" cy="1829593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40212-D807-44F9-8927-6DBB1771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52ABB-0A4E-4326-9F99-D789C234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EE491-D154-458A-BE57-238375F6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419DD-53BF-414A-A2EE-2AC74526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3908C-FDEA-4677-8108-5B280B4C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02921-1DE3-4C16-8C6A-7C4B6E9D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5E4C9-6A17-42EA-9B4F-0D0EF58D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533FE-EB96-40B5-B1AA-407E520A2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C7A11-920C-4388-AC1C-04A5199F6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F67D0-EC46-48AD-BA18-B1A0691F7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99E3FB-DF31-40F2-973F-D277C2E8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E849F-434E-4668-BEDB-4A9E621F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E2714-4604-44F6-AA44-1D4F4F43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B8599-D6BE-45BD-AF38-8B0FCA34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22440-0312-4D05-9E1C-5172B382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CD08A-B4BF-464B-9BB5-7E0DAFFA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FCB9D-F466-4915-9959-F208E741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2F2E78-99C5-45D5-89A1-50BD4EB2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7604D-BCCA-462E-87B2-41E5B75D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B56655-29E9-45DD-8DEE-B8249C7ED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AA351-E9F2-45CE-AA4E-A1A039031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35DDB0-4626-4BB0-B069-A7FC8635B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25E670-5200-454D-A5F7-68C53A51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7B4387-75DF-4668-BA3C-85BA8AA8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83036-0019-4E44-BA50-4B839510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A0196-6226-4BE2-AAD6-6221C679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08FAE9-AFC9-43D9-8C1B-11858DBC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16E3EC-FA74-4312-B354-5ECD59BE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3275D-1973-4AC2-A6B9-B1C1D8F8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FB2C30-6C8D-4842-9359-549B8123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F442-789A-4730-B762-C985D017D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A4FD3-C889-4DA7-903C-D59C4AA2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1666C4-DAB4-47AD-9B7B-73F1E440A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B7872-4CCF-40C1-B103-1EABFB42B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27BFD-F34F-40EC-A53D-E222C9EF2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AE64C-8DF4-4D8D-ACCA-A81686C6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C464F-4825-4B71-92BC-A39563AC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99C0C-D60C-4078-ADB1-372D9E00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75310-0D00-441A-9422-DF9C5FA4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88A06-C5A5-4ADF-9467-1CF3798B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198D8-41C3-4B6A-96AC-A5F2A26D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9CAD-FB15-4847-B399-56C7E8D4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995FE-6CCA-47BB-ACC5-6FFFE8EC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35BB4-B928-41B7-9F0D-E717A154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0194B-AFA3-465A-856D-99AD8103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43F55-82C6-45BA-ACA0-98C6E0F94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13D0A-A800-479B-8136-156E2AF9A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AC87-D880-4930-A369-72E0DC93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CDE0-FF73-4D47-9FBB-E77B93E2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80EE-A5D9-41FC-B1D3-FAA6CB66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F8E3-AB02-4B9C-A0E4-296232EB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4D42-7837-4C5B-9C52-6C10A349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C207-9CB8-4671-BF06-C5B6E4D3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C1E0-1257-457F-94D1-78FF2F23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E7F0-F955-46FC-AEC9-385D5C7F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8128-5ED9-426D-AE92-CD3214E37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653F-968D-40CD-9197-73124FE4E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1903-E9DF-4370-B136-1085F144A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AEDF-FE89-4720-9AEA-B050FABB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0F9E-0A42-4098-B22E-B150BE81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1FC9-CF51-4FDA-A37F-59B5A402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7BE5-87E0-4D93-8611-94CE78EC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9FE6-7F4E-4C2F-94CF-C53F73CE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40E4-41F7-425A-BCF9-640BB9F8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8F90-CA59-4B9E-AE89-EC6576A3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DAC6-3CA9-4ED1-A7F2-5D1CEB26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EED9-F98C-4A8E-8AC7-3EC6EDAF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A2D5-17C7-47FB-B904-27F678044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909A-DBBC-464D-A921-E42E5D0C2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D8079-0546-460F-83D9-CB4EF51CF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8D5D4-1D62-444B-BC5A-3EFB4918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6F0AE-9950-40D2-88CF-283A6519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0C2E0-E461-4FFD-95D5-2E1C0F50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F375C-F665-4302-8813-0285FE25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09F53-0437-4028-B778-C24DDEBD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D6C5D-E845-4591-B130-B6D8C3F8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CCAAA-043F-4C4F-AFA0-FDA49DCC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7FAF5-9CBC-4A47-93A6-386AAE5E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8A346-0A57-4F26-932D-2D3795CD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24401-1387-438C-8AE9-93BF999A0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DABB1-F5A7-4045-A506-FC03837A9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C7632-D6C9-4F73-8001-ED2324627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26BAD-AA49-4942-8BC7-0E7AD74F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9D9E4-E9C7-4508-9FEC-8DEB8594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D206C-F2FA-4F9B-B95C-BEC21DB7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FD45C-8EAE-4780-953F-70A87203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43536-4568-4BC1-A126-4B41B34B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E63D0-F99C-4208-8D05-3986B25E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B0860-621B-40BE-A252-AF0C92A1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3460A-68BB-4741-A636-8740D8F3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66211-0E58-440F-8956-A7A320AC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4A54B-0F10-4FC7-A04F-9DA50AD6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63230-E139-4AB7-BAEF-3DF735CC7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9D263-3FCA-40DD-BE87-F8690F0E4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5FDF1-9CC8-465E-BF9A-F0A7549B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05A90-E0B9-48D7-966C-2B206242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722C0-7319-4226-810C-7E127F68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15D06-DFE8-46FF-8CBF-5FB7D321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84743-00B1-44AD-96D1-3F2FCDA3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4838C-A1BF-4A05-8682-29087197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D2A2F-F8E8-40BA-BA94-727D494C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BB6B2-2A36-4743-A3C7-D1156BB2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C3250-B34C-45A4-AEBD-6B6D8612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074CE-D806-47EE-8354-450F83EBF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7253A-60FC-432F-BDFE-364EDBB6D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7204A-C2A1-4A5D-ABB7-92C48506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83A9D-B2DC-416A-9FED-084C0FE0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0D0AE-D008-4232-95FE-BB062199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C495C-749F-40EC-8CB7-24AD0BBA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5592E-C51A-4F87-9EDC-F8383766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E2941-10FF-490E-BDBB-02DDB735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8B89F-2220-4796-BFAC-72304824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EF06D-5D24-48AC-BCEE-023E5D6B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0CF92-5CA4-4DED-AA55-34C29927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0F2C2-C2FD-414B-8F11-FC83F950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514B7-4087-4333-BF15-4A4153877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DEDE6-B17D-492C-9996-F3E278BBC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89CE0-3E40-4B7B-BD29-62EB570FB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95252-8980-4F20-AE48-5A350C1B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2E55F-9434-4076-B5F1-13AAB782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E39FA-9236-4B0A-B789-CAC3C07E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89D9C-5290-40F4-B931-43D313C1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BD024-B848-4481-A907-10545914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F6262-D416-4692-89FA-CEDAEAAB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60C5A-68D0-43FF-8FFE-49EF1551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8C38A-471C-48E8-B031-8ABFBE8E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1D4F9-3ED7-43D5-B703-E8DEAA58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3816C-789F-4BD3-A0B0-6BE6DF5CF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742F5-0985-4532-8BA7-D1FDA5D63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7F46F-2C82-4D1C-A5FD-1C53E2503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5FEB9-573D-4A94-BB49-8FAFC483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7CCEC-AB01-4109-9574-73E292FB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624E-D614-44BE-B887-D3C2ABE3AB9D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12AE-1626-4444-ABBD-0E89CD36F4AB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55A8-5072-42F4-81A4-E3A7AF9F2606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8154-0AFC-4459-B71C-87D7111B2A89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A017-4527-43FA-90AC-03D46D3D9A58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7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8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9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DD38-238C-4E8E-9493-1F2BEF666901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10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11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2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3504-D10F-4F3F-B871-38EB00268E42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3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4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5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2742-F6B6-4D98-8861-BD44A17107AC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6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7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8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8972-9A59-4397-AEA4-79E541035D8A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9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20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21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A4AB-3E3E-4C7B-929D-2D921DC25341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body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C960-50F4-46AB-80F7-D8F9E2D052E7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9"/>
          <p:cNvSpPr/>
          <p:nvPr/>
        </p:nvSpPr>
        <p:spPr>
          <a:xfrm>
            <a:off x="-6448320" y="13900320"/>
            <a:ext cx="482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テキスト ボックス 1"/>
          <p:cNvSpPr/>
          <p:nvPr/>
        </p:nvSpPr>
        <p:spPr>
          <a:xfrm>
            <a:off x="6927840" y="104299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正方形/長方形 2"/>
          <p:cNvSpPr/>
          <p:nvPr/>
        </p:nvSpPr>
        <p:spPr>
          <a:xfrm>
            <a:off x="0" y="16708320"/>
            <a:ext cx="10290240" cy="158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テキスト ボックス 4"/>
          <p:cNvSpPr/>
          <p:nvPr/>
        </p:nvSpPr>
        <p:spPr>
          <a:xfrm>
            <a:off x="3522960" y="17140320"/>
            <a:ext cx="32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595959"/>
                </a:solidFill>
                <a:latin typeface="Arial"/>
              </a:rPr>
              <a:t>○○○○●○○○○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テキスト ボックス 9"/>
          <p:cNvSpPr/>
          <p:nvPr/>
        </p:nvSpPr>
        <p:spPr>
          <a:xfrm>
            <a:off x="2937240" y="415800"/>
            <a:ext cx="4415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</a:t>
            </a:r>
            <a:r>
              <a:rPr b="0" lang="ja-JP" sz="4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図 10" descr="あたり用写真.jpg"/>
          <p:cNvPicPr/>
          <p:nvPr/>
        </p:nvPicPr>
        <p:blipFill>
          <a:blip r:embed="rId1"/>
          <a:stretch/>
        </p:blipFill>
        <p:spPr>
          <a:xfrm>
            <a:off x="1184400" y="4475160"/>
            <a:ext cx="3636720" cy="2727360"/>
          </a:xfrm>
          <a:prstGeom prst="rect">
            <a:avLst/>
          </a:prstGeom>
          <a:ln w="0">
            <a:noFill/>
          </a:ln>
        </p:spPr>
      </p:pic>
      <p:sp>
        <p:nvSpPr>
          <p:cNvPr id="485" name="テキスト ボックス 11"/>
          <p:cNvSpPr/>
          <p:nvPr/>
        </p:nvSpPr>
        <p:spPr>
          <a:xfrm>
            <a:off x="1274760" y="3459240"/>
            <a:ext cx="790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テキスト ボックス 12"/>
          <p:cNvSpPr/>
          <p:nvPr/>
        </p:nvSpPr>
        <p:spPr>
          <a:xfrm>
            <a:off x="5216400" y="4508640"/>
            <a:ext cx="374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図 13" descr="あたり用写真.jpg"/>
          <p:cNvPicPr/>
          <p:nvPr/>
        </p:nvPicPr>
        <p:blipFill>
          <a:blip r:embed="rId2"/>
          <a:stretch/>
        </p:blipFill>
        <p:spPr>
          <a:xfrm>
            <a:off x="1184400" y="8958240"/>
            <a:ext cx="3636720" cy="2727360"/>
          </a:xfrm>
          <a:prstGeom prst="rect">
            <a:avLst/>
          </a:prstGeom>
          <a:ln w="0">
            <a:noFill/>
          </a:ln>
        </p:spPr>
      </p:pic>
      <p:sp>
        <p:nvSpPr>
          <p:cNvPr id="488" name="テキスト ボックス 14"/>
          <p:cNvSpPr/>
          <p:nvPr/>
        </p:nvSpPr>
        <p:spPr>
          <a:xfrm>
            <a:off x="1274760" y="7869240"/>
            <a:ext cx="783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テキスト ボックス 15"/>
          <p:cNvSpPr/>
          <p:nvPr/>
        </p:nvSpPr>
        <p:spPr>
          <a:xfrm>
            <a:off x="5216400" y="8989920"/>
            <a:ext cx="374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図 16" descr="あたり用写真.jpg"/>
          <p:cNvPicPr/>
          <p:nvPr/>
        </p:nvPicPr>
        <p:blipFill>
          <a:blip r:embed="rId3"/>
          <a:stretch/>
        </p:blipFill>
        <p:spPr>
          <a:xfrm>
            <a:off x="1184400" y="13387320"/>
            <a:ext cx="3636720" cy="2727360"/>
          </a:xfrm>
          <a:prstGeom prst="rect">
            <a:avLst/>
          </a:prstGeom>
          <a:ln w="0">
            <a:noFill/>
          </a:ln>
        </p:spPr>
      </p:pic>
      <p:sp>
        <p:nvSpPr>
          <p:cNvPr id="491" name="テキスト ボックス 17"/>
          <p:cNvSpPr/>
          <p:nvPr/>
        </p:nvSpPr>
        <p:spPr>
          <a:xfrm>
            <a:off x="1274760" y="12306240"/>
            <a:ext cx="783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テキスト ボックス 18"/>
          <p:cNvSpPr/>
          <p:nvPr/>
        </p:nvSpPr>
        <p:spPr>
          <a:xfrm>
            <a:off x="5216400" y="13417560"/>
            <a:ext cx="374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図 19" descr="news_title.png"/>
          <p:cNvPicPr/>
          <p:nvPr/>
        </p:nvPicPr>
        <p:blipFill>
          <a:blip r:embed="rId4"/>
          <a:stretch/>
        </p:blipFill>
        <p:spPr>
          <a:xfrm>
            <a:off x="2163600" y="1012680"/>
            <a:ext cx="5962680" cy="2302200"/>
          </a:xfrm>
          <a:prstGeom prst="rect">
            <a:avLst/>
          </a:prstGeom>
          <a:ln w="0">
            <a:noFill/>
          </a:ln>
        </p:spPr>
      </p:pic>
      <p:pic>
        <p:nvPicPr>
          <p:cNvPr id="494" name="図 20" descr="line.png"/>
          <p:cNvPicPr/>
          <p:nvPr/>
        </p:nvPicPr>
        <p:blipFill>
          <a:blip r:embed="rId5"/>
          <a:stretch/>
        </p:blipFill>
        <p:spPr>
          <a:xfrm>
            <a:off x="801720" y="7454880"/>
            <a:ext cx="8686800" cy="193680"/>
          </a:xfrm>
          <a:prstGeom prst="rect">
            <a:avLst/>
          </a:prstGeom>
          <a:ln w="0">
            <a:noFill/>
          </a:ln>
        </p:spPr>
      </p:pic>
      <p:pic>
        <p:nvPicPr>
          <p:cNvPr id="495" name="図 21" descr="line.png"/>
          <p:cNvPicPr/>
          <p:nvPr/>
        </p:nvPicPr>
        <p:blipFill>
          <a:blip r:embed="rId6"/>
          <a:stretch/>
        </p:blipFill>
        <p:spPr>
          <a:xfrm>
            <a:off x="801720" y="11999880"/>
            <a:ext cx="8686800" cy="1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3</cp:lastModifiedBy>
  <dcterms:modified xsi:type="dcterms:W3CDTF">2017-01-23T06:17:22Z</dcterms:modified>
  <cp:revision>46</cp:revision>
  <dc:subject/>
  <dc:title>スライド 1</dc:title>
</cp:coreProperties>
</file>