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F92CC-845D-4655-B54A-08A20F9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00F8-1871-4EEE-985D-A04BAAB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683E-1440-4357-A61F-A964E88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BE94A-665E-4B50-891A-E5BFE6A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B1DF-E79F-4B26-A581-A9D2E5C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5F2C3-DA17-466A-906C-7A6EEB7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FD4D-E614-4FB2-BF08-52700B3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D5DB-F21C-481E-93B5-3CAE5F36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CCF9-4075-4F84-9F4F-E56348F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41505-7567-490C-9C21-58123E91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7932-E28A-4937-AA23-D9169AAE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2D24-9C8B-4CCB-9F30-995771CB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1DB4-E33E-41B9-BF4C-74647F3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CD479-28D7-4AF3-8D99-616B1EA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06DB3-BA55-44F6-994E-C1C30D63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A25AB-4FB7-4102-B2F1-34842557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5C7B-7F80-48F6-9AE6-17A79D1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2F41-3946-4901-8806-2E6752A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1925-741A-454E-8F39-F42D48D2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AFCA8-5B87-4500-AC56-7643CBB2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B0BBE-2001-4BF1-936C-3C68B887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8872A-27BF-4A31-91BC-748B4116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F587F-2DB6-44FD-B3E4-B5EFC6E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2EB0C-E8F5-4DD8-ABC0-BD018F46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31D3-9184-4F29-A4C1-0A42C11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DFD8B-6543-40AA-899D-95B22DE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617A9-98F4-49FA-A86F-3BF80E7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794E5-6286-408A-A149-C7D7A64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E8ED-3CE9-4BE9-81FC-21844B1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42A41-C3D8-4622-B56A-5C760DD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31F-984F-45D5-90A3-DF89073D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21BA2-DB60-4E00-A174-493E317F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65BDE-49C2-47A8-A324-42036E2B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C8CB3-6959-4DFD-B704-68BD7635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D82FE-6C3E-490C-8BD3-8A9EC28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DB78-E8A1-496C-9B92-26EEB10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5409-7616-43C4-AC9F-1BE1276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D7455-D945-44B7-B858-0A3B804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73EA2-7057-4B9D-B53D-D218554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740D-86A5-4CA1-9CFD-D525A180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975C6-627F-4432-ABF8-6747D96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ABB-E485-4B9D-87E7-9138D5B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6078-0269-4DCE-90BC-D91D368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2399-1058-41C2-BFE4-27019DE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43E79-6CFD-4D33-99D2-F938358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9C8D-231F-4447-8B36-D89453FF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2E3BC-DD43-4513-BBB6-8D5DB33C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081-B738-4E80-A641-FC9B841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C5A-7483-4670-9648-95F085F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6E4-59EB-48B7-B273-252D6741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B88-5E92-40E4-8605-A454BEF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A16-83E4-44EB-8B57-06BA4CF1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28E-FBBB-4FCF-AE82-B5436FF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1B6-FD62-4E06-9458-94214D1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88A-6E18-4CA5-9933-D975AD0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FDA-783A-4D0F-A56A-ACAC18F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B2A-29A8-4BEF-ACF0-2D482EFD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C2C7-4A81-4A6E-9279-A65C2682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C0AC-7A83-4C49-825C-FE86B2E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9143-DAA4-4A51-A376-D707A72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0411-AD79-49A0-8A58-0C4E193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FA5-BEF1-49D4-A159-52201530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A11-E567-46A9-81A4-A8B4E72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6C1-0D5C-4E1D-A89A-F0EC64E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F1A8-42C8-42A2-9898-78355C9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C981-2DBB-4B4F-8E91-9E209BC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F5E-56EE-4EC2-94D4-F2B3B80C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B8FA-D9AA-4CBD-BB2C-C976045D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84E-FE87-48F2-8EDC-CED0405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F7D0-3001-4261-8E95-3D61CEA4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09A2-406B-4679-A2D2-E57C45E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7BAF-9080-48FB-8AE5-31A03F7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2D8B-1A8C-4908-8A6B-B8C086F9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7189-BDF5-4B30-B619-98F5AF7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FB7A-1855-4C0D-B717-24040ABC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44B1-B685-4367-A752-407E2DA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05A1-C7D1-48F2-A9E3-E37E053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4A84-4762-4F47-817B-B265513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A940-A61F-407F-880E-17273F00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8397-F9D2-4706-B6B8-70058EF7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A004-CFB2-4C4B-B57C-FAD0731A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09A1-772C-4AE1-9093-EBAADCA1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BB79-2C0F-49B8-B215-FF1E47EF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D026-25A7-41B9-882A-0F9FD6E7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E444-10F1-4959-8955-2259300D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F03F-855C-4792-8EE8-51CCC38C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6BDD-590A-443B-8BC5-D9665FC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123A-FE85-4BC7-AA31-C503289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0DB80-B212-4F5F-8855-D0AE00A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84B0-9B7B-41BF-B9C7-714C3DC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55C9-3349-4810-9D68-9703B3BA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F93A-F444-4EFA-826A-0255A908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C5F6-7DD9-4898-AB3F-08B242EF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D6DD-7573-4796-9EE1-EA2F2768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9A13-F9D4-482B-AAD1-87983EC2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83DF-A35F-449D-81DF-837F980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ECF1-51B7-44EF-905A-B6AF02BE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F29D-54BD-4174-9175-8BBCFB5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4955-EE5B-4023-A19F-49068DA4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0DC6-A4CF-4636-9DF3-713EA85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E8C7-BC5A-42CD-B576-302EA19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4A51-47F5-42CD-BB5A-E2F0FC10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6A4D-5D81-4F26-9466-B8BD0F4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58D0-F932-4779-935B-31171B26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3139-870D-4840-A050-177C84C8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AF17-5266-47FC-8FEE-0747ADFE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953C-B71E-4904-BAC7-F0C16B86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6998-8FEA-4A9F-8B0C-5E337D70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7F3A7-D8B4-4547-A599-ED88293E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10DEA-5EF9-4C2B-ADB0-3631DA85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ECD2-E1D1-49AD-A7CA-418E188E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DFA8-195F-48F9-A026-8C01B8F9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68975-1664-42FB-8615-240558D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F3679-76CE-4A69-AA38-1AEC0C8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A883-C4EE-411F-94EE-65EA1ED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029D-FF63-4AA1-A75C-EBB704B5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4F6A-E208-4B3A-B94F-62A9863E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1850F-5072-4729-AD02-777DD5B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64A5-78D1-4EC1-8ACC-25B98CC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0F62-336D-4F02-8E84-C01D9A3E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D4A1-FDC8-41EC-9735-83A52AA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CC8E6-9737-4AAE-A8E1-A6CC36C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5C06-8E37-485C-BA3F-63EB663B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7673-0020-47EB-B40A-93C7621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0DD35-86FA-411F-A8CC-25074D8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771A-1346-443D-849B-D091542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13B4-0C60-4D7D-900B-B6BFC051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D107-96D9-4482-AD6B-D7B7D969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E3DD-6458-44E3-A5CC-DBE2A84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2FCD-6BC2-445C-86EB-DB34F5D4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1C208-DF50-41BD-9403-5E6561D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0150D-F975-4DAE-AA61-8153D08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F441-121F-4AB9-A9FB-C0F155DB048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C16-3EB9-49EF-9495-2FA6B630E7C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FF44-77B7-4318-ABE0-6C6BD772F96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390-8BA2-4DF7-A3C5-4E8F785D787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F2A-F977-4AF3-9438-37355481B97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A59E-204A-4368-A250-7E76D5ECB59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6C8-593D-4CA0-A43B-9490A21E07D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781-B793-4603-9B89-29C0002246B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919-3D77-409A-8CC5-915B6AF0F2D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C31-A66D-4522-BFBB-4639A6099E6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図 1" descr="ニュースリメイク縦_背景-01.jpg"/>
          <p:cNvPicPr/>
          <p:nvPr/>
        </p:nvPicPr>
        <p:blipFill>
          <a:blip r:embed="rId2"/>
          <a:stretch/>
        </p:blipFill>
        <p:spPr>
          <a:xfrm>
            <a:off x="0" y="0"/>
            <a:ext cx="10368000" cy="184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40BD-533D-4074-B3D4-A6895CA4C512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4"/>
          <p:cNvSpPr/>
          <p:nvPr/>
        </p:nvSpPr>
        <p:spPr>
          <a:xfrm>
            <a:off x="3522960" y="1714032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595959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9"/>
          <p:cNvSpPr/>
          <p:nvPr/>
        </p:nvSpPr>
        <p:spPr>
          <a:xfrm>
            <a:off x="2937240" y="415800"/>
            <a:ext cx="44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</a:t>
            </a:r>
            <a:r>
              <a:rPr b="0" lang="ja-JP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図 10" descr="あたり用写真.jpg"/>
          <p:cNvPicPr/>
          <p:nvPr/>
        </p:nvPicPr>
        <p:blipFill>
          <a:blip r:embed="rId1"/>
          <a:stretch/>
        </p:blipFill>
        <p:spPr>
          <a:xfrm>
            <a:off x="1184400" y="447516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5" name="テキスト ボックス 11"/>
          <p:cNvSpPr/>
          <p:nvPr/>
        </p:nvSpPr>
        <p:spPr>
          <a:xfrm>
            <a:off x="1274760" y="3459240"/>
            <a:ext cx="79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2"/>
          <p:cNvSpPr/>
          <p:nvPr/>
        </p:nvSpPr>
        <p:spPr>
          <a:xfrm>
            <a:off x="5216400" y="450864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図 13" descr="あたり用写真.jpg"/>
          <p:cNvPicPr/>
          <p:nvPr/>
        </p:nvPicPr>
        <p:blipFill>
          <a:blip r:embed="rId2"/>
          <a:stretch/>
        </p:blipFill>
        <p:spPr>
          <a:xfrm>
            <a:off x="1184400" y="895824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14"/>
          <p:cNvSpPr/>
          <p:nvPr/>
        </p:nvSpPr>
        <p:spPr>
          <a:xfrm>
            <a:off x="1274760" y="7869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5"/>
          <p:cNvSpPr/>
          <p:nvPr/>
        </p:nvSpPr>
        <p:spPr>
          <a:xfrm>
            <a:off x="5216400" y="898992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図 16" descr="あたり用写真.jpg"/>
          <p:cNvPicPr/>
          <p:nvPr/>
        </p:nvPicPr>
        <p:blipFill>
          <a:blip r:embed="rId3"/>
          <a:stretch/>
        </p:blipFill>
        <p:spPr>
          <a:xfrm>
            <a:off x="1184400" y="13387320"/>
            <a:ext cx="3636720" cy="272736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17"/>
          <p:cNvSpPr/>
          <p:nvPr/>
        </p:nvSpPr>
        <p:spPr>
          <a:xfrm>
            <a:off x="1274760" y="12306240"/>
            <a:ext cx="78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8"/>
          <p:cNvSpPr/>
          <p:nvPr/>
        </p:nvSpPr>
        <p:spPr>
          <a:xfrm>
            <a:off x="5216400" y="1341756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○○○○●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図 19" descr="news_title.png"/>
          <p:cNvPicPr/>
          <p:nvPr/>
        </p:nvPicPr>
        <p:blipFill>
          <a:blip r:embed="rId4"/>
          <a:stretch/>
        </p:blipFill>
        <p:spPr>
          <a:xfrm>
            <a:off x="2163600" y="1012680"/>
            <a:ext cx="5962680" cy="2302200"/>
          </a:xfrm>
          <a:prstGeom prst="rect">
            <a:avLst/>
          </a:prstGeom>
          <a:ln w="0">
            <a:noFill/>
          </a:ln>
        </p:spPr>
      </p:pic>
      <p:pic>
        <p:nvPicPr>
          <p:cNvPr id="494" name="図 20" descr="line.png"/>
          <p:cNvPicPr/>
          <p:nvPr/>
        </p:nvPicPr>
        <p:blipFill>
          <a:blip r:embed="rId5"/>
          <a:stretch/>
        </p:blipFill>
        <p:spPr>
          <a:xfrm>
            <a:off x="801720" y="7454880"/>
            <a:ext cx="8686800" cy="193680"/>
          </a:xfrm>
          <a:prstGeom prst="rect">
            <a:avLst/>
          </a:prstGeom>
          <a:ln w="0">
            <a:noFill/>
          </a:ln>
        </p:spPr>
      </p:pic>
      <p:pic>
        <p:nvPicPr>
          <p:cNvPr id="495" name="図 21" descr="line.png"/>
          <p:cNvPicPr/>
          <p:nvPr/>
        </p:nvPicPr>
        <p:blipFill>
          <a:blip r:embed="rId6"/>
          <a:stretch/>
        </p:blipFill>
        <p:spPr>
          <a:xfrm>
            <a:off x="801720" y="11999880"/>
            <a:ext cx="868680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17:22Z</dcterms:modified>
  <cp:revision>46</cp:revision>
  <dc:subject/>
  <dc:title>スライド 1</dc:title>
</cp:coreProperties>
</file>