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6E72E-4B53-4918-AE0B-7C518F93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0C953-3920-4C21-A3F4-DDFDCDC8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A55C1-87A8-4273-A287-5E190B28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DB014-AEBB-405C-80E2-1B2393B5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FA559-DA9E-4A44-9EA0-4BAE3473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3B7D9-B825-4405-9099-59C8AE28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1F079-D23E-478F-AA92-EC6109EB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4D630-8494-48DC-BDE0-48AA3668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159A1-D16D-4139-9F78-ED106D4A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E747B-B272-4540-B6C7-2A07B718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4BDAF-A104-4A71-B62C-E9261EF7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6A104-C0F1-4B7D-A59B-9FC5EED1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BCFC7-CE8F-4BCE-956E-E69131EB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C2BC8-ADF5-4D6A-B81A-1CAE4481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C8F1A-1576-4AF5-8A27-B4277FF4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4929C-1961-4895-B9EE-4F8BA267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8516B-4ED1-42E4-A406-9B8A34A7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85404-F5B8-40E2-AB06-1AE9C53E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EB51F-080E-4AB2-9E46-40091C59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D4EE8-DBE6-43E1-BD98-8025279F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26F52-E088-443E-ADD6-8605AE8E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B5120-2E01-413F-ABF4-DB0A0F87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F6FB2-09FF-4204-A961-8D54227C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E81B6-C845-4FDD-84A3-C116FB09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1E004-F47F-4F03-8E17-8FAB3319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D2FD5-9B56-4C1E-847C-A274AC94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C02FD-0145-41A7-9AE8-1E1EFDFD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EA788-ABC8-4C5E-91D0-C4A7A235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4EC82-2A40-4CEE-97FB-D1A11BA1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04B9A-6B68-45A1-8375-E98CEF80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65C4-EAB9-4DAE-8013-D0A91684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143F7-E9F0-4EFC-9B1F-9BCC54A2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62BF1-DD9E-47C6-AABC-E187598C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A1D23-55A8-4B3D-AD35-0185DB8D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A44B9-C72E-4225-BBF8-223AD29D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4B4D1-0708-4CB2-B92F-ECF22932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1D61D-022C-4DE8-A493-F853A968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9F0A5-FC4D-4330-BF0A-31A4CED2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B4710-4BAD-4D63-A20B-8BF4414C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911C5-F67B-470B-827D-524BAA60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7AE4E-9D91-4154-BFC9-6389C561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B528-C9FA-4C17-B26E-EB06CF41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A37EC-FCF0-4A0A-8266-C0A5B052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4F3F2-C548-4315-A1AE-25C89F73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2EED6-E168-485D-B427-35B42AA5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69E8A-7604-4518-A54F-A23435B2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5AD50-1961-437D-ADCD-ABB88D49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48E5-7881-4A3D-82F8-6D298B72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02C3-819B-437B-A287-9284BA74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A917-32DA-4B1C-B4BA-F2C897EB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9C0E-7DED-45AA-A1D1-68C62D98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7E5C-94D5-46A1-8298-43B80EA8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48F7-31D0-4AC6-8F92-F47263E0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C0F9-F40E-4051-B58F-7887A6F8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57A4-84DE-4739-8E39-87E41EB1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D8CF-96E3-41AC-9C29-CD202051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75D3-21CB-46F7-A36C-AB04CCF1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FD72-ACF8-4ED9-AC88-0622AB0C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FFD4-345A-4EA6-8BE4-3A0E150A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A68C-F7D2-4E3E-B782-DCA988A2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3BB2-6F9A-4F68-AAD6-332EA610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9A38-3404-4229-A8BB-2A1377ED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C2A0-CA34-41D8-AB94-88CF4654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5851-A6F4-43B7-8E85-F1F54C15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1670-D770-4C43-A051-1805C162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604C-ECB8-4137-A180-02496256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16DE-88D1-4A32-80FD-6905A347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3919-7206-4ABA-8D16-AFAA4C65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E39B-7976-4A48-BB3D-4AF5871B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DFF52-9843-4B00-BCFE-9CE0C57D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BADA2-066D-4743-A8C5-7EFFB2B0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E81EF-E12B-4769-845C-1ED4CC4F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63540-1B88-49E3-AA19-75B70529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93AEB-BCAB-4990-B93F-F0BF54E3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3028B-906E-40B2-8D5E-00B56C61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AFB4C-F1BD-49D6-8906-2CD2CF41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572ED-F14B-4E8A-8D2E-C7FA67D1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EF61A-E4E5-4854-B45D-3F2D158B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47A53-FA0C-4182-B602-4AB8738D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0926A-2335-46E9-86E6-04B25A45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39EC6-5C41-4489-9ABA-DADCA9B2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65059-1B96-4C11-9D50-2260DFD2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9697D-2504-4F7B-A571-5CA23309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AB2E6-6A59-4A23-8D41-B8C520D5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414EC-BF65-46D2-AC8A-6E045C96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2D9BA-CC59-4614-96CA-FD8B24E4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3A8AB-8962-49FA-9765-1F302DA1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494D9-CFED-464B-86E8-5850BA4A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4386B-4553-48A6-8D6C-CE9BD754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F849F-F16F-4C86-A627-FA3633D6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4C6E3-E2AD-4273-A0ED-EF84E208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2DDFA-3661-4AE1-989A-62A5485C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95057-C81C-4537-B92C-307BEC17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87FC7-E3E2-4BDD-B3EB-99C6DB77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AE528-FBC7-4825-984B-D17126F6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27D08-08A2-48C0-86AA-C4D1A162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DBD79-DA79-4A6B-9147-9778E393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A41CD-7DB2-40BD-A33D-81B6ED63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33BDF-F73E-4040-96DD-F8766772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EE8C9-5F90-47A3-A031-5E6CC7B5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0F509-667D-4DAA-B93C-0A3654D3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41BDC-4876-43D4-93AD-3AC4D557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C305C-B5E3-4E53-81D8-7CC8672D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1ABF9-DA51-4A3A-9D8B-3F4C6ABB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BE41C-8B30-4707-B9E8-075D90B4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713F5-5289-4887-A3DF-60098608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429BC-F1AF-4D6F-B68E-BB3F2003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F28A0-0D3F-40B3-9EDB-EC2B5FCC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86101-0EDD-4CAE-B9E8-A2947202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0FA21-C148-4AFE-B52E-4F67F2A2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9ECD2-7707-49D5-9D99-6980CF69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5F217-F545-4449-BF5D-EBB4C79C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EB319-A44F-41C7-A664-2C8E5071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E5B71-E45B-4079-9B1E-B6B1ACFF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8C38A-2B74-4DBC-8EF3-D4AFAE54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7CB6C-4457-4DC1-B59C-7713B848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D87C2-382C-4EB1-8596-4D6B161C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B1472-55D3-4FD6-B29F-154412FE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C3775-493C-4486-A069-038229AF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B7248-1B46-42BD-BAD8-6EABE707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EB7BE-0D22-4DDE-AFE3-17EE1A3D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EC5BC-89D5-4BD8-B85C-768780E4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9E1DD-024F-46DD-A796-3A48F6F0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65DD7-1C03-4809-BFE6-077DCCCF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62A51-D0DB-4869-928B-B9AC4E1C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800BB-4D7C-457A-B8A7-B38FB825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07B0B-9D81-4435-BAB4-378EECDF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1662F-6547-4D76-BF4A-3480A83E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D1A2B-8E6B-4FC2-9542-D5518A23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08847-A45E-4308-B936-503D8804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E0F1B-B617-4830-ABB0-9ADB2862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CEE28-DED0-4532-B1B2-E9380F14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85F2-F36B-40A9-9DA4-D1EDD01739FF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70C1-F79B-4357-B5A8-AD27EDFF31ED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E399-BF0E-48FE-87D6-B74DE9DFC973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E11A-F76A-47CE-9812-26187B0A61E0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17A4-FC16-465F-8295-CA20D5A9BE34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3267-6C36-47A7-A0F5-9096F7541979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17B9-421B-4DEA-B38D-0D8277C302CA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D68E-E49D-48EF-B021-F75E00FC6B1D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C698-9F2D-48F8-B6A0-891942D84ABC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9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20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21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8F6C-EE84-4B8D-B2A9-17D88D5280FC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body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9492-D3EA-4E8E-B65A-D6D0B816AF25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テキスト ボックス 1"/>
          <p:cNvSpPr/>
          <p:nvPr/>
        </p:nvSpPr>
        <p:spPr>
          <a:xfrm>
            <a:off x="6927840" y="10429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正方形/長方形 2"/>
          <p:cNvSpPr/>
          <p:nvPr/>
        </p:nvSpPr>
        <p:spPr>
          <a:xfrm>
            <a:off x="0" y="16708320"/>
            <a:ext cx="10290240" cy="158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テキスト ボックス 4"/>
          <p:cNvSpPr/>
          <p:nvPr/>
        </p:nvSpPr>
        <p:spPr>
          <a:xfrm>
            <a:off x="3522960" y="17140320"/>
            <a:ext cx="32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595959"/>
                </a:solidFill>
                <a:latin typeface="Arial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テキスト ボックス 9"/>
          <p:cNvSpPr/>
          <p:nvPr/>
        </p:nvSpPr>
        <p:spPr>
          <a:xfrm>
            <a:off x="2937240" y="415800"/>
            <a:ext cx="441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</a:t>
            </a:r>
            <a:r>
              <a:rPr b="0" lang="ja-JP" sz="4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図 10" descr="あたり用写真.jpg"/>
          <p:cNvPicPr/>
          <p:nvPr/>
        </p:nvPicPr>
        <p:blipFill>
          <a:blip r:embed="rId1"/>
          <a:stretch/>
        </p:blipFill>
        <p:spPr>
          <a:xfrm>
            <a:off x="1184400" y="4475160"/>
            <a:ext cx="3636720" cy="2727360"/>
          </a:xfrm>
          <a:prstGeom prst="rect">
            <a:avLst/>
          </a:prstGeom>
          <a:ln w="0">
            <a:noFill/>
          </a:ln>
        </p:spPr>
      </p:pic>
      <p:sp>
        <p:nvSpPr>
          <p:cNvPr id="485" name="テキスト ボックス 11"/>
          <p:cNvSpPr/>
          <p:nvPr/>
        </p:nvSpPr>
        <p:spPr>
          <a:xfrm>
            <a:off x="1274760" y="3459240"/>
            <a:ext cx="790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テキスト ボックス 12"/>
          <p:cNvSpPr/>
          <p:nvPr/>
        </p:nvSpPr>
        <p:spPr>
          <a:xfrm>
            <a:off x="5216400" y="450864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図 13" descr="あたり用写真.jpg"/>
          <p:cNvPicPr/>
          <p:nvPr/>
        </p:nvPicPr>
        <p:blipFill>
          <a:blip r:embed="rId2"/>
          <a:stretch/>
        </p:blipFill>
        <p:spPr>
          <a:xfrm>
            <a:off x="1184400" y="8958240"/>
            <a:ext cx="3636720" cy="2727360"/>
          </a:xfrm>
          <a:prstGeom prst="rect">
            <a:avLst/>
          </a:prstGeom>
          <a:ln w="0">
            <a:noFill/>
          </a:ln>
        </p:spPr>
      </p:pic>
      <p:sp>
        <p:nvSpPr>
          <p:cNvPr id="488" name="テキスト ボックス 14"/>
          <p:cNvSpPr/>
          <p:nvPr/>
        </p:nvSpPr>
        <p:spPr>
          <a:xfrm>
            <a:off x="1274760" y="7869240"/>
            <a:ext cx="783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テキスト ボックス 15"/>
          <p:cNvSpPr/>
          <p:nvPr/>
        </p:nvSpPr>
        <p:spPr>
          <a:xfrm>
            <a:off x="5216400" y="898992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図 16" descr="あたり用写真.jpg"/>
          <p:cNvPicPr/>
          <p:nvPr/>
        </p:nvPicPr>
        <p:blipFill>
          <a:blip r:embed="rId3"/>
          <a:stretch/>
        </p:blipFill>
        <p:spPr>
          <a:xfrm>
            <a:off x="1184400" y="13387320"/>
            <a:ext cx="3636720" cy="2727360"/>
          </a:xfrm>
          <a:prstGeom prst="rect">
            <a:avLst/>
          </a:prstGeom>
          <a:ln w="0">
            <a:noFill/>
          </a:ln>
        </p:spPr>
      </p:pic>
      <p:sp>
        <p:nvSpPr>
          <p:cNvPr id="491" name="テキスト ボックス 17"/>
          <p:cNvSpPr/>
          <p:nvPr/>
        </p:nvSpPr>
        <p:spPr>
          <a:xfrm>
            <a:off x="1274760" y="12306240"/>
            <a:ext cx="783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テキスト ボックス 18"/>
          <p:cNvSpPr/>
          <p:nvPr/>
        </p:nvSpPr>
        <p:spPr>
          <a:xfrm>
            <a:off x="5216400" y="1341756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図 19" descr="news_title.png"/>
          <p:cNvPicPr/>
          <p:nvPr/>
        </p:nvPicPr>
        <p:blipFill>
          <a:blip r:embed="rId4"/>
          <a:stretch/>
        </p:blipFill>
        <p:spPr>
          <a:xfrm>
            <a:off x="2163600" y="1012680"/>
            <a:ext cx="5962680" cy="2302200"/>
          </a:xfrm>
          <a:prstGeom prst="rect">
            <a:avLst/>
          </a:prstGeom>
          <a:ln w="0">
            <a:noFill/>
          </a:ln>
        </p:spPr>
      </p:pic>
      <p:pic>
        <p:nvPicPr>
          <p:cNvPr id="494" name="図 20" descr="line.png"/>
          <p:cNvPicPr/>
          <p:nvPr/>
        </p:nvPicPr>
        <p:blipFill>
          <a:blip r:embed="rId5"/>
          <a:stretch/>
        </p:blipFill>
        <p:spPr>
          <a:xfrm>
            <a:off x="801720" y="7454880"/>
            <a:ext cx="8686800" cy="193680"/>
          </a:xfrm>
          <a:prstGeom prst="rect">
            <a:avLst/>
          </a:prstGeom>
          <a:ln w="0">
            <a:noFill/>
          </a:ln>
        </p:spPr>
      </p:pic>
      <p:pic>
        <p:nvPicPr>
          <p:cNvPr id="495" name="図 21" descr="line.png"/>
          <p:cNvPicPr/>
          <p:nvPr/>
        </p:nvPicPr>
        <p:blipFill>
          <a:blip r:embed="rId6"/>
          <a:stretch/>
        </p:blipFill>
        <p:spPr>
          <a:xfrm>
            <a:off x="801720" y="11999880"/>
            <a:ext cx="8686800" cy="1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3</cp:lastModifiedBy>
  <dcterms:modified xsi:type="dcterms:W3CDTF">2017-01-23T06:17:22Z</dcterms:modified>
  <cp:revision>46</cp:revision>
  <dc:subject/>
  <dc:title>スライド 1</dc:title>
</cp:coreProperties>
</file>