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</p:sldIdLst>
  <p:sldSz cx="18288000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409320" y="1233360"/>
            <a:ext cx="591660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0464-B5B6-4FFF-95CE-286D269D62F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01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31CC-AC4C-4FE7-BC23-6B0280CB56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0F389-F58C-4353-A343-8A97F97C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7C480-5AA4-40B7-B0EB-E0603A9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FB3F8-2BC2-4B47-8FEC-7B2D005A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2A22F-5AF0-4D80-A3ED-E6ACDA84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AB7C0-7EED-4452-9F84-84CBA627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C849B-0ED6-4287-805E-A6339C3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B92A8-1DCE-4951-96C8-53ABB880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CA61E-4734-426E-99BB-F6ACB91E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B7B9B-C8AD-4416-9517-283F0517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5F4AD-8906-43DD-BF82-2A1FF2F7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D4428-098B-4432-B23E-9EDF063A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C9D52-DFB4-4871-AB37-820AACF1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AB29B-AE48-400E-B1A3-6193D618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D87AA-7807-4773-93A8-0BCA0CB1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BCB5C-51D7-4734-887B-1E40709F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7DF5B-CED8-44AC-8E9E-2A448153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67A6C-F968-4596-BEFB-3FF69008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E8DC1-1C7B-41A4-9165-8EA23BA2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F86A6-82C9-4B35-BF33-4B07FC1D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4625B-4AD2-4FC1-A02C-ECA1F995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1CC2F-D358-4804-93B3-4FAAAB19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AD77C-F407-4EC4-9E76-86773B60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3227A-6241-41CD-99C5-0F97F8D2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5FBDC-DE06-441B-9ED1-D4DFED66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CE091-1C2F-4CEF-9BEC-0734CF1D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4D1E4-C9C4-4970-81F4-0CF424F3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8C46D-1ED9-4AF7-B76F-F5C4494A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ABB6D-2CFF-4E0E-9BAA-56D1CAEF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8E65D-479F-4ACA-A48C-1D282A6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578A6-9182-4F47-A7A7-975D69CD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161-5241-4C7A-B65A-1FD9BB79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37321-2D84-47BE-8567-771275EB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64E1B-BF71-4A30-B46D-07CD9D71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2D28A-19EB-4D38-92EB-D5451F78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C38-FE69-4F79-9325-E9C66002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35C-E98C-4BDD-AAD3-92D1E76E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F25-27E5-45A4-A593-548DC8B7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DE9-6A21-40D9-9909-B75F8409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5ED-9E30-4732-B8D2-8AEBBD26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90B-61B6-4ECF-87B3-C9741FC2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BCC-D91C-4297-9929-7C85CF46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2DE-71A6-4293-BB7F-3FB5B292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12C-1F3F-4358-8116-77043F61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055-C95C-4545-A31E-F9AA08F8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68C-1813-4AB7-9947-7CD58458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763C-04BE-4584-BAB3-BEB46389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1431-36E8-4F69-B5D2-EFEF63AE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0B3E-426D-4855-BC23-23CC18BC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BAB3-EA38-4C4E-85D9-16616D4E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0FFB-2E9A-473A-B117-9B8D7532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1E44-CF56-4D85-B601-E1C20506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E976-98E5-445B-A8CD-6320C185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E9F4-2621-4463-9FD8-ECB18FF2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BF63-0DEA-4639-B91A-CB9FDA51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0A71-FC03-4AC2-A2D8-C0DFFA5F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527A-F4DC-486A-A8FE-C43FE8D1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C046-AE25-4FCD-BFAD-AE7DF874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B92C-DABA-40CD-8CC1-2393475A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DC4E-A549-42C5-9A70-1896BCB3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3A2E-BDC9-4B2E-A9E3-BCA948B7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5519-5F61-4379-B8E2-E064FF89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973A-B80E-44D4-8686-8BCFC25B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E33C-D232-4A3F-A880-D2237F82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CC50-6ACD-4230-8071-4A2C03D2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87826-6AB7-4040-8A99-022DF405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BABB7-E4B6-4202-B622-E0EB9E4F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75C5-CBD0-4861-8BF9-E60326BB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3945-6CE7-45BE-BF15-6C1AD118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C8F0-74E5-48D2-9832-33ED3D5E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3CF2B-6C9C-4F80-BFA3-6215A737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322A5-B823-47FD-9E0E-4250C515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B103-5E0F-4B18-9174-5163289F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B4881-BEDB-4AF1-A078-93B0F4CA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166B-3BF6-409C-B504-BF951F53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FD14-7E24-44F4-9292-B10DE25B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375F1-8450-49E0-8B04-D0AC8015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D337F-AD2F-4C88-8C68-DB913C8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69B4-BFBB-4151-89DE-60405F62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F5F61-B448-4D3C-BEBA-AB52B522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CDC7-5542-40F8-BBC4-2DED11BC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B492-3BFC-45A6-97CC-04F7E398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28BDC-30A5-4A33-A7F9-2C63B194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F673-E586-4F84-891F-B19CFB71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3F707-E4E1-4B77-9D52-2EE29C36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4C52C-FF0B-469E-86FC-52A1AAD2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BD2F-EA57-45AD-B544-AE2E933C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4B1D4-00BC-42FE-9AE5-A5748B47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67BD1-EBBA-42FA-8528-E2BE0212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374E-587A-4A9B-ACF5-AEA6F5A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31853-8F7C-4C29-AEFF-662C8D3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40813-0920-4743-A475-82906561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9F3BF-1889-46D3-B23C-BBE203E8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22651-036B-41D5-98AF-C95E7BFD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15B88-736D-44C2-94C3-10CF74BD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78ADB-2154-4759-B2C8-54527BE1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09CED-74F7-4024-B89E-EFF7382F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9033D-20FD-412A-AD4B-CCCA78F6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9AF92-93C7-4DE3-BACA-95C70AA6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4040E-F445-4535-A5CD-37A467A4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0A778-7885-4BC9-8942-D8D1B172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DB6E6-BD26-43BE-9C1A-ABB8BA65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8B301-7CC2-40CA-B965-B5C4E3D3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FD5A1-885D-4D59-A8FC-FEFC397D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DDC36-2B72-4835-AC2C-A6637E98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D85A1-BDF0-4AFD-939B-E639F092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3F232-737D-417F-AB87-94BF8BD2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68F9F-4CC1-4389-9C48-D50977E1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D7C1D-1FF9-4402-9BED-1415B2FF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9F920-7C30-4010-9D91-43917D5F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29983-E99D-41C1-A48F-76668629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2973E-950A-463A-96BB-9E59B662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D9C5D-778B-46B9-8C31-CFF62ABE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BE926-D949-42E1-A0AA-C2EEF66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AB17D-E134-4B86-AAAC-D1464341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88A95-B75E-491D-B4FF-5BEF2CB2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AF64C-A397-414C-AEFD-CC6BEFAD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84242-4511-41DD-9F1E-3490E686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6EFE8-D8A4-4A8A-B86D-2E16AB10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0414B-F8F2-4ABC-BC8B-D62BA5C7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EADD3-0F71-4C21-88C8-FA195246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7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88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89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6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7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E1ED-06E8-477D-A396-D850070726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0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431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432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dt" idx="28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29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7285-8991-4734-8F68-1F44FFC5FE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4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4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BC4A-0CB2-4470-B2B5-192A559E3F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4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85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86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1C50-CD60-449D-BE49-8A8ED91084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7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128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129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BD9D-80DE-465C-82E7-CF864C6AD3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0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171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172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AB06-1C67-4A0B-93AD-3AD08BD396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3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14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215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4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C214-E6E1-4363-A776-1AD82D4C6B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6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57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258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0AC3-D1A8-4431-AC07-37C722CD95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0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0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19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0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1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62BE-DEA7-4158-BF2B-9103BBB624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4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45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46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2C24-EB9F-499D-B0AC-42F28AF76F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図 6" descr="**写真.jpg"/>
          <p:cNvPicPr/>
          <p:nvPr/>
        </p:nvPicPr>
        <p:blipFill>
          <a:blip r:embed="rId1"/>
          <a:stretch/>
        </p:blipFill>
        <p:spPr>
          <a:xfrm>
            <a:off x="633240" y="2762280"/>
            <a:ext cx="8371080" cy="5997600"/>
          </a:xfrm>
          <a:prstGeom prst="rect">
            <a:avLst/>
          </a:prstGeom>
          <a:ln w="0">
            <a:noFill/>
          </a:ln>
        </p:spPr>
      </p:pic>
      <p:pic>
        <p:nvPicPr>
          <p:cNvPr id="480" name="図 6" descr="**写真.jpg"/>
          <p:cNvPicPr/>
          <p:nvPr/>
        </p:nvPicPr>
        <p:blipFill>
          <a:blip r:embed="rId2"/>
          <a:stretch/>
        </p:blipFill>
        <p:spPr>
          <a:xfrm>
            <a:off x="9607680" y="2682720"/>
            <a:ext cx="3943080" cy="29797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1"/>
          <p:cNvSpPr/>
          <p:nvPr/>
        </p:nvSpPr>
        <p:spPr>
          <a:xfrm>
            <a:off x="1366920" y="824040"/>
            <a:ext cx="518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8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居酒屋　○●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1"/>
          <p:cNvSpPr/>
          <p:nvPr/>
        </p:nvSpPr>
        <p:spPr>
          <a:xfrm>
            <a:off x="6551640" y="1257480"/>
            <a:ext cx="106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この文章はダミーです。この文章はダミーです。この文章はダミーです。で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6" descr="**写真.jpg"/>
          <p:cNvPicPr/>
          <p:nvPr/>
        </p:nvPicPr>
        <p:blipFill>
          <a:blip r:embed="rId3"/>
          <a:stretch/>
        </p:blipFill>
        <p:spPr>
          <a:xfrm>
            <a:off x="13746240" y="2682720"/>
            <a:ext cx="3944880" cy="2979720"/>
          </a:xfrm>
          <a:prstGeom prst="rect">
            <a:avLst/>
          </a:prstGeom>
          <a:ln w="0">
            <a:noFill/>
          </a:ln>
        </p:spPr>
      </p:pic>
      <p:pic>
        <p:nvPicPr>
          <p:cNvPr id="485" name="図 3" descr=""/>
          <p:cNvPicPr/>
          <p:nvPr/>
        </p:nvPicPr>
        <p:blipFill>
          <a:blip r:embed="rId4"/>
          <a:stretch/>
        </p:blipFill>
        <p:spPr>
          <a:xfrm>
            <a:off x="841320" y="2992320"/>
            <a:ext cx="1847880" cy="1876680"/>
          </a:xfrm>
          <a:prstGeom prst="rect">
            <a:avLst/>
          </a:prstGeom>
          <a:ln w="0">
            <a:noFill/>
          </a:ln>
        </p:spPr>
      </p:pic>
      <p:pic>
        <p:nvPicPr>
          <p:cNvPr id="486" name="図 5" descr=""/>
          <p:cNvPicPr/>
          <p:nvPr/>
        </p:nvPicPr>
        <p:blipFill>
          <a:blip r:embed="rId5"/>
          <a:stretch/>
        </p:blipFill>
        <p:spPr>
          <a:xfrm>
            <a:off x="5630760" y="6459480"/>
            <a:ext cx="3305160" cy="1971720"/>
          </a:xfrm>
          <a:prstGeom prst="rect">
            <a:avLst/>
          </a:prstGeom>
          <a:ln w="0">
            <a:noFill/>
          </a:ln>
        </p:spPr>
      </p:pic>
      <p:sp>
        <p:nvSpPr>
          <p:cNvPr id="487" name="テキスト ボックス 1"/>
          <p:cNvSpPr/>
          <p:nvPr/>
        </p:nvSpPr>
        <p:spPr>
          <a:xfrm>
            <a:off x="731880" y="8926560"/>
            <a:ext cx="3790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7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■○○○○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1"/>
          <p:cNvSpPr/>
          <p:nvPr/>
        </p:nvSpPr>
        <p:spPr>
          <a:xfrm>
            <a:off x="4368960" y="8826480"/>
            <a:ext cx="4775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30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1"/>
          <p:cNvSpPr/>
          <p:nvPr/>
        </p:nvSpPr>
        <p:spPr>
          <a:xfrm>
            <a:off x="11952360" y="571500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テキスト ボックス 1"/>
          <p:cNvSpPr/>
          <p:nvPr/>
        </p:nvSpPr>
        <p:spPr>
          <a:xfrm>
            <a:off x="9485280" y="574524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テキスト ボックス 1"/>
          <p:cNvSpPr/>
          <p:nvPr/>
        </p:nvSpPr>
        <p:spPr>
          <a:xfrm>
            <a:off x="16117920" y="571500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"/>
          <p:cNvSpPr/>
          <p:nvPr/>
        </p:nvSpPr>
        <p:spPr>
          <a:xfrm>
            <a:off x="13650840" y="574524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1"/>
          <p:cNvSpPr/>
          <p:nvPr/>
        </p:nvSpPr>
        <p:spPr>
          <a:xfrm>
            <a:off x="11952360" y="936468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1"/>
          <p:cNvSpPr/>
          <p:nvPr/>
        </p:nvSpPr>
        <p:spPr>
          <a:xfrm>
            <a:off x="9485280" y="9396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 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1"/>
          <p:cNvSpPr/>
          <p:nvPr/>
        </p:nvSpPr>
        <p:spPr>
          <a:xfrm>
            <a:off x="16117920" y="936468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1"/>
          <p:cNvSpPr/>
          <p:nvPr/>
        </p:nvSpPr>
        <p:spPr>
          <a:xfrm>
            <a:off x="13650840" y="9396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 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図 6" descr="**写真.jpg"/>
          <p:cNvPicPr/>
          <p:nvPr/>
        </p:nvPicPr>
        <p:blipFill>
          <a:blip r:embed="rId6"/>
          <a:stretch/>
        </p:blipFill>
        <p:spPr>
          <a:xfrm>
            <a:off x="9607680" y="6340320"/>
            <a:ext cx="3943080" cy="2986200"/>
          </a:xfrm>
          <a:prstGeom prst="rect">
            <a:avLst/>
          </a:prstGeom>
          <a:ln w="0">
            <a:noFill/>
          </a:ln>
        </p:spPr>
      </p:pic>
      <p:pic>
        <p:nvPicPr>
          <p:cNvPr id="498" name="図 6" descr="**写真.jpg"/>
          <p:cNvPicPr/>
          <p:nvPr/>
        </p:nvPicPr>
        <p:blipFill>
          <a:blip r:embed="rId7"/>
          <a:stretch/>
        </p:blipFill>
        <p:spPr>
          <a:xfrm>
            <a:off x="13746240" y="6340320"/>
            <a:ext cx="39448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>(株)デンソー（販社グループ）DENSO_CORPORATION_GROUP</dc:creator>
  <dc:description/>
  <dc:language>en-US</dc:language>
  <cp:lastModifiedBy>成良</cp:lastModifiedBy>
  <dcterms:modified xsi:type="dcterms:W3CDTF">2022-10-06T07:14:52Z</dcterms:modified>
  <cp:revision>67</cp:revision>
  <dc:subject/>
  <dc:title>スライド 1</dc:title>
</cp:coreProperties>
</file>