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</p:sldIdLst>
  <p:sldSz cx="18288000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1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409320" y="1233360"/>
            <a:ext cx="5916600" cy="332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32"/>
          </p:nvPr>
        </p:nvSpPr>
        <p:spPr>
          <a:xfrm>
            <a:off x="-3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3"/>
          </p:nvPr>
        </p:nvSpPr>
        <p:spPr>
          <a:xfrm>
            <a:off x="38145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EBCA-37DD-43AC-A049-0429F6EE856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01" name="スライド番号プレースホルダー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C9D6-C93F-436B-BAD2-4BCA569EF44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1629A-2B97-4C37-984B-A2875E68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FFB08-3F44-4035-B16D-2158622D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2D51A-1120-4D80-8F64-151CB0D8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EB898-24FE-47B7-B5E8-D96424DD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D77D8-8140-475E-977B-1EACAECB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CB1B4-65D3-480B-BD3C-AB784CA3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54623-3A37-49EE-8F76-B9F53F91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40EE3-1540-4C25-AEAA-42782A28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EB813-A146-4FA2-93F4-D677C748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E442A-2A57-4462-8819-00BA8566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ED9C7-F89A-4587-9D0D-1FA98FDB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73DC8-F374-4A54-988D-94FDE0C9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A3302-6C00-4B00-A4C5-B1B9D290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7AFA1-27B0-4AA7-A5FB-51DD7194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F1B98-A7B5-4DCE-904B-C432F64B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87A17-46E0-48A7-B458-4E8070FD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18816-2FAE-4923-AD58-7DADDBC8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6F5A9-562B-4151-9A36-58F8A8F3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3904B-8889-4B25-AEDC-6AEF819B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20BEC-ACCA-4675-9BB3-9FEEAA0A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6119B-568E-4650-BE28-9D1703A9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8A4C1-98FD-45AB-8B40-991F314A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ABFF8-B15E-4ED2-93B0-7C634409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B41DE-D5D2-4123-9673-80E763B0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F9D67-2C5D-4449-8A0E-209A4F84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13583-0449-44E9-9510-A2E877C8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6CB0F-AE12-44B8-BDEC-0A2B525D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2251B-8FA1-486E-A2AA-E2EB3420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12F6F-E3FA-4C26-BE9E-5AF899CA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98458-8A9A-458C-97E6-F930AB1C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AF1-6C7B-4093-AC9F-7286C309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004B1-D398-46F0-9AC9-053ECDB1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56232-179F-46C1-BA59-FEF2EC2E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E64B8-4F9C-43AF-9206-692D6CD7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C91C-FC62-4765-9396-4F9A790A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52C5-C293-4924-93A1-8CBE5DBF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CD1A-14B8-4D25-85C7-F92F257F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120-2700-4F7C-A293-C9941546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051-C79E-4CE0-B67B-C3207E24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FFAE-D061-4046-864D-D0341DEE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D339-F8C2-46AA-9445-39618567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3BF-90C5-4A12-924C-C4D39C94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DA5-9EAE-4721-A731-6B696849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6584-920A-4DD9-823C-04B44628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03F-50CA-4512-A5C1-7E9FA594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E8E3-549B-47B1-B5B7-F80B16C6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2F07-61DF-4E10-AABB-F4D19856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42E1-0454-4A5C-9B57-563027B4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9C22-CFA7-4F80-BB5F-5C828E37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1FF7-52FC-470D-B987-F150883F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9BBB-DD82-44AC-847F-62123149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C7F1-8108-41E0-A3DB-526F6608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7835-C5CC-407B-9FBB-893AC9F9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A357-3DD3-4E42-BE31-A01BFC8E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DBAC-1FE7-4D85-AC2C-CD9A13CF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F3FE-2EB8-4F4C-B3D0-F518FC9C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F6EF-DE06-4148-836D-01C59200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717BD-BD07-4B24-8E2B-16220B16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4B2B6-E141-49CB-8D57-D5B8BC29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33B1F-65A3-4220-AC4D-3E3F0A6F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E43FB-05D6-48AB-BE31-3D1D33B8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A473B-8AA6-43EE-957B-50EFD68E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8B5B5-897F-4C8D-84AF-8C6479CB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707D0-B6F7-40E8-8C1F-66622E69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E7070-8781-4728-A8E5-81FB8E36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F8CBD-1ED2-4407-BC56-279D9C84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13036-4549-4A68-B6C7-2660BFAD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8305E-973B-4E05-9F03-5CFD0269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60A85-AECB-4CC5-BA22-2BE865D6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63292-2CA0-498C-ABAE-2D150876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812FA-1090-4F69-9431-A25111B9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758F9-3358-4D40-9AE7-31E56339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38333-FCF4-4E0E-A739-02B34645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9F94F-BD92-4FEA-BBE2-A27617C2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61F56-3D05-47B1-825F-FEE51AC2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0AC8C-B7C7-451C-B8B4-99BCF98A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A2E10-5296-4376-B607-163CBD97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296DD-2FF8-48E9-B0B0-76430FD7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76BBF-936D-464C-91F4-00B9BC95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DE36E-7E1C-45F1-8514-2EDF3CC2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D1713-3719-4724-91A3-7797224D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EBFF1-F3B6-410C-96D8-BB051019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60D50-0D1D-4D99-8305-1F418319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87F3C-9A6A-4C7F-953A-B6F7F2CA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25FB4-434A-491C-9BC0-A49D9333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D81C4-0B8E-427D-94D7-63718A5C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477E5-9847-40BE-B8F2-FFC71067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8AA8A-D9B6-4DAC-B391-A71DC1C0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909E8-E57F-429C-9C89-7A7A105D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6054F-A0B4-4611-91B8-48453D45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F8B75-A90D-4524-95D7-491391EF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9E2F8-679E-4BD6-9095-14ABA1DD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755FC-0571-41AE-A856-35078CF1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8DB73-E932-48AD-97D3-4B59F1C4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E3700-EEFA-4711-8699-7BB4AEAC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3E4A4-1314-42C9-9057-8AE0D87A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5CE86-1BBC-4E4E-8722-8138CC05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D01E1-4888-4593-B512-C9531365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D134E-6179-4B68-A082-6FFC505D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4C4EE-F7C3-4296-85A9-BD056BB2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12EB8-4809-4858-99EB-008B6D27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798FF-C9DF-46A6-944E-C1E23FBA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54F44-AA86-43A1-8353-1EB4ABBD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06C6B-C099-4110-8F7D-C85C229D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89224-F23B-426E-AD13-909F708B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6A207-E7D0-4F09-880E-A0249DFB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111F4-7B8D-48D0-BB57-1FF5BDAE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833EA-2579-4567-9ED3-E8CCEA9F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EA99C-037E-461E-BCE7-BFB92EC1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7CA9A-C540-4969-8693-B5CEA30C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DD4DE-99A4-4074-BF95-3B9C95A5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0C820-8D96-4CCE-8D72-7AA2CF84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A83F6-432A-48F2-B906-0C96CCB3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DBC2B-8E5F-439B-82E2-1E92F013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FB631-1D5E-4B1C-BD04-EDC62DDD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F098D-8AE2-4DC4-B6AC-4C267171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8D0AF-B408-4648-81B9-8BA1593E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B9FD6-766A-42C3-9F4B-6AB576D2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ED4C2-8614-432D-A2E2-8C7A79DB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25CB9-BE23-4093-8402-72A7DFE8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2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3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87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388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389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dt" idx="25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6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27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096F-2500-44AD-9D64-9A324B046A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30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431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432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dt" idx="28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ftr" idx="29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30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F747-BE9D-42EE-AEF3-08084D7AE2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1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42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43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D65D-288E-4A24-83E6-ECFAD04633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84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85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86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A68B-2BF2-4118-8AA0-F495067030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27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128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129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dt" idx="7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8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9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69CE-6A23-4D86-9AD9-12E303467D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70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171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172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10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11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2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4209-7010-4876-A86B-B9345DD351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13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214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215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dt" idx="13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ftr" idx="14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5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2D2B-A623-4F95-B173-F8F769BECD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256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257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258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dt" idx="16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ftr" idx="17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8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C4D3-1540-452B-963E-7C7A29198C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body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01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302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303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dt" idx="19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ftr" idx="20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21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E4C4-0655-450D-B3D5-2A2B398242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図 10" descr=""/>
          <p:cNvPicPr/>
          <p:nvPr/>
        </p:nvPicPr>
        <p:blipFill>
          <a:blip r:embed="rId2"/>
          <a:stretch/>
        </p:blipFill>
        <p:spPr>
          <a:xfrm>
            <a:off x="0" y="144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344" name="図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0" cy="2238480"/>
          </a:xfrm>
          <a:prstGeom prst="rect">
            <a:avLst/>
          </a:prstGeom>
          <a:ln w="0">
            <a:noFill/>
          </a:ln>
        </p:spPr>
      </p:pic>
      <p:pic>
        <p:nvPicPr>
          <p:cNvPr id="345" name="図 6" descr=""/>
          <p:cNvPicPr/>
          <p:nvPr/>
        </p:nvPicPr>
        <p:blipFill>
          <a:blip r:embed="rId4"/>
          <a:stretch/>
        </p:blipFill>
        <p:spPr>
          <a:xfrm>
            <a:off x="9620280" y="2722680"/>
            <a:ext cx="8093160" cy="6637320"/>
          </a:xfrm>
          <a:prstGeom prst="rect">
            <a:avLst/>
          </a:prstGeom>
          <a:ln w="0">
            <a:noFill/>
          </a:ln>
        </p:spPr>
      </p:pic>
      <p:pic>
        <p:nvPicPr>
          <p:cNvPr id="346" name="図 8" descr=""/>
          <p:cNvPicPr/>
          <p:nvPr/>
        </p:nvPicPr>
        <p:blipFill>
          <a:blip r:embed="rId5"/>
          <a:stretch/>
        </p:blipFill>
        <p:spPr>
          <a:xfrm>
            <a:off x="569880" y="2719440"/>
            <a:ext cx="8515440" cy="69912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dt" idx="22"/>
          </p:nvPr>
        </p:nvSpPr>
        <p:spPr>
          <a:xfrm>
            <a:off x="91440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23"/>
          </p:nvPr>
        </p:nvSpPr>
        <p:spPr>
          <a:xfrm>
            <a:off x="6249960" y="9369000"/>
            <a:ext cx="5788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4"/>
          </p:nvPr>
        </p:nvSpPr>
        <p:spPr>
          <a:xfrm>
            <a:off x="13104720" y="9369000"/>
            <a:ext cx="4268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6071-E0AF-47F6-9EA9-4880D04BA0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図 6" descr="**写真.jpg"/>
          <p:cNvPicPr/>
          <p:nvPr/>
        </p:nvPicPr>
        <p:blipFill>
          <a:blip r:embed="rId1"/>
          <a:stretch/>
        </p:blipFill>
        <p:spPr>
          <a:xfrm>
            <a:off x="633240" y="2762280"/>
            <a:ext cx="8371080" cy="5997600"/>
          </a:xfrm>
          <a:prstGeom prst="rect">
            <a:avLst/>
          </a:prstGeom>
          <a:ln w="0">
            <a:noFill/>
          </a:ln>
        </p:spPr>
      </p:pic>
      <p:pic>
        <p:nvPicPr>
          <p:cNvPr id="480" name="図 6" descr="**写真.jpg"/>
          <p:cNvPicPr/>
          <p:nvPr/>
        </p:nvPicPr>
        <p:blipFill>
          <a:blip r:embed="rId2"/>
          <a:stretch/>
        </p:blipFill>
        <p:spPr>
          <a:xfrm>
            <a:off x="9607680" y="2682720"/>
            <a:ext cx="3943080" cy="29797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テキスト ボックス 1"/>
          <p:cNvSpPr/>
          <p:nvPr/>
        </p:nvSpPr>
        <p:spPr>
          <a:xfrm>
            <a:off x="1366920" y="824040"/>
            <a:ext cx="5184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8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居酒屋　○●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テキスト ボックス 1"/>
          <p:cNvSpPr/>
          <p:nvPr/>
        </p:nvSpPr>
        <p:spPr>
          <a:xfrm>
            <a:off x="6551640" y="1257480"/>
            <a:ext cx="1065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この文章はダミーです。この文章はダミーです。この文章はダミーです。で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図 6" descr="**写真.jpg"/>
          <p:cNvPicPr/>
          <p:nvPr/>
        </p:nvPicPr>
        <p:blipFill>
          <a:blip r:embed="rId3"/>
          <a:stretch/>
        </p:blipFill>
        <p:spPr>
          <a:xfrm>
            <a:off x="13746240" y="2682720"/>
            <a:ext cx="3944880" cy="2979720"/>
          </a:xfrm>
          <a:prstGeom prst="rect">
            <a:avLst/>
          </a:prstGeom>
          <a:ln w="0">
            <a:noFill/>
          </a:ln>
        </p:spPr>
      </p:pic>
      <p:pic>
        <p:nvPicPr>
          <p:cNvPr id="485" name="図 3" descr=""/>
          <p:cNvPicPr/>
          <p:nvPr/>
        </p:nvPicPr>
        <p:blipFill>
          <a:blip r:embed="rId4"/>
          <a:stretch/>
        </p:blipFill>
        <p:spPr>
          <a:xfrm>
            <a:off x="841320" y="2992320"/>
            <a:ext cx="1847880" cy="1876680"/>
          </a:xfrm>
          <a:prstGeom prst="rect">
            <a:avLst/>
          </a:prstGeom>
          <a:ln w="0">
            <a:noFill/>
          </a:ln>
        </p:spPr>
      </p:pic>
      <p:pic>
        <p:nvPicPr>
          <p:cNvPr id="486" name="図 5" descr=""/>
          <p:cNvPicPr/>
          <p:nvPr/>
        </p:nvPicPr>
        <p:blipFill>
          <a:blip r:embed="rId5"/>
          <a:stretch/>
        </p:blipFill>
        <p:spPr>
          <a:xfrm>
            <a:off x="5630760" y="6459480"/>
            <a:ext cx="3305160" cy="1971720"/>
          </a:xfrm>
          <a:prstGeom prst="rect">
            <a:avLst/>
          </a:prstGeom>
          <a:ln w="0">
            <a:noFill/>
          </a:ln>
        </p:spPr>
      </p:pic>
      <p:sp>
        <p:nvSpPr>
          <p:cNvPr id="487" name="テキスト ボックス 1"/>
          <p:cNvSpPr/>
          <p:nvPr/>
        </p:nvSpPr>
        <p:spPr>
          <a:xfrm>
            <a:off x="731880" y="8926560"/>
            <a:ext cx="3790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7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■○○○○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テキスト ボックス 1"/>
          <p:cNvSpPr/>
          <p:nvPr/>
        </p:nvSpPr>
        <p:spPr>
          <a:xfrm>
            <a:off x="4368960" y="8826480"/>
            <a:ext cx="4775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3000" spc="-1" strike="noStrike">
                <a:solidFill>
                  <a:srgbClr val="ffffff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テキスト ボックス 1"/>
          <p:cNvSpPr/>
          <p:nvPr/>
        </p:nvSpPr>
        <p:spPr>
          <a:xfrm>
            <a:off x="11952360" y="5715000"/>
            <a:ext cx="183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15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テキスト ボックス 1"/>
          <p:cNvSpPr/>
          <p:nvPr/>
        </p:nvSpPr>
        <p:spPr>
          <a:xfrm>
            <a:off x="9485280" y="574524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7282c"/>
                </a:solidFill>
                <a:latin typeface="Noto Sans JP Medium"/>
                <a:ea typeface="Noto Sans JP Medium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テキスト ボックス 1"/>
          <p:cNvSpPr/>
          <p:nvPr/>
        </p:nvSpPr>
        <p:spPr>
          <a:xfrm>
            <a:off x="16117920" y="5715000"/>
            <a:ext cx="183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15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1"/>
          <p:cNvSpPr/>
          <p:nvPr/>
        </p:nvSpPr>
        <p:spPr>
          <a:xfrm>
            <a:off x="13650840" y="574524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7282c"/>
                </a:solidFill>
                <a:latin typeface="Noto Sans JP Medium"/>
                <a:ea typeface="Noto Sans JP Medium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1"/>
          <p:cNvSpPr/>
          <p:nvPr/>
        </p:nvSpPr>
        <p:spPr>
          <a:xfrm>
            <a:off x="11952360" y="9364680"/>
            <a:ext cx="183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15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1"/>
          <p:cNvSpPr/>
          <p:nvPr/>
        </p:nvSpPr>
        <p:spPr>
          <a:xfrm>
            <a:off x="9485280" y="939636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7282c"/>
                </a:solidFill>
                <a:latin typeface="Noto Sans JP Medium"/>
                <a:ea typeface="Noto Sans JP Medium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 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1"/>
          <p:cNvSpPr/>
          <p:nvPr/>
        </p:nvSpPr>
        <p:spPr>
          <a:xfrm>
            <a:off x="16117920" y="9364680"/>
            <a:ext cx="183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000</a:t>
            </a:r>
            <a:r>
              <a:rPr b="0" lang="ja-JP" sz="15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円（税込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テキスト ボックス 1"/>
          <p:cNvSpPr/>
          <p:nvPr/>
        </p:nvSpPr>
        <p:spPr>
          <a:xfrm>
            <a:off x="13650840" y="939636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7282c"/>
                </a:solidFill>
                <a:latin typeface="Noto Sans JP Medium"/>
                <a:ea typeface="Noto Sans JP Medium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Noto Sans JP Medium"/>
                <a:ea typeface="Noto Sans JP Medium"/>
              </a:rPr>
              <a:t> ○○○○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図 6" descr="**写真.jpg"/>
          <p:cNvPicPr/>
          <p:nvPr/>
        </p:nvPicPr>
        <p:blipFill>
          <a:blip r:embed="rId6"/>
          <a:stretch/>
        </p:blipFill>
        <p:spPr>
          <a:xfrm>
            <a:off x="9607680" y="6340320"/>
            <a:ext cx="3943080" cy="2986200"/>
          </a:xfrm>
          <a:prstGeom prst="rect">
            <a:avLst/>
          </a:prstGeom>
          <a:ln w="0">
            <a:noFill/>
          </a:ln>
        </p:spPr>
      </p:pic>
      <p:pic>
        <p:nvPicPr>
          <p:cNvPr id="498" name="図 6" descr="**写真.jpg"/>
          <p:cNvPicPr/>
          <p:nvPr/>
        </p:nvPicPr>
        <p:blipFill>
          <a:blip r:embed="rId7"/>
          <a:stretch/>
        </p:blipFill>
        <p:spPr>
          <a:xfrm>
            <a:off x="13746240" y="6340320"/>
            <a:ext cx="394488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>(株)デンソー（販社グループ）DENSO_CORPORATION_GROUP</dc:creator>
  <dc:description/>
  <dc:language>en-US</dc:language>
  <cp:lastModifiedBy>成良</cp:lastModifiedBy>
  <dcterms:modified xsi:type="dcterms:W3CDTF">2022-10-06T07:14:52Z</dcterms:modified>
  <cp:revision>67</cp:revision>
  <dc:subject/>
  <dc:title>スライド 1</dc:title>
</cp:coreProperties>
</file>