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</p:sldIdLst>
  <p:sldSz cx="18288000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1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409320" y="1233360"/>
            <a:ext cx="591660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2"/>
          </p:nvPr>
        </p:nvSpPr>
        <p:spPr>
          <a:xfrm>
            <a:off x="-3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3"/>
          </p:nvPr>
        </p:nvSpPr>
        <p:spPr>
          <a:xfrm>
            <a:off x="38145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5E3A-118B-4DA3-9CCF-C34B9311BB0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01" name="スライド番号プレースホルダー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6CB9-73A9-460C-A482-2C6E515BED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BE072-B93C-4526-BB8B-2FB1B98C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02FF7-547C-4F2B-A6A1-D47E4C07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0F3AA-096D-4B3F-BC39-95555C85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CC177-190E-4DA3-9A9D-737B6EEA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CC865-BB7A-4280-989D-B6154F5C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1A6F1-E526-41A8-8D5C-C0DB555F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2B5E4-8049-4916-AD87-6B834BE4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27F61-3BF6-43F1-88F8-ECC6E47F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174A6-EBF8-4DC9-9BBD-E58F3151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39273-97E7-4FB6-ACFF-41E27212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16C3F-4418-4E44-88F9-3DB6CF48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59579-CD33-4194-809C-06D793EC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2EED2-F0A9-46C1-9996-2B94512C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92535-656F-447D-AB39-E0F297E3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C8174-8FAA-4E88-820F-4A339C5A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BA585-38CD-4A72-9545-2AB33589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38326-EF9C-4B3D-BFF5-90F15FAA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81B8A-AD34-48FD-A19C-ABD1EC55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065D1-CC39-4E88-AA48-A189182E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99B83-504A-442F-8966-87BB61DF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3363A-C4FE-4A10-98DD-1D2A9E77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E96CB-D218-4D31-9A2A-D4FD72CB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CABCB-8311-43A2-89A4-61680BAE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05DD2-C739-4BB8-895E-FF37FD64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FFB75-D20F-4000-A5A9-37B4D623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B81E9-E550-4A1F-A61F-8478B492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A91BB-E187-4E78-B5E5-B30E1BE9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4ACBC-D1C8-4D55-B121-BDCFB02A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CDE3E-E36A-47D7-B290-DF907F62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12220-D2DD-4147-B7FE-99764F77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C2C-68A5-4A90-A0BA-87BE7F02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86FB5-2515-427F-9CC6-44D17361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00631-5CA0-44B0-B908-F6006AD2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85AD8-3809-4D47-AF17-5844DA2C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B98-DA02-43DE-9F95-04290304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8CE-186D-47FB-9652-658933AE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365-6F9C-493F-BDD7-862663C1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C5A-2F28-4AC1-ABD3-46D93275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748-175C-4839-90C2-95BD4012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D0B-3FEB-4268-B5F2-C3D4B1E6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903-21C8-4877-964D-845EE95B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1F1-E4A6-4B91-8D16-0349584B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CBFA-D138-453E-BA8A-45D70105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0A4-72E1-4525-8B51-A44CEB64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DB5-CCCE-414C-8B8B-0FC36BB6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15C6-98FF-482E-B350-2F7837DC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FBC9-FC15-4A67-8E33-F02C6BA9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FED9-7856-40B8-B2B4-FDA3FA63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D807-3727-47BC-A204-FC8798C2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1AD9-E59B-4D9F-BE60-F1A20E6D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192E-A63E-46CB-B8AA-EBCAF484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8EDE-48C2-4641-AAD4-0594AEFA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52F9-FED6-440B-8E7C-C8D00A4D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C01A-C528-4F0B-9367-6629F726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236A-07A5-4077-BD9B-21B4DF9F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11C9-7A18-434D-84BB-12DC73A8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323A-8D56-43CC-B6D0-57060DC3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5320-B2BE-47E1-9BFA-696CB0B4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38B6-8177-4F62-A20A-C3AB8766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F20A-90CD-4E80-A5DE-FB6054D5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B32B9-63D3-4E18-8C2C-18E547AE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676FA-9A28-4CB5-8E48-0D69E741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F03BE-F958-45D7-9F35-1E4E0D6C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9835-E3C0-4C02-BA24-053E16AC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FC0B-5D61-40B4-AA44-4710B044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E077-B351-45AF-8725-4293457B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783F5-8345-451D-A94D-8D18016F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E8BD6-41C6-4BC4-B552-FED7C18A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61106-3679-46F4-A4DE-BB4C8839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4EF99-6CC2-421C-8E53-F429D3C0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B5212-02AE-4DBA-BF7B-C32E5D13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4689F-40C5-41C6-9922-9BB00491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7DC28-20C0-4830-87DE-AB004041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2B71E-EDE7-436D-BB8A-2C1F86F3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244C5-64A0-4429-8FDB-A5DB38D3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6D4A1-6EAA-49B7-AFED-AABF2145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A5AD9-1E15-4AFA-9682-A804137F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7644A-D850-4BAE-A7CC-D445331C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B7EC6-9D1A-4ECC-9DD5-A602548B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C23A1-747C-4556-85EE-C63E736F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F2257-FD46-4032-B502-A3D8E099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2577C-E81F-4C2A-BC5B-8AF3564C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EC8A3-68EE-43B5-8DE7-5216D2A3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3DC97-8ADB-42E3-BCF9-F3FA89F1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29C0B-0080-43A0-B024-5C81D460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4CBEA-561D-48AB-B9D0-006EA3AB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AE274-0F25-48B8-A465-9FB1880D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F0308-B09D-4108-B313-A46B4C91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46E15-7021-45AD-B84A-F740292F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0901F-9B28-4252-865D-826A350B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9D8B1-A824-4781-BE84-82DEA035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7B63F-5C22-4F28-8C60-A8EB05D4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047DB-DD8F-443E-8B95-337C378F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C4020-2750-4C50-BA40-76963CE7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57266-6280-453B-AB2D-89C996AF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BD2A7-8410-4EFD-ABE1-12C29414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36AD3-ABFB-47AA-ABA8-B652ABE6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F7E44-F230-4AA8-8C3A-18DAD748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C7B93-DD04-482A-B217-D660ADB9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318B4-AD11-4496-AF37-82F35B64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C3EB7-F300-446D-99D3-BF72FE62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A23D2-1269-498E-90EE-3D30F859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E306F-EC0F-4890-AFAB-DB94FC64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8E34E-2C47-4E83-83F6-703A30DF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3B21A-6159-46E3-90E1-2B394626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6B80F-BC55-472E-A571-84F24178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E71D7-6BDC-40CF-A37B-AA6E6AB9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56DC8-DDE3-49E5-9109-F3A6D7EA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B1873-29EA-4AA8-8177-C2028620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09B6C-9DF7-4908-87CE-912CDD9D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4A58A-411F-4F53-8645-88E0F198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3B6AE-91A2-4B61-B986-599EC340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EBE10-4A9E-41B1-BDF4-908740E1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39049-B04F-4E3B-89B7-AAC881C1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60194-05EB-4F33-A20E-FEE98DAD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1647A-7944-437F-8D5A-438790B3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02B3F-EB4B-4EA9-AD61-E572B18F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38479-1AAE-4413-AE5D-2255EA7C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744E0-7005-44DD-8A20-4F136406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13EED-8DF3-49DC-94AD-A92940B9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2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87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388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89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dt" idx="25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6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27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9469-A12B-485A-BB86-425A36799F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30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431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432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dt" idx="28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ftr" idx="29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30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688C-B116-4724-8465-F8D4C35C45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1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42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43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2A54-8537-4B13-BF5B-4D498638F3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4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85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86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F7C2-9F4B-4043-B6E2-1FA80D6839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27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128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129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dt" idx="7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8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9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0235-4006-4571-9C43-218E8F024F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70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171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172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10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1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65B7-47E2-4B1C-BD40-8AF9034A95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13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214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215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dt" idx="13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14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5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2217-F4BB-4682-BD14-6813030BD4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56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257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258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085D-BB08-420B-930F-85C3FCF555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01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302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03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dt" idx="19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ftr" idx="20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1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D672-39E0-4293-A39F-E6C4C689F9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44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345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46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dt" idx="22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23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4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E876-8F3B-44E1-8FFA-ADCDC85780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図 6" descr="**写真.jpg"/>
          <p:cNvPicPr/>
          <p:nvPr/>
        </p:nvPicPr>
        <p:blipFill>
          <a:blip r:embed="rId1"/>
          <a:stretch/>
        </p:blipFill>
        <p:spPr>
          <a:xfrm>
            <a:off x="633240" y="2762280"/>
            <a:ext cx="8371080" cy="5997600"/>
          </a:xfrm>
          <a:prstGeom prst="rect">
            <a:avLst/>
          </a:prstGeom>
          <a:ln w="0">
            <a:noFill/>
          </a:ln>
        </p:spPr>
      </p:pic>
      <p:pic>
        <p:nvPicPr>
          <p:cNvPr id="480" name="図 6" descr="**写真.jpg"/>
          <p:cNvPicPr/>
          <p:nvPr/>
        </p:nvPicPr>
        <p:blipFill>
          <a:blip r:embed="rId2"/>
          <a:stretch/>
        </p:blipFill>
        <p:spPr>
          <a:xfrm>
            <a:off x="9607680" y="2682720"/>
            <a:ext cx="3943080" cy="29797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1"/>
          <p:cNvSpPr/>
          <p:nvPr/>
        </p:nvSpPr>
        <p:spPr>
          <a:xfrm>
            <a:off x="1366920" y="824040"/>
            <a:ext cx="518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8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居酒屋　○●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1"/>
          <p:cNvSpPr/>
          <p:nvPr/>
        </p:nvSpPr>
        <p:spPr>
          <a:xfrm>
            <a:off x="6551640" y="1257480"/>
            <a:ext cx="106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この文章はダミーです。この文章はダミーです。この文章はダミーです。で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図 6" descr="**写真.jpg"/>
          <p:cNvPicPr/>
          <p:nvPr/>
        </p:nvPicPr>
        <p:blipFill>
          <a:blip r:embed="rId3"/>
          <a:stretch/>
        </p:blipFill>
        <p:spPr>
          <a:xfrm>
            <a:off x="13746240" y="2682720"/>
            <a:ext cx="3944880" cy="2979720"/>
          </a:xfrm>
          <a:prstGeom prst="rect">
            <a:avLst/>
          </a:prstGeom>
          <a:ln w="0">
            <a:noFill/>
          </a:ln>
        </p:spPr>
      </p:pic>
      <p:pic>
        <p:nvPicPr>
          <p:cNvPr id="485" name="図 3" descr=""/>
          <p:cNvPicPr/>
          <p:nvPr/>
        </p:nvPicPr>
        <p:blipFill>
          <a:blip r:embed="rId4"/>
          <a:stretch/>
        </p:blipFill>
        <p:spPr>
          <a:xfrm>
            <a:off x="841320" y="2992320"/>
            <a:ext cx="1847880" cy="1876680"/>
          </a:xfrm>
          <a:prstGeom prst="rect">
            <a:avLst/>
          </a:prstGeom>
          <a:ln w="0">
            <a:noFill/>
          </a:ln>
        </p:spPr>
      </p:pic>
      <p:pic>
        <p:nvPicPr>
          <p:cNvPr id="486" name="図 5" descr=""/>
          <p:cNvPicPr/>
          <p:nvPr/>
        </p:nvPicPr>
        <p:blipFill>
          <a:blip r:embed="rId5"/>
          <a:stretch/>
        </p:blipFill>
        <p:spPr>
          <a:xfrm>
            <a:off x="5630760" y="6459480"/>
            <a:ext cx="3305160" cy="1971720"/>
          </a:xfrm>
          <a:prstGeom prst="rect">
            <a:avLst/>
          </a:prstGeom>
          <a:ln w="0">
            <a:noFill/>
          </a:ln>
        </p:spPr>
      </p:pic>
      <p:sp>
        <p:nvSpPr>
          <p:cNvPr id="487" name="テキスト ボックス 1"/>
          <p:cNvSpPr/>
          <p:nvPr/>
        </p:nvSpPr>
        <p:spPr>
          <a:xfrm>
            <a:off x="731880" y="8926560"/>
            <a:ext cx="3790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7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■○○○○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1"/>
          <p:cNvSpPr/>
          <p:nvPr/>
        </p:nvSpPr>
        <p:spPr>
          <a:xfrm>
            <a:off x="4368960" y="8826480"/>
            <a:ext cx="4775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30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テキスト ボックス 1"/>
          <p:cNvSpPr/>
          <p:nvPr/>
        </p:nvSpPr>
        <p:spPr>
          <a:xfrm>
            <a:off x="11952360" y="571500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テキスト ボックス 1"/>
          <p:cNvSpPr/>
          <p:nvPr/>
        </p:nvSpPr>
        <p:spPr>
          <a:xfrm>
            <a:off x="9485280" y="574524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テキスト ボックス 1"/>
          <p:cNvSpPr/>
          <p:nvPr/>
        </p:nvSpPr>
        <p:spPr>
          <a:xfrm>
            <a:off x="16117920" y="571500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1"/>
          <p:cNvSpPr/>
          <p:nvPr/>
        </p:nvSpPr>
        <p:spPr>
          <a:xfrm>
            <a:off x="13650840" y="574524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1"/>
          <p:cNvSpPr/>
          <p:nvPr/>
        </p:nvSpPr>
        <p:spPr>
          <a:xfrm>
            <a:off x="11952360" y="936468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1"/>
          <p:cNvSpPr/>
          <p:nvPr/>
        </p:nvSpPr>
        <p:spPr>
          <a:xfrm>
            <a:off x="9485280" y="93963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 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1"/>
          <p:cNvSpPr/>
          <p:nvPr/>
        </p:nvSpPr>
        <p:spPr>
          <a:xfrm>
            <a:off x="16117920" y="936468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テキスト ボックス 1"/>
          <p:cNvSpPr/>
          <p:nvPr/>
        </p:nvSpPr>
        <p:spPr>
          <a:xfrm>
            <a:off x="13650840" y="93963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 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図 6" descr="**写真.jpg"/>
          <p:cNvPicPr/>
          <p:nvPr/>
        </p:nvPicPr>
        <p:blipFill>
          <a:blip r:embed="rId6"/>
          <a:stretch/>
        </p:blipFill>
        <p:spPr>
          <a:xfrm>
            <a:off x="9607680" y="6340320"/>
            <a:ext cx="3943080" cy="2986200"/>
          </a:xfrm>
          <a:prstGeom prst="rect">
            <a:avLst/>
          </a:prstGeom>
          <a:ln w="0">
            <a:noFill/>
          </a:ln>
        </p:spPr>
      </p:pic>
      <p:pic>
        <p:nvPicPr>
          <p:cNvPr id="498" name="図 6" descr="**写真.jpg"/>
          <p:cNvPicPr/>
          <p:nvPr/>
        </p:nvPicPr>
        <p:blipFill>
          <a:blip r:embed="rId7"/>
          <a:stretch/>
        </p:blipFill>
        <p:spPr>
          <a:xfrm>
            <a:off x="13746240" y="6340320"/>
            <a:ext cx="39448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>(株)デンソー（販社グループ）DENSO_CORPORATION_GROUP</dc:creator>
  <dc:description/>
  <dc:language>en-US</dc:language>
  <cp:lastModifiedBy>成良</cp:lastModifiedBy>
  <dcterms:modified xsi:type="dcterms:W3CDTF">2022-10-06T07:14:52Z</dcterms:modified>
  <cp:revision>67</cp:revision>
  <dc:subject/>
  <dc:title>スライド 1</dc:title>
</cp:coreProperties>
</file>