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</p:sldIdLst>
  <p:sldSz cx="18288000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409320" y="1233360"/>
            <a:ext cx="591660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CD6F-A1F0-4360-9570-3B721511884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01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C7D6-97C1-41E3-8351-6A6EDF1022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A05FE-6735-441C-8582-9AA44755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2267D-2395-40FD-972C-AB475172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8FA12-A15B-47F5-9924-D60E8F51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17D29-10F9-43D7-8A90-80C472C2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60FD4-CA2C-4F07-BB66-5570920E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50A6C-A26A-4614-8B89-DA26C464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A955D-3FDE-4F1B-9E5B-CEC3F936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D6F6B-1C19-4279-83C7-3FF4D3D5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DBAE1-F922-4919-86FE-BB97401A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6EB58-AB42-44C5-BC68-8EEF2137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79539-6D0B-4D65-AB6D-4974B158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950E2-17E8-4FD4-8D8F-7CB60A50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72563-FF7E-4009-8F3E-4009175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82B9A-972E-4902-97D5-4008373A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32A1A-8DA2-4809-AA74-F78520AD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33C3B-CD82-4409-9110-2F8E730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CF4CA-9185-4D4A-ADB3-DF189787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EAF2E-12D8-4ABD-9D9E-F1B98F9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8A25B-7A74-4969-9AC8-D61EFE21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21014-94BC-4070-BE93-8BE17CB3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46AF0-1943-44C2-B436-589CFE13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2A692-6E95-4A51-AED3-A688F2C6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A59D0-01F4-467F-847E-50DA067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89E21-6256-4B1D-84D9-AEB9C43F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AC5B4-939F-423A-9308-45164843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DEA92-2349-4B56-AF92-70C3B84A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848C2-78F3-4889-BA23-D73A21E8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05288-0D29-49BA-9881-11FEEE0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3C9F3-37BB-465D-8B74-5C713D73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FD2C8-5F58-42B4-B823-2D71D219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12E-BED2-46C0-8484-BC64B2E2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536E6-F45C-4ACF-A7CC-C2E22118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0C7E6-C57E-4584-B57D-BAB7A78B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91828-3067-4DA6-AEE2-D0563ED8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D76-5894-40FE-AABF-B21FA78E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ABA-06A5-4D72-A536-72D1C4E4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039-8045-4518-81E9-1DA5BB18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307-2DF8-49D3-B7C3-9F7C7FA9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BB0-41D6-4730-ABB7-B1CF8508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FD3-5CF4-4432-8884-DC05331B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5E2-BDF2-44DA-B124-C84A887E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724-4C22-401D-90DF-44F6D3AC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FDC-CC77-4690-8D31-4CB5FC12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2C6-BEE0-4DB5-B0C4-801044A6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C6A-6213-4BC2-AD4F-6212BB8E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DD15-E322-418E-B3F4-BD20CE66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03D3-EC36-4484-8849-3058A8CC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8BCF-0816-4C7C-9A05-63BC520C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285E-670D-4644-AB1E-3B2744F7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B947-9683-4236-823D-13354A8D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7926-D114-412A-AF0B-F5157F4F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CE24-EA35-49DA-B920-969AA3E1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76BC-E12A-4C8E-BAFB-6CB04101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0B11-6C8E-42E8-96CF-A21E0664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FF89-83FA-4653-907A-ED5D289A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E82B-D716-4C40-A6CB-6FAB3D09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A3B6-099A-48C5-9408-25120BD7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D5B84-B242-4D44-82D1-1AF0B32B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2E8E-4FFA-4233-9788-1448C242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7B44-7B76-4E7D-9D51-3DBB72B0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E91E-7742-4AB8-A630-24A0D476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90D6A-3F8C-4153-A28D-30561086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2A81-D7B3-4325-93D5-C56B86C5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2142-695B-4D94-86D0-C0D2FED5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C093-DB0C-4ABD-B635-3278C470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634C5-D986-40B2-AEDB-BF8A415E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210A-859E-4BE3-88D9-96DD743D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52D8-C975-49D4-8D54-E64AFB8F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477F-5ABE-40C1-86A4-1DD8FC3A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C542-6C05-4789-BBFD-62C2A862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DF7E-94DF-4D38-ACD0-5E2E7F03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AA2B7-EE23-4B16-9F46-81E1276F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79C00-0CEF-4E70-B2BE-0697C75D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996E-106F-46D1-8B1C-959E9597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F7A5B-63C2-4A54-8B24-98CB71FD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825B-ACB7-494C-9565-8BE8CC1F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3300-9475-4C21-867F-FDF5E796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C8292-20B0-454F-BD62-CB15FAF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3B60F-72A1-41E4-BA4A-801D841A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D573B-887F-4660-A269-174A25BE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FEAA5-760E-4C3A-A1B7-16C3885C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BF12B-953D-460D-ABDB-FBA7B814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DE07-4A05-438A-826F-4FF610BC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11C0-1435-4C9E-BA2E-4E616A3D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8A3B3-3EC5-4F42-A104-852730AD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91590-AD85-4AFB-9C3E-7AB109C3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A7DDE-B8F7-415D-83EC-DABBCCB3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1963A-DC7A-4232-A4DE-18C3F815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1BC87-4DBD-47B1-BA96-41B02ED9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C0898-D63F-4F8C-8E52-6305CCD7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2468E-89A0-4438-8095-886C4515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FB27-7827-4FAD-807D-CEBF3BD7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8D2DE-976C-4613-8519-037E4064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70F09-B004-400D-9AC8-F99EB031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454CE-47C0-4839-8E3F-80428250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43538-E92F-4F5F-8626-C45312B7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B839B-EEDC-4F51-A5B6-4467F3C0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A8200-42DC-413C-88C9-DB8D3126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F5C0C-B78B-4184-A0A9-94180EB0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78DD5-79D7-4421-B088-9E35ED09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18A23-217B-4C77-B2E1-0F6B8622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D7086-B405-4394-8840-A629637E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ED7A0-1594-4461-A1CD-613211FA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17BD3-5D46-408F-9489-F8B965F4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15B4C-37EA-40D5-8DFD-784BA38C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B44DE-7B25-4921-BC48-F20F0FFD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2652E-FD87-44E3-ACCC-42440E14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65230-193C-44C2-97A2-6E805950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4E507-F06E-42AE-9965-79C1BFA4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D50A2-FF9E-4A3A-9426-054979E8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3D8DB-6654-4B6F-AF04-B5730D71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90215-36C1-4393-993F-CA5E5419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6F3D-39DA-4455-8AC8-18752FCE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0D7AA-4BB4-428D-BF2C-FFD03208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CECF1-D1A5-4C1E-91A5-7F9DF120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FB65A-60F0-44DA-BC39-184F50F1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CE1F4-F8E6-47E0-B930-7EED9502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DD208-9564-41DD-9135-3B72FA35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8C316-757E-4C28-8504-D54DC040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60413-2B3D-446F-9943-75A4CDDD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7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88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89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6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7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4BFE-77A0-4710-9098-C6EABDDD2A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0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431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432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dt" idx="28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29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9266-5720-45A8-BC71-EE1232009B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4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4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48FD-550D-4B16-A3A1-0F400EB56E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4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85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86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D238-E987-41D1-874F-79D7BCC836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7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128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129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664-6827-4127-9E91-551B96EA0D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0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171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172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E50D-6669-41D7-9409-001217FCC5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3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14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215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4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7788-7A24-4050-BC01-1A1A5A4753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6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57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258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0E2C-C591-48FD-8EEE-33296AAEEF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0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0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19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0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1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9D85-BE40-4166-8B9C-7F970C4F87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4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45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46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5571-8784-42F2-B25F-BB0533AF96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図 6" descr="**写真.jpg"/>
          <p:cNvPicPr/>
          <p:nvPr/>
        </p:nvPicPr>
        <p:blipFill>
          <a:blip r:embed="rId1"/>
          <a:stretch/>
        </p:blipFill>
        <p:spPr>
          <a:xfrm>
            <a:off x="633240" y="2762280"/>
            <a:ext cx="8371080" cy="5997600"/>
          </a:xfrm>
          <a:prstGeom prst="rect">
            <a:avLst/>
          </a:prstGeom>
          <a:ln w="0">
            <a:noFill/>
          </a:ln>
        </p:spPr>
      </p:pic>
      <p:pic>
        <p:nvPicPr>
          <p:cNvPr id="480" name="図 6" descr="**写真.jpg"/>
          <p:cNvPicPr/>
          <p:nvPr/>
        </p:nvPicPr>
        <p:blipFill>
          <a:blip r:embed="rId2"/>
          <a:stretch/>
        </p:blipFill>
        <p:spPr>
          <a:xfrm>
            <a:off x="9607680" y="2682720"/>
            <a:ext cx="3943080" cy="29797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1"/>
          <p:cNvSpPr/>
          <p:nvPr/>
        </p:nvSpPr>
        <p:spPr>
          <a:xfrm>
            <a:off x="1366920" y="824040"/>
            <a:ext cx="518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8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居酒屋　○●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1"/>
          <p:cNvSpPr/>
          <p:nvPr/>
        </p:nvSpPr>
        <p:spPr>
          <a:xfrm>
            <a:off x="6551640" y="1257480"/>
            <a:ext cx="106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この文章はダミーです。この文章はダミーです。この文章はダミーです。で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6" descr="**写真.jpg"/>
          <p:cNvPicPr/>
          <p:nvPr/>
        </p:nvPicPr>
        <p:blipFill>
          <a:blip r:embed="rId3"/>
          <a:stretch/>
        </p:blipFill>
        <p:spPr>
          <a:xfrm>
            <a:off x="13746240" y="2682720"/>
            <a:ext cx="3944880" cy="2979720"/>
          </a:xfrm>
          <a:prstGeom prst="rect">
            <a:avLst/>
          </a:prstGeom>
          <a:ln w="0">
            <a:noFill/>
          </a:ln>
        </p:spPr>
      </p:pic>
      <p:pic>
        <p:nvPicPr>
          <p:cNvPr id="485" name="図 3" descr=""/>
          <p:cNvPicPr/>
          <p:nvPr/>
        </p:nvPicPr>
        <p:blipFill>
          <a:blip r:embed="rId4"/>
          <a:stretch/>
        </p:blipFill>
        <p:spPr>
          <a:xfrm>
            <a:off x="841320" y="2992320"/>
            <a:ext cx="1847880" cy="1876680"/>
          </a:xfrm>
          <a:prstGeom prst="rect">
            <a:avLst/>
          </a:prstGeom>
          <a:ln w="0">
            <a:noFill/>
          </a:ln>
        </p:spPr>
      </p:pic>
      <p:pic>
        <p:nvPicPr>
          <p:cNvPr id="486" name="図 5" descr=""/>
          <p:cNvPicPr/>
          <p:nvPr/>
        </p:nvPicPr>
        <p:blipFill>
          <a:blip r:embed="rId5"/>
          <a:stretch/>
        </p:blipFill>
        <p:spPr>
          <a:xfrm>
            <a:off x="5630760" y="6459480"/>
            <a:ext cx="3305160" cy="1971720"/>
          </a:xfrm>
          <a:prstGeom prst="rect">
            <a:avLst/>
          </a:prstGeom>
          <a:ln w="0">
            <a:noFill/>
          </a:ln>
        </p:spPr>
      </p:pic>
      <p:sp>
        <p:nvSpPr>
          <p:cNvPr id="487" name="テキスト ボックス 1"/>
          <p:cNvSpPr/>
          <p:nvPr/>
        </p:nvSpPr>
        <p:spPr>
          <a:xfrm>
            <a:off x="731880" y="8926560"/>
            <a:ext cx="3790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7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■○○○○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1"/>
          <p:cNvSpPr/>
          <p:nvPr/>
        </p:nvSpPr>
        <p:spPr>
          <a:xfrm>
            <a:off x="4368960" y="8826480"/>
            <a:ext cx="4775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30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1"/>
          <p:cNvSpPr/>
          <p:nvPr/>
        </p:nvSpPr>
        <p:spPr>
          <a:xfrm>
            <a:off x="11952360" y="571500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テキスト ボックス 1"/>
          <p:cNvSpPr/>
          <p:nvPr/>
        </p:nvSpPr>
        <p:spPr>
          <a:xfrm>
            <a:off x="9485280" y="574524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テキスト ボックス 1"/>
          <p:cNvSpPr/>
          <p:nvPr/>
        </p:nvSpPr>
        <p:spPr>
          <a:xfrm>
            <a:off x="16117920" y="571500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"/>
          <p:cNvSpPr/>
          <p:nvPr/>
        </p:nvSpPr>
        <p:spPr>
          <a:xfrm>
            <a:off x="13650840" y="574524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1"/>
          <p:cNvSpPr/>
          <p:nvPr/>
        </p:nvSpPr>
        <p:spPr>
          <a:xfrm>
            <a:off x="11952360" y="936468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1"/>
          <p:cNvSpPr/>
          <p:nvPr/>
        </p:nvSpPr>
        <p:spPr>
          <a:xfrm>
            <a:off x="9485280" y="9396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 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1"/>
          <p:cNvSpPr/>
          <p:nvPr/>
        </p:nvSpPr>
        <p:spPr>
          <a:xfrm>
            <a:off x="16117920" y="936468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1"/>
          <p:cNvSpPr/>
          <p:nvPr/>
        </p:nvSpPr>
        <p:spPr>
          <a:xfrm>
            <a:off x="13650840" y="9396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 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図 6" descr="**写真.jpg"/>
          <p:cNvPicPr/>
          <p:nvPr/>
        </p:nvPicPr>
        <p:blipFill>
          <a:blip r:embed="rId6"/>
          <a:stretch/>
        </p:blipFill>
        <p:spPr>
          <a:xfrm>
            <a:off x="9607680" y="6340320"/>
            <a:ext cx="3943080" cy="2986200"/>
          </a:xfrm>
          <a:prstGeom prst="rect">
            <a:avLst/>
          </a:prstGeom>
          <a:ln w="0">
            <a:noFill/>
          </a:ln>
        </p:spPr>
      </p:pic>
      <p:pic>
        <p:nvPicPr>
          <p:cNvPr id="498" name="図 6" descr="**写真.jpg"/>
          <p:cNvPicPr/>
          <p:nvPr/>
        </p:nvPicPr>
        <p:blipFill>
          <a:blip r:embed="rId7"/>
          <a:stretch/>
        </p:blipFill>
        <p:spPr>
          <a:xfrm>
            <a:off x="13746240" y="6340320"/>
            <a:ext cx="39448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>(株)デンソー（販社グループ）DENSO_CORPORATION_GROUP</dc:creator>
  <dc:description/>
  <dc:language>en-US</dc:language>
  <cp:lastModifiedBy>成良</cp:lastModifiedBy>
  <dcterms:modified xsi:type="dcterms:W3CDTF">2022-10-06T07:14:52Z</dcterms:modified>
  <cp:revision>67</cp:revision>
  <dc:subject/>
  <dc:title>スライド 1</dc:title>
</cp:coreProperties>
</file>