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</p:sldIdLst>
  <p:sldSz cx="18288000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AB9E-87C1-44D8-8C52-027749B13A2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01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2005-6DFC-4BB3-952C-0D9BE0BFC8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FBC6-BC79-4AB4-9924-700EA4E4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7C6C0-696C-414D-8C0B-64CEF447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1DDE0-80FE-40BC-8366-A8E0EFD9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C3D58-72F2-4AFE-91F2-F0BF09A6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75FA2-5821-40F4-A0BA-21A96393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4DDD3-1981-4E7A-BAE5-744868DD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CB873-8539-4698-A01C-B25F035D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16429-C39F-4DA7-B5AB-38117467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46B90-0023-4AEE-9666-FA0D50A5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10256-B8D9-475D-9BF4-602B7370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EF44F-CA74-4EEF-BF13-E5A6B14B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27D6F-09E4-48A0-9812-DE45E92C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57A43-0F72-4DE5-8DEE-59E8702B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C6580-7068-4FEE-ADE7-FFE2F6A2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B25C4-648D-47A9-8CFF-16ECD887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B6204-3913-4AA5-A2B2-27E3C8F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DBE96-C720-4853-9EBA-08980C8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EAE4E-2EAD-4FF9-9E05-A4929B6C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60105-E12B-4324-92A3-35420EF3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EE215-6F43-4063-AED0-FFB486CD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CDBE3-8ED1-4A6A-B90A-7A7B4E11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D77BC-CA5C-4336-9715-03C03B7C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52C8F-847B-44F3-8021-A7645FC1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754AF-EAE8-4F1F-96B9-DB65178C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FB312-8649-4F21-84CD-94868475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09E19-1A6D-4277-B9B1-C1042A85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610C2-BCBF-448F-8A83-08EE073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0E9D2-AD80-49FB-B336-3B61301D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8CB4B-FC75-4214-9FE9-0FC9275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33EA1-7B62-4CE6-97FD-CE7E3C1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BE5-4C8A-433D-BDE6-034BFFE6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61703-48EC-4B38-9A2F-F4511C59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8BAF8-46F0-49A9-8516-82DA0516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82535-FF77-42BA-A0D3-7D53080A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B3A-7B06-459D-B8BA-1F8331AE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65F-48FE-4706-A0AA-FA792DCD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595-9F06-442B-9DCC-D8FDA01A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906-3691-4DE1-AD9E-746E2473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2F9-A86D-4018-8276-06CE0FE5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EE4-60D4-4E98-AC6E-128780D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05B-456B-4994-B6FD-12CFD6A6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BF5-0724-4E66-92B1-8949868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D16-DC14-4B93-97C4-7F363699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761-0A41-4F88-8CC4-CF2FD379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E5D-48FD-4436-B800-05828289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4091-70ED-42C5-A47A-B77C7582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9100-269B-42A2-8BA3-2329CD3D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8A4C-C66F-423C-9E3E-630F891B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4F14-D621-4229-AB8C-B709672A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C529-A405-40ED-B347-904C829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5D83-C5F6-4799-80B5-3614CBD3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EC0B-6AF3-4985-B46D-4CFBDB4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03BD-799C-472F-AEE8-36941107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ED42-D327-4219-AAC8-10CFE968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ACE8-3AAF-41B2-83D5-9935A666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30EA-A2ED-4DFB-8618-CFA82BB8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2B59-030E-49E2-B7D6-73098F11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1205-A08B-4320-A8E8-2F9E4F39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811C-7A62-402F-89A3-64A71DDD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700F-ED90-48DC-8D19-A6B47DB4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C394-4804-44D6-AFE1-A59F603B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AAEC-A744-435A-9C66-05ED9DA4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433A-C85D-4A19-BDB7-504533D8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3271-7A60-4DBC-B598-3282A5F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757B-C36A-498C-95A9-3CB55E11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AB90-0BF3-427D-ABF4-794CBF09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B2BE-4378-4814-82A6-483B149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6A97-ABBD-4F20-9C00-96FC3A7B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F37C-911B-4B2B-B1EC-F0F6334C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6653-F6F3-427F-9FCE-B907E62E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A6C4E-50FF-44E8-9585-0D4B6278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F90BE-80AE-4858-BBD1-02E4E00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23CD-FCC3-46A8-8B63-859CE105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0850-1590-4B79-A6A1-75DD490B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451A-23E1-4EB7-A622-A2D74A20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F55F-62E2-447E-9EE7-1A2A20A0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303B6-822D-475F-B23B-4699753E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02A8-D508-4316-86E1-0385A9D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1355-EE8F-4A62-B994-CD114616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2E348-334B-48BE-AD09-40A14231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D14CF-3738-4AAE-9A0E-651F2E9E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2A36-2352-451E-BAD9-9DAFF20D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729FC-0CF6-4D43-A8D4-4B4AB0DB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8D68-9309-4529-B436-B810703F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75D2-DDF5-4EF4-8143-17254B4F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AE309-FD6E-4949-A35A-FD2B6CE5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7CC20-63E1-4D03-BFCD-252104C5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D340-39D6-449D-99F7-08AC358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92859-E937-4132-90CB-F9A5827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D8ABA-B0B8-4923-85EB-D6F1274A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23181-20C9-49C0-A58E-F564714B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586B-D328-4515-8B0E-1EEDEBAA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CBB1-6023-4F83-8D20-39A2E0C5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CD6C5-2F89-4857-BE32-47DF9FE0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A2D7E-8FAF-4F54-9E8D-AE9F0603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8DACE-AAB9-4749-B49A-053A55DF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0B42-F77F-47BA-9C79-2E99CBAF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C13C8-56D6-40D7-B2E5-6A770B13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80343-3600-4559-AE7D-074FAB5B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551A8-ECEA-44CB-9BC1-1858B914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E1613-3B73-4B5C-9A12-0063B9E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B7DC-8956-489D-95C4-22D39094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95311-A0DE-4EB8-9794-68C80B1E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2F341-5BFD-40CF-94D9-F340C04D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020F8-D668-4E2D-A0F4-2FD10794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6AD06-202A-425D-9F4B-688589C2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3385-1162-4242-ABBD-4B4A3055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DB01-0114-4497-AAB4-E78B95DB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22E7C-3DAA-4A0E-A872-1C8A8C16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C8A5B-03C1-4F2B-8ABE-4DFE2876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352D2-C77B-485E-8355-8DE732B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FD8CC-5273-4739-9708-C05DC71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196BB-FBA2-4EC0-ADC6-9D47C424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4D1B6-01C7-4B7E-89FC-AE4F4DD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94D98-162E-40E7-B125-C9AB5F15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A0B4C-40CA-46B1-A431-0D28DCD2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4E79E-F6BD-4935-A4A6-9134BDAD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BB9C3-95FF-4E42-AD69-87EEBBE3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B0538-A178-4DB0-8BDA-27986037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51282-0FB6-462A-8D4E-2B88FC82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8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8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654C-2AD0-470F-8E89-96AC865E8C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3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6CBF-B74C-476D-8AC0-D369E1D999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0925-08DC-4C69-91DF-56519259CE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8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8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DF7D-ECE0-48AA-9E90-8F50D74D91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2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2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0CAE-520B-470D-806A-8E41E9FF07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7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7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329E-980A-4604-BC3D-937C66F165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3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15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5112-117E-43DC-97F6-5B56BC1B79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6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57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58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D954-A7D5-43D5-B690-30B223441F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0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0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53BF-CC4C-40E4-9EC4-9FE7F44665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4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4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4B1-BC19-46AC-855C-95196E19FC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図 6" descr="**写真.jpg"/>
          <p:cNvPicPr/>
          <p:nvPr/>
        </p:nvPicPr>
        <p:blipFill>
          <a:blip r:embed="rId1"/>
          <a:stretch/>
        </p:blipFill>
        <p:spPr>
          <a:xfrm>
            <a:off x="633240" y="2762280"/>
            <a:ext cx="8371080" cy="5997600"/>
          </a:xfrm>
          <a:prstGeom prst="rect">
            <a:avLst/>
          </a:prstGeom>
          <a:ln w="0">
            <a:noFill/>
          </a:ln>
        </p:spPr>
      </p:pic>
      <p:pic>
        <p:nvPicPr>
          <p:cNvPr id="480" name="図 6" descr="**写真.jpg"/>
          <p:cNvPicPr/>
          <p:nvPr/>
        </p:nvPicPr>
        <p:blipFill>
          <a:blip r:embed="rId2"/>
          <a:stretch/>
        </p:blipFill>
        <p:spPr>
          <a:xfrm>
            <a:off x="9607680" y="2682720"/>
            <a:ext cx="3943080" cy="29797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"/>
          <p:cNvSpPr/>
          <p:nvPr/>
        </p:nvSpPr>
        <p:spPr>
          <a:xfrm>
            <a:off x="1366920" y="824040"/>
            <a:ext cx="518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8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居酒屋　○●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1"/>
          <p:cNvSpPr/>
          <p:nvPr/>
        </p:nvSpPr>
        <p:spPr>
          <a:xfrm>
            <a:off x="6551640" y="1257480"/>
            <a:ext cx="106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この文章はダミーです。この文章はダミーです。この文章はダミーです。で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6" descr="**写真.jpg"/>
          <p:cNvPicPr/>
          <p:nvPr/>
        </p:nvPicPr>
        <p:blipFill>
          <a:blip r:embed="rId3"/>
          <a:stretch/>
        </p:blipFill>
        <p:spPr>
          <a:xfrm>
            <a:off x="13746240" y="2682720"/>
            <a:ext cx="3944880" cy="2979720"/>
          </a:xfrm>
          <a:prstGeom prst="rect">
            <a:avLst/>
          </a:prstGeom>
          <a:ln w="0">
            <a:noFill/>
          </a:ln>
        </p:spPr>
      </p:pic>
      <p:pic>
        <p:nvPicPr>
          <p:cNvPr id="485" name="図 3" descr=""/>
          <p:cNvPicPr/>
          <p:nvPr/>
        </p:nvPicPr>
        <p:blipFill>
          <a:blip r:embed="rId4"/>
          <a:stretch/>
        </p:blipFill>
        <p:spPr>
          <a:xfrm>
            <a:off x="841320" y="2992320"/>
            <a:ext cx="1847880" cy="1876680"/>
          </a:xfrm>
          <a:prstGeom prst="rect">
            <a:avLst/>
          </a:prstGeom>
          <a:ln w="0">
            <a:noFill/>
          </a:ln>
        </p:spPr>
      </p:pic>
      <p:pic>
        <p:nvPicPr>
          <p:cNvPr id="486" name="図 5" descr=""/>
          <p:cNvPicPr/>
          <p:nvPr/>
        </p:nvPicPr>
        <p:blipFill>
          <a:blip r:embed="rId5"/>
          <a:stretch/>
        </p:blipFill>
        <p:spPr>
          <a:xfrm>
            <a:off x="5630760" y="6459480"/>
            <a:ext cx="3305160" cy="1971720"/>
          </a:xfrm>
          <a:prstGeom prst="rect">
            <a:avLst/>
          </a:prstGeom>
          <a:ln w="0">
            <a:noFill/>
          </a:ln>
        </p:spPr>
      </p:pic>
      <p:sp>
        <p:nvSpPr>
          <p:cNvPr id="487" name="テキスト ボックス 1"/>
          <p:cNvSpPr/>
          <p:nvPr/>
        </p:nvSpPr>
        <p:spPr>
          <a:xfrm>
            <a:off x="731880" y="8926560"/>
            <a:ext cx="3790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7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■○○○○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1"/>
          <p:cNvSpPr/>
          <p:nvPr/>
        </p:nvSpPr>
        <p:spPr>
          <a:xfrm>
            <a:off x="4368960" y="8826480"/>
            <a:ext cx="4775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30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"/>
          <p:cNvSpPr/>
          <p:nvPr/>
        </p:nvSpPr>
        <p:spPr>
          <a:xfrm>
            <a:off x="1195236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"/>
          <p:cNvSpPr/>
          <p:nvPr/>
        </p:nvSpPr>
        <p:spPr>
          <a:xfrm>
            <a:off x="948528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"/>
          <p:cNvSpPr/>
          <p:nvPr/>
        </p:nvSpPr>
        <p:spPr>
          <a:xfrm>
            <a:off x="1611792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"/>
          <p:cNvSpPr/>
          <p:nvPr/>
        </p:nvSpPr>
        <p:spPr>
          <a:xfrm>
            <a:off x="1365084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1"/>
          <p:cNvSpPr/>
          <p:nvPr/>
        </p:nvSpPr>
        <p:spPr>
          <a:xfrm>
            <a:off x="1195236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1"/>
          <p:cNvSpPr/>
          <p:nvPr/>
        </p:nvSpPr>
        <p:spPr>
          <a:xfrm>
            <a:off x="948528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1"/>
          <p:cNvSpPr/>
          <p:nvPr/>
        </p:nvSpPr>
        <p:spPr>
          <a:xfrm>
            <a:off x="1611792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1"/>
          <p:cNvSpPr/>
          <p:nvPr/>
        </p:nvSpPr>
        <p:spPr>
          <a:xfrm>
            <a:off x="1365084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図 6" descr="**写真.jpg"/>
          <p:cNvPicPr/>
          <p:nvPr/>
        </p:nvPicPr>
        <p:blipFill>
          <a:blip r:embed="rId6"/>
          <a:stretch/>
        </p:blipFill>
        <p:spPr>
          <a:xfrm>
            <a:off x="9607680" y="6340320"/>
            <a:ext cx="3943080" cy="2986200"/>
          </a:xfrm>
          <a:prstGeom prst="rect">
            <a:avLst/>
          </a:prstGeom>
          <a:ln w="0">
            <a:noFill/>
          </a:ln>
        </p:spPr>
      </p:pic>
      <p:pic>
        <p:nvPicPr>
          <p:cNvPr id="498" name="図 6" descr="**写真.jpg"/>
          <p:cNvPicPr/>
          <p:nvPr/>
        </p:nvPicPr>
        <p:blipFill>
          <a:blip r:embed="rId7"/>
          <a:stretch/>
        </p:blipFill>
        <p:spPr>
          <a:xfrm>
            <a:off x="13746240" y="6340320"/>
            <a:ext cx="39448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>(株)デンソー（販社グループ）DENSO_CORPORATION_GROUP</dc:creator>
  <dc:description/>
  <dc:language>en-US</dc:language>
  <cp:lastModifiedBy>成良</cp:lastModifiedBy>
  <dcterms:modified xsi:type="dcterms:W3CDTF">2022-10-06T07:14:52Z</dcterms:modified>
  <cp:revision>67</cp:revision>
  <dc:subject/>
  <dc:title>スライド 1</dc:title>
</cp:coreProperties>
</file>