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</p:sldIdLst>
  <p:sldSz cx="18288000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1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409320" y="1233360"/>
            <a:ext cx="591660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2"/>
          </p:nvPr>
        </p:nvSpPr>
        <p:spPr>
          <a:xfrm>
            <a:off x="-3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3"/>
          </p:nvPr>
        </p:nvSpPr>
        <p:spPr>
          <a:xfrm>
            <a:off x="38145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1610-60A4-44FA-A6D7-0157383EBB0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96" name="スライド番号プレースホルダー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BAB8-8A59-4D96-9CBC-617E5AA462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1E8E5-8860-49AC-9FBB-5A3F2D51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5EF31-D3AE-46FF-B23C-897A69E1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81C62-1215-4331-8B70-D2BC7DF5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75FB2-9501-44E6-BAF8-C7C62823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497AE-67B8-4826-91FC-53E6BE38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E7B76-6ADD-4DA7-B10A-BA305392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EF05C-50CE-497F-AAC5-561EAD64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9EFE2-72C7-4B7B-AE8F-6337E16D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B017A-82F3-41FB-805B-68DC54F0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0F07A-BBE0-44AF-BC11-78D0B922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D2DF8-CC34-45FD-892F-04690824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D9794-5171-4B44-A2F7-0193F15F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119B1-1E59-4418-9ED0-12DA1402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E4A6A-9F0B-4B2C-8145-9F0C03EF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8187F-638B-479D-967E-9DE579CF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E5345-16AA-4F55-B8D7-67CB697D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249AC-AF45-49B2-A3BA-9604329A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4D000-DA57-4AE7-AE70-9D0CAB6D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258BB-C5DA-4802-AD24-57CFACD8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84DA8-D726-40D8-ACF4-DF5B546F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C5EBE-F08C-48F7-9E57-620A579E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DEB9F-A1B3-4167-8191-1CB1F5CA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D0C25-BB86-44DE-82A1-0F2111CC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0EB5E-878F-45E0-8838-BEED17C9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71533-E719-41E5-B290-C80F08B7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9DC26-1C16-4F50-AEE3-E85667BE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51F3B-EC3C-493B-84BA-4948DD1F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959EB-4DFB-4EBA-83CA-7C3D0DC4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14825-D549-461B-9272-37D00C35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98FE7-0028-44BE-8619-FAD6AFE9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5D0-0955-4EB9-9514-82F80D45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A6119-54E0-4A02-A028-63A90456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B58B3-B78C-4488-8CD7-C2A9C632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FE40E-52D1-43C0-9946-745447FB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C8A-2BC8-45BB-AF4D-43F2A8FB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99B-BDE2-4E45-84FB-3A2634BF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728-45C5-4791-97E6-2B8861BC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A6CB-A449-4084-B980-7E428FCB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840-B5A2-4940-9D26-A16CE0FC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511-7D65-45F2-85BE-3A90E32D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735-ABDC-44A6-B699-F234A0EB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684-2BB7-442E-BC85-BF489293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12E-709C-40C2-A459-4326AE72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B30-690E-469E-BEC5-6DE3CC0F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356-7314-4898-B9A1-970F19C9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0CD9-E5C9-4D14-AF68-BFC156C4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EEEC-4157-4A94-A7FF-9C6A4CA8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5B45-7600-4AC6-9F31-923D7700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3ADF-6ADF-4A91-A140-C6B3E54D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809C-9DE7-40FE-B259-74CBAA17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2B94-0A35-4CE0-AED5-298FEAB6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253D-CE41-46E2-B19A-62962C6C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9A53-6418-4F97-8C76-BE7D216A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799C-2EBF-458A-A287-C0240BE9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D010-3054-4A8A-BD68-E711A6DE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B155-C80C-4F9B-81E2-258D3698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7A28-F0A1-4ABF-A444-C906A124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0E5B0-6D2B-4A89-9263-C66B91DB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6EEDF-7391-432C-ACA7-133B49FF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D23C4-63CF-4BD1-8BFF-A57E3D55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15D85-2C59-4BD8-8CA7-2347CD87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07B3A-2FDF-41B1-BB62-A0843CDB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A8686-C8BE-4E90-B4B7-EB2FE1DD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9043-14C2-4226-B689-3383E2D4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E4048-CD86-44F0-81E7-13B1738A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6995B-C4B5-4665-914A-ED8E9227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1A45-5844-46C9-B306-05AA4078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75527-3A96-41BB-B562-85C9CFF6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62ECD-75A7-4E4F-9827-11562A09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FEDA0-17B8-4CB3-B45E-87D9F3DA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9833F-177A-445F-AFE5-E58D2469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0FCA9-0DD2-431D-9D0A-8F41E887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A5A35-4BFB-490F-B41C-55DA25CF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813DD-2039-4825-ADCE-9ED52A7E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D882A-5AA5-43C2-B730-953D9E68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B82E3-EBC7-4547-AE36-22225EE6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DDD45-12AF-44DC-80AC-C84A6E7D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A956F-A060-40C2-A99F-D978C656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C507B-AEE7-48B5-A8EE-6B6C9EC5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0ED61-DBE7-46DB-8234-533D5790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1766E-E4AC-4DF2-B2DF-AA601C32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C94D7-2D71-4971-B50C-B2F1A93A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F3AB5-C8E5-43E0-838B-EDF5B85D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D0EE8-74D9-496F-91BD-6CEAC1B5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3252E-0EA3-4F07-8C19-22996CB5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79697-14F9-4A61-8B65-CD31D6CB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60B9A-4552-4493-90F6-991D0742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5906D-3797-4FB6-A26E-7E020253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A07E2-3828-4811-B36B-8263D646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3F595-1BC1-4258-BAA3-A222C3D8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8447F-F203-4676-ADE3-551505B8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2AC94-8961-416A-90EC-BE9812CD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CA61F-371B-405D-B4B2-28E0FBB1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98FF7-6175-46EF-9C27-96D1FB71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31346-4A87-4ECE-AB73-D45C7F70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5F7E6-ED3A-40C0-AFD9-71539F05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779F9-DB7B-43DC-BC87-864AC8C2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511BA-2BA1-42E1-881D-80578BEE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F19E9-8F62-4331-BD3A-A7E4EFAA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499D1-DFDD-4DD3-BB44-8A8F0F60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69D33-7D49-4932-AA34-37CC9C2D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000E8-3330-4AB3-BCF9-E3F75380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413B8-8C27-496B-B48F-34E46CC9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C519E-74B7-46D1-B055-CCBCB8D4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FA453-10FD-4263-80B4-6D9822B2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E5AC0-879B-4789-86E4-3F3056DE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35B81-3723-4ED0-B4CC-6C711945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3F222-5DA4-442A-8ED3-247EEF9A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B67E8-BE29-439E-A666-A47B7DAA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C0DF4-9F73-4985-9D73-188D36B8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16364-CBDF-4AA0-B054-37C6A6A7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6B003-9B06-4A0D-9C7D-172DC4FC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1A3CA-4D62-4DF5-BE70-63E312FB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D4E73-AFB5-49A1-AC25-4B9F308E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BF0FE-61F3-43A7-8A67-912C47E2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D57CB-165A-4DC6-A115-4FF5AE95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50AE1-63B2-4335-A033-5025D997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09723-72AD-4CD3-8152-5C2CE691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AE975-BFE0-4737-AC5F-03B80E85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58C3C-DC87-4FB3-B2A0-9D3AF877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3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87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88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389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dt" idx="25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6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27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A2D7-9E51-4A2A-8C36-9F456AE0CC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30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31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432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dt" idx="28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ftr" idx="29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30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06BC-DBAD-4CB2-B4FB-53C9C17D51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1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2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43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E169-85BB-4769-9E99-ADD0684C1E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4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5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86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70BE-FDEF-42E8-8EAC-62584F5E7B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27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28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129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dt" idx="7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8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9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164D-4A63-4675-89A6-F5EA5A747E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70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71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172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10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1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F8DC-D805-4C61-88EC-E00578FCA8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13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14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215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dt" idx="13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14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5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4C93-FE2F-44B3-8969-D87C2E16A8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56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57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258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AF2C-E699-4607-A95C-B6A8B44EEB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01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02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303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dt" idx="19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ftr" idx="20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1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05B7-50B0-4E4E-8490-CA3820732E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44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45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346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dt" idx="22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23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4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F02F-38A7-4F69-BDC3-F1CFE18B34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図 6" descr="**写真.jpg"/>
          <p:cNvPicPr/>
          <p:nvPr/>
        </p:nvPicPr>
        <p:blipFill>
          <a:blip r:embed="rId1"/>
          <a:stretch/>
        </p:blipFill>
        <p:spPr>
          <a:xfrm>
            <a:off x="1341360" y="3657600"/>
            <a:ext cx="4748400" cy="3187800"/>
          </a:xfrm>
          <a:prstGeom prst="rect">
            <a:avLst/>
          </a:prstGeom>
          <a:ln w="0">
            <a:noFill/>
          </a:ln>
        </p:spPr>
      </p:pic>
      <p:sp>
        <p:nvSpPr>
          <p:cNvPr id="481" name="テキスト ボックス 1"/>
          <p:cNvSpPr/>
          <p:nvPr/>
        </p:nvSpPr>
        <p:spPr>
          <a:xfrm>
            <a:off x="1238400" y="6988320"/>
            <a:ext cx="25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●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 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1"/>
          <p:cNvSpPr/>
          <p:nvPr/>
        </p:nvSpPr>
        <p:spPr>
          <a:xfrm>
            <a:off x="3916440" y="707400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0,000ye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3"/>
          <p:cNvSpPr/>
          <p:nvPr/>
        </p:nvSpPr>
        <p:spPr>
          <a:xfrm>
            <a:off x="1343160" y="7709040"/>
            <a:ext cx="4805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図 6" descr="**写真.jpg"/>
          <p:cNvPicPr/>
          <p:nvPr/>
        </p:nvPicPr>
        <p:blipFill>
          <a:blip r:embed="rId2"/>
          <a:stretch/>
        </p:blipFill>
        <p:spPr>
          <a:xfrm>
            <a:off x="6765840" y="3657600"/>
            <a:ext cx="4749840" cy="3187800"/>
          </a:xfrm>
          <a:prstGeom prst="rect">
            <a:avLst/>
          </a:prstGeom>
          <a:ln w="0">
            <a:noFill/>
          </a:ln>
        </p:spPr>
      </p:pic>
      <p:sp>
        <p:nvSpPr>
          <p:cNvPr id="485" name="テキスト ボックス 1"/>
          <p:cNvSpPr/>
          <p:nvPr/>
        </p:nvSpPr>
        <p:spPr>
          <a:xfrm>
            <a:off x="6673680" y="6988320"/>
            <a:ext cx="25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●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 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テキスト ボックス 7"/>
          <p:cNvSpPr/>
          <p:nvPr/>
        </p:nvSpPr>
        <p:spPr>
          <a:xfrm>
            <a:off x="9352080" y="707400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0,000ye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テキスト ボックス 8"/>
          <p:cNvSpPr/>
          <p:nvPr/>
        </p:nvSpPr>
        <p:spPr>
          <a:xfrm>
            <a:off x="6778800" y="7709040"/>
            <a:ext cx="4805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図 6" descr="**写真.jpg"/>
          <p:cNvPicPr/>
          <p:nvPr/>
        </p:nvPicPr>
        <p:blipFill>
          <a:blip r:embed="rId3"/>
          <a:stretch/>
        </p:blipFill>
        <p:spPr>
          <a:xfrm>
            <a:off x="12198240" y="3657600"/>
            <a:ext cx="4748400" cy="3187800"/>
          </a:xfrm>
          <a:prstGeom prst="rect">
            <a:avLst/>
          </a:prstGeom>
          <a:ln w="0">
            <a:noFill/>
          </a:ln>
        </p:spPr>
      </p:pic>
      <p:sp>
        <p:nvSpPr>
          <p:cNvPr id="489" name="テキスト ボックス 1"/>
          <p:cNvSpPr/>
          <p:nvPr/>
        </p:nvSpPr>
        <p:spPr>
          <a:xfrm>
            <a:off x="12107880" y="6988320"/>
            <a:ext cx="25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●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 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テキスト ボックス 11"/>
          <p:cNvSpPr/>
          <p:nvPr/>
        </p:nvSpPr>
        <p:spPr>
          <a:xfrm>
            <a:off x="14785920" y="707400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0,000ye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テキスト ボックス 12"/>
          <p:cNvSpPr/>
          <p:nvPr/>
        </p:nvSpPr>
        <p:spPr>
          <a:xfrm>
            <a:off x="12212640" y="7709040"/>
            <a:ext cx="4805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1"/>
          <p:cNvSpPr/>
          <p:nvPr/>
        </p:nvSpPr>
        <p:spPr>
          <a:xfrm>
            <a:off x="554040" y="9464760"/>
            <a:ext cx="812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○○○○○ </a:t>
            </a:r>
            <a:r>
              <a:rPr b="0" lang="en-US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Restaurant</a:t>
            </a:r>
            <a:r>
              <a:rPr b="0" lang="ja-JP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2"/>
          <p:cNvSpPr/>
          <p:nvPr/>
        </p:nvSpPr>
        <p:spPr>
          <a:xfrm>
            <a:off x="9604440" y="9464760"/>
            <a:ext cx="812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TEL</a:t>
            </a:r>
            <a:r>
              <a:rPr b="0" lang="ja-JP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：</a:t>
            </a:r>
            <a:r>
              <a:rPr b="0" lang="en-US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00-0000-00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>(株)デンソー（販社グループ）DENSO_CORPORATION_GROUP</dc:creator>
  <dc:description/>
  <dc:language>en-US</dc:language>
  <cp:lastModifiedBy>成良</cp:lastModifiedBy>
  <dcterms:modified xsi:type="dcterms:W3CDTF">2022-10-06T07:07:05Z</dcterms:modified>
  <cp:revision>57</cp:revision>
  <dc:subject/>
  <dc:title>スライド 1</dc:title>
</cp:coreProperties>
</file>