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</p:sldIdLst>
  <p:sldSz cx="18288000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1"/>
          </p:nvPr>
        </p:nvSpPr>
        <p:spPr>
          <a:xfrm>
            <a:off x="38145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409320" y="1233360"/>
            <a:ext cx="5916600" cy="332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32"/>
          </p:nvPr>
        </p:nvSpPr>
        <p:spPr>
          <a:xfrm>
            <a:off x="-3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33"/>
          </p:nvPr>
        </p:nvSpPr>
        <p:spPr>
          <a:xfrm>
            <a:off x="38145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7C37-EEC7-42E0-B870-1CB18A721D9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96" name="スライド番号プレースホルダー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2FB7-1DFD-4579-A403-A553BFA90D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A8D55-1D2F-426C-B632-A375ECED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37A68-8CBE-4E9C-8986-F17EF96B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91CC0-4593-4367-B896-64805A35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64D4D-6887-4EAB-9EEF-60363AD8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22FB6-4A1B-4D32-A310-AC79BF0F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377EB-BE29-4059-ACA5-00DAD7B1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B3038-9E33-477C-99AF-09EF1A0A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8ED68-E3D6-4EC7-9648-C0FAEE26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F8265-DBD3-4B8B-AC15-EABC826E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62EE3-05C5-47A5-AB26-DB22B689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FD0F2-8949-48C7-8976-672CA9B9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05F95-2955-47DB-AF12-41EF25D3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5A52D-B367-47FB-B7D7-E6772D53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F2205-C1B7-4928-A043-3EF26A35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852A5-C057-4D4B-BD67-03E649F5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2086A-A1DC-4AB6-BB7D-B584F283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BE062-40FE-4615-8CBF-1278DA56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C9A5A-BACD-4487-BB77-CCE4A81A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79BCD-368E-4615-9C1C-E347A7FF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B7F2F-24D1-47D3-A837-4B1E0B5C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265AC-873A-4FE9-B7DC-FE833AAA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D9B02-AAFC-4BBD-9C15-4BF2CD87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7538F-5001-4CB8-A19B-E87A28CF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837EF-72C9-427A-B3F1-7A4604E6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AC7D7-DB02-464A-948A-78D70448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4BC6D-C429-449F-87C1-206F3FA2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F126F-BEDB-4D87-B2AA-34E495A6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E9CD0-8CC7-49AC-A88D-A67D60C7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07494-1529-4F42-A7AB-8AEB8D35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FA81D-A4BB-4388-BC00-BFD0A7D1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7628-8323-4EA9-8BC6-5996573C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9C024-5F45-4270-B42D-AD8E6F89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4A2C9-4707-4562-A631-582E3157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E6FD9-0ADF-4AB8-BB6B-94C21EB1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5C61-2590-47CF-B0E3-FE91F25A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21F9-5C78-48C1-B41C-8C923F17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D88-DBDC-4004-9E02-495E7FBF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7EA-0F34-403E-880F-E9193977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073-89C3-47AA-8221-91E2CF10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B781-8E48-4207-A39F-53767C4B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E9CF-E6C2-42A0-A102-1E3424E9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7B7-F32F-4900-A4C1-4FAAA2CF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89D-945F-4D77-8484-41A433CB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978-5B19-45BE-AD29-E50888D7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738-DDF8-4F02-84ED-B180FD9A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0FF1-7A9C-4387-A9B4-28E9B65C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CD77-44B2-482A-A634-E86DC135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9BB8-7C65-4AA2-AFB4-AEAFC63A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8942-604C-4738-A592-B625B1AF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AF12-D38B-48B5-91C1-C2628DD2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5BAA-7750-4A44-B5C8-DCA5E958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CA99-13A7-4726-BCA1-EFD23247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D22B-365D-4114-A456-AC6728FD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6AB4-47B4-4248-9F65-54CA1226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BD60-037F-4EA9-AA8D-0593AB78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39D9-1F67-4237-B820-D5CE6F3F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EB84-6F86-4D94-905F-9A18B772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3F0A5-8131-4A45-8984-8127E0FD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20244-2713-42BC-95E5-74062BC7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2C764-3D4B-4B43-B783-3C6051E9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DF82D-1681-4D5D-BEAA-FF19DF55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5991F-D8EB-4118-9406-DCDCB3DB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7A531-4131-4919-92E1-8A75F03B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8EDDB-4E00-4A12-A1DC-9B7636E2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C9D45-8B61-417F-9C97-B2D0CE06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84397-2345-45F5-AFDC-93ADA096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23A77-E3D4-470F-939E-5B9A03EA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FA308-2958-4B33-9F67-8BD34E7E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9F996-3616-47DA-B6C6-E62B9E41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4DE48-701D-4421-86B4-1C2D8BF2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5DEF0-EF3E-439A-B5FF-3A21FE2F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F04F4-B49B-461D-9A0C-7C8A6FFA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048E5-B905-4E5A-A968-05AC2E82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CB85B-C32A-4F5C-9030-4BB99009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C608B-6F11-4EF1-B383-017814CA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5E7E1-8844-4AD7-B3DF-20558006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0652F-B6A9-47FD-8E49-676124E7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A1E00-13FB-4536-9190-7B19C809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22D58-C7A0-4F30-982C-EB673D74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18334-0A65-49DD-BD6B-77542EB8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9C386-D2A5-411B-A0B3-64C89D49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2454F-4E98-4ADB-91D3-440101A3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66CDB-7B7E-4EB3-A663-310322BB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9CC3F-75FC-41DE-86C4-469BBFF0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7DE38-3FAC-437B-BFEF-ADEDA1D5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FB0E5-0FC6-4F70-B686-71A07FB3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4FAE1-83C5-4E98-B52C-7F2B2499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84AFF-F926-4E53-9DC4-8E069051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0B58F-37A3-451C-91C4-01A7717A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14FB2-E804-4395-8460-43FC225B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0BE2F-FC3A-4FE9-8475-79C13A7F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D2CA1-7832-4AAF-81CF-5E926AA4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992C5-F66C-442F-B041-E2825C5E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3CAC7-032E-424D-AC97-F7F8114A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60871-B8D2-466F-8E13-67B665DB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BFAAC-AE41-42F4-A4C5-C5FAC624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ABA15-95A4-4FA2-9F59-B4ECCC92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77E7C-7664-4762-93F6-743F96C7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28B03-4582-402E-BF90-0AE46A8A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480A8-183B-4D43-A3FC-B42E1822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BE5E8-21B0-4948-BCA6-05478E95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47066-E5D8-4BBD-A205-01101771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20E38-E092-425C-954C-67856421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90EF6-4055-489C-9167-0C48A279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8E914-E74F-498B-BA8F-E1695EF7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3902F-E40D-42D8-8F57-B1F97E76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A5890-53B4-475C-98AA-8A15CA1C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86D7F-B1F7-4879-B6A2-1EA87D9A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71FAC-0FC8-4F4A-87ED-EF3828CD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EBFC4-A4F4-4ECC-B0C8-0166F767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B7B0B-C218-46AE-AB15-66E191BC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D8229-6656-41C5-B6B0-FE61713B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C5B9C-44CE-4813-91CA-8CFB4B61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7B416-241A-4B72-B9FF-4AB9D231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40EB4-F341-4C6B-A6BC-1A482222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3E7F6-214F-4129-87A4-F5A53476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B87F0-2462-49AC-899D-1FD7B27E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61712-28FA-4A2C-A3B1-34212818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DAF38-A7C9-4BCB-BD45-9DCA5B8A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6DA38-0774-4E11-B2C7-4F55C0C2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3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87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88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389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dt" idx="25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26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27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4E58-A940-4200-A31F-8570C3ADE1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30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31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432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dt" idx="28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ftr" idx="29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30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2F51-6017-44B7-955E-0E34ED902B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1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2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43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6CA8-D780-4B65-98E9-52AAB8B216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84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85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86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8A5B-AF72-48B7-A8A5-D5CB5764CB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27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28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129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dt" idx="7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8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9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5163-9BD3-4EBB-8821-828F12ECE6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70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71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172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dt" idx="10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ftr" idx="11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2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005C-888C-4FD3-B339-6AC9C9CF93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13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14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215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dt" idx="13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ftr" idx="14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5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DC2B-974F-436B-8CA1-2333E681F3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56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57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258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dt" idx="16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ftr" idx="17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8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84EF-CD11-4311-8FBC-CB4DBA84B5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body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01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02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303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dt" idx="19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ftr" idx="20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21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AE9C-7FC7-4441-BA9C-7010FA3859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図 10" descr=""/>
          <p:cNvPicPr/>
          <p:nvPr/>
        </p:nvPicPr>
        <p:blipFill>
          <a:blip r:embed="rId2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44" name="図 8" descr=""/>
          <p:cNvPicPr/>
          <p:nvPr/>
        </p:nvPicPr>
        <p:blipFill>
          <a:blip r:embed="rId3"/>
          <a:stretch/>
        </p:blipFill>
        <p:spPr>
          <a:xfrm>
            <a:off x="0" y="-1440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45" name="図 6" descr=""/>
          <p:cNvPicPr/>
          <p:nvPr/>
        </p:nvPicPr>
        <p:blipFill>
          <a:blip r:embed="rId4"/>
          <a:stretch/>
        </p:blipFill>
        <p:spPr>
          <a:xfrm>
            <a:off x="1716120" y="434880"/>
            <a:ext cx="14943240" cy="2027160"/>
          </a:xfrm>
          <a:prstGeom prst="rect">
            <a:avLst/>
          </a:prstGeom>
          <a:ln w="0">
            <a:noFill/>
          </a:ln>
        </p:spPr>
      </p:pic>
      <p:pic>
        <p:nvPicPr>
          <p:cNvPr id="346" name="図 12" descr=""/>
          <p:cNvPicPr/>
          <p:nvPr/>
        </p:nvPicPr>
        <p:blipFill>
          <a:blip r:embed="rId5"/>
          <a:stretch/>
        </p:blipFill>
        <p:spPr>
          <a:xfrm>
            <a:off x="1235160" y="3560760"/>
            <a:ext cx="15905160" cy="34750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dt" idx="22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23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24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7BF2-0A08-417B-9BE3-7472005FF9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図 6" descr="**写真.jpg"/>
          <p:cNvPicPr/>
          <p:nvPr/>
        </p:nvPicPr>
        <p:blipFill>
          <a:blip r:embed="rId1"/>
          <a:stretch/>
        </p:blipFill>
        <p:spPr>
          <a:xfrm>
            <a:off x="1341360" y="3657600"/>
            <a:ext cx="4748400" cy="3187800"/>
          </a:xfrm>
          <a:prstGeom prst="rect">
            <a:avLst/>
          </a:prstGeom>
          <a:ln w="0">
            <a:noFill/>
          </a:ln>
        </p:spPr>
      </p:pic>
      <p:sp>
        <p:nvSpPr>
          <p:cNvPr id="481" name="テキスト ボックス 1"/>
          <p:cNvSpPr/>
          <p:nvPr/>
        </p:nvSpPr>
        <p:spPr>
          <a:xfrm>
            <a:off x="1238400" y="6988320"/>
            <a:ext cx="253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●</a:t>
            </a:r>
            <a:r>
              <a:rPr b="0" lang="en-US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 </a:t>
            </a:r>
            <a:r>
              <a:rPr b="0" lang="en-US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Lu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テキスト ボックス 1"/>
          <p:cNvSpPr/>
          <p:nvPr/>
        </p:nvSpPr>
        <p:spPr>
          <a:xfrm>
            <a:off x="3916440" y="7074000"/>
            <a:ext cx="223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0,000ye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テキスト ボックス 3"/>
          <p:cNvSpPr/>
          <p:nvPr/>
        </p:nvSpPr>
        <p:spPr>
          <a:xfrm>
            <a:off x="1343160" y="7709040"/>
            <a:ext cx="4805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○○○○○○○○○○○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○○○○○○○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図 6" descr="**写真.jpg"/>
          <p:cNvPicPr/>
          <p:nvPr/>
        </p:nvPicPr>
        <p:blipFill>
          <a:blip r:embed="rId2"/>
          <a:stretch/>
        </p:blipFill>
        <p:spPr>
          <a:xfrm>
            <a:off x="6765840" y="3657600"/>
            <a:ext cx="4749840" cy="3187800"/>
          </a:xfrm>
          <a:prstGeom prst="rect">
            <a:avLst/>
          </a:prstGeom>
          <a:ln w="0">
            <a:noFill/>
          </a:ln>
        </p:spPr>
      </p:pic>
      <p:sp>
        <p:nvSpPr>
          <p:cNvPr id="485" name="テキスト ボックス 1"/>
          <p:cNvSpPr/>
          <p:nvPr/>
        </p:nvSpPr>
        <p:spPr>
          <a:xfrm>
            <a:off x="6673680" y="6988320"/>
            <a:ext cx="253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●</a:t>
            </a:r>
            <a:r>
              <a:rPr b="0" lang="en-US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 </a:t>
            </a:r>
            <a:r>
              <a:rPr b="0" lang="en-US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Lu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テキスト ボックス 7"/>
          <p:cNvSpPr/>
          <p:nvPr/>
        </p:nvSpPr>
        <p:spPr>
          <a:xfrm>
            <a:off x="9352080" y="7074000"/>
            <a:ext cx="223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0,000ye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テキスト ボックス 8"/>
          <p:cNvSpPr/>
          <p:nvPr/>
        </p:nvSpPr>
        <p:spPr>
          <a:xfrm>
            <a:off x="6778800" y="7709040"/>
            <a:ext cx="4805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○○○○○○○○○○○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○○○○○○○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図 6" descr="**写真.jpg"/>
          <p:cNvPicPr/>
          <p:nvPr/>
        </p:nvPicPr>
        <p:blipFill>
          <a:blip r:embed="rId3"/>
          <a:stretch/>
        </p:blipFill>
        <p:spPr>
          <a:xfrm>
            <a:off x="12198240" y="3657600"/>
            <a:ext cx="4748400" cy="3187800"/>
          </a:xfrm>
          <a:prstGeom prst="rect">
            <a:avLst/>
          </a:prstGeom>
          <a:ln w="0">
            <a:noFill/>
          </a:ln>
        </p:spPr>
      </p:pic>
      <p:sp>
        <p:nvSpPr>
          <p:cNvPr id="489" name="テキスト ボックス 1"/>
          <p:cNvSpPr/>
          <p:nvPr/>
        </p:nvSpPr>
        <p:spPr>
          <a:xfrm>
            <a:off x="12107880" y="6988320"/>
            <a:ext cx="253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●</a:t>
            </a:r>
            <a:r>
              <a:rPr b="0" lang="en-US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 </a:t>
            </a:r>
            <a:r>
              <a:rPr b="0" lang="en-US" sz="40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Lu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テキスト ボックス 11"/>
          <p:cNvSpPr/>
          <p:nvPr/>
        </p:nvSpPr>
        <p:spPr>
          <a:xfrm>
            <a:off x="14785920" y="7074000"/>
            <a:ext cx="223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01a3f"/>
                </a:solidFill>
                <a:latin typeface="Noto Sans JP Medium"/>
                <a:ea typeface="Noto Sans JP Medium"/>
              </a:rPr>
              <a:t>0,000ye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テキスト ボックス 12"/>
          <p:cNvSpPr/>
          <p:nvPr/>
        </p:nvSpPr>
        <p:spPr>
          <a:xfrm>
            <a:off x="12212640" y="7709040"/>
            <a:ext cx="4805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○○○○○○○○○○○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01a3f"/>
                </a:solidFill>
                <a:latin typeface="Noto Sans JP"/>
                <a:ea typeface="Noto Sans JP"/>
              </a:rPr>
              <a:t>○○○○○○○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テキスト ボックス 1"/>
          <p:cNvSpPr/>
          <p:nvPr/>
        </p:nvSpPr>
        <p:spPr>
          <a:xfrm>
            <a:off x="554040" y="9464760"/>
            <a:ext cx="812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efdc85"/>
                </a:solidFill>
                <a:latin typeface="Noto Sans JP Medium"/>
                <a:ea typeface="Noto Sans JP Medium"/>
              </a:rPr>
              <a:t>○○○○○ </a:t>
            </a:r>
            <a:r>
              <a:rPr b="0" lang="en-US" sz="3800" spc="-1" strike="noStrike">
                <a:solidFill>
                  <a:srgbClr val="efdc85"/>
                </a:solidFill>
                <a:latin typeface="Noto Sans JP Medium"/>
                <a:ea typeface="Noto Sans JP Medium"/>
              </a:rPr>
              <a:t>Restaurant</a:t>
            </a:r>
            <a:r>
              <a:rPr b="0" lang="ja-JP" sz="3800" spc="-1" strike="noStrike">
                <a:solidFill>
                  <a:srgbClr val="efdc85"/>
                </a:solidFill>
                <a:latin typeface="Noto Sans JP Medium"/>
                <a:ea typeface="Noto Sans JP Medium"/>
              </a:rPr>
              <a:t>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2"/>
          <p:cNvSpPr/>
          <p:nvPr/>
        </p:nvSpPr>
        <p:spPr>
          <a:xfrm>
            <a:off x="9604440" y="9464760"/>
            <a:ext cx="812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fdc85"/>
                </a:solidFill>
                <a:latin typeface="Noto Sans JP Medium"/>
                <a:ea typeface="Noto Sans JP Medium"/>
              </a:rPr>
              <a:t>TEL</a:t>
            </a:r>
            <a:r>
              <a:rPr b="0" lang="ja-JP" sz="3800" spc="-1" strike="noStrike">
                <a:solidFill>
                  <a:srgbClr val="efdc85"/>
                </a:solidFill>
                <a:latin typeface="Noto Sans JP Medium"/>
                <a:ea typeface="Noto Sans JP Medium"/>
              </a:rPr>
              <a:t>：</a:t>
            </a:r>
            <a:r>
              <a:rPr b="0" lang="en-US" sz="3800" spc="-1" strike="noStrike">
                <a:solidFill>
                  <a:srgbClr val="efdc85"/>
                </a:solidFill>
                <a:latin typeface="Noto Sans JP Medium"/>
                <a:ea typeface="Noto Sans JP Medium"/>
              </a:rPr>
              <a:t>00-0000-00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>(株)デンソー（販社グループ）DENSO_CORPORATION_GROUP</dc:creator>
  <dc:description/>
  <dc:language>en-US</dc:language>
  <cp:lastModifiedBy>成良</cp:lastModifiedBy>
  <dcterms:modified xsi:type="dcterms:W3CDTF">2022-10-06T07:07:05Z</dcterms:modified>
  <cp:revision>57</cp:revision>
  <dc:subject/>
  <dc:title>スライド 1</dc:title>
</cp:coreProperties>
</file>