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</p:sldIdLst>
  <p:sldSz cx="18288000" cy="10288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31"/>
          </p:nvPr>
        </p:nvSpPr>
        <p:spPr>
          <a:xfrm>
            <a:off x="38145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Img"/>
          </p:nvPr>
        </p:nvSpPr>
        <p:spPr>
          <a:xfrm>
            <a:off x="409320" y="1233360"/>
            <a:ext cx="5916600" cy="332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游ゴシック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ftr" idx="32"/>
          </p:nvPr>
        </p:nvSpPr>
        <p:spPr>
          <a:xfrm>
            <a:off x="-360" y="9370800"/>
            <a:ext cx="29192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 type="sldNum" idx="33"/>
          </p:nvPr>
        </p:nvSpPr>
        <p:spPr>
          <a:xfrm>
            <a:off x="3814560" y="9370800"/>
            <a:ext cx="29192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2B3E-3D99-4665-BDC0-C89DF3249EE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409680" y="1233360"/>
            <a:ext cx="5916600" cy="332928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96" name="スライド番号プレースホルダー 3"/>
          <p:cNvSpPr/>
          <p:nvPr/>
        </p:nvSpPr>
        <p:spPr>
          <a:xfrm>
            <a:off x="3814920" y="9371160"/>
            <a:ext cx="2919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BE35-1785-4C64-8E3C-0468A9CABD1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012BB-B1F4-4CCC-BD3A-73F82210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EF0BE-716B-4DC4-B033-90514CB7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114F2-C5F1-433B-B39F-2381B0FA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A6782-2834-4CC9-BF6B-BD6CE27A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0D4E4-01F9-4CD6-B802-FBBF5B4E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620E6-852E-488F-9427-0261923E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94CFB-4EF4-4FD0-BC3F-B41DCF90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B6C3B-3910-4AAB-9816-F938D9E1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00FD4-1EEF-42B1-8876-87B813A0B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5DC30-E91A-4060-8932-C000658D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8B2E1-32DD-489E-B879-8176A09C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3F945-F420-4D23-9C65-150B160E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028B7-EE6E-4C86-BA54-0958FCCB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FDC83-AED2-48F0-B677-80F49762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A92A6-8996-439C-BACE-A0569DD3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5426D-8620-42F7-B248-8676E9E1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42679-2B0C-4767-AC24-5C101C8A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4D223-223F-42B0-A249-788DBD29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2CA75-91A5-4049-A49D-71C682E5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641BB-5F2D-4ED2-A995-C476910AC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7CC1B-6650-4E56-8168-DA091F282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75C32-259C-4519-8ABD-C55298DDC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D11B3-4CF8-412D-90FD-65B80FB1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1EBA1-B604-4614-BF66-0092DC1D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22C574-2CE5-4B61-93B1-B39EEDB2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A5527-3281-40D4-8881-978196F0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5ECBE-8FE2-48BC-8B68-FEE36245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DC547-1578-42AB-A5BB-1586D3D1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412A6-4F8E-4896-A4BF-125ADA60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5C53A-C743-4855-A39B-44D5ECBE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FF1E-DAE2-46CC-987D-0219FF213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33601-502F-47F7-AD65-875F4D2B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1F046-D93E-4B26-AE91-9E1D80FFF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6CEE55-8DFE-4F97-8F0E-E141530B3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B818-C0A6-443A-BE69-08662162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BBB8-37E6-434D-9F33-28128DF7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FA71-6F6A-4270-A237-520D96F5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E089-ED01-4EB3-80C0-CE549D65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C674-B814-4992-A7C2-3DEF1CEC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E468-105A-45C4-84DD-1CE3A754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2408-56A9-4844-BE32-BF73D426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4C83-941B-4B28-A49A-28F2E73C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7AD7-8AE4-45E9-B539-51A76137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7F3C-225E-4E04-94FA-B3E8BEC0D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351A-0381-41AC-B1B1-3C020491F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EF14-ECE3-4C86-9848-2A920BAC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3634-7856-4B1B-B100-80BD9CAB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EE85-1606-432F-9C97-454DB37C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E8A8-247C-405D-BE21-CAB883FD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B1D7-300E-49BF-B38E-ACC3A414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18CA-03ED-4AD5-B632-8BA7220D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BF9B-F0D1-4826-9019-BF0177C4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86A5-72C2-446A-8FE3-55EE757E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EFFF-FAB1-4710-9439-CC5CCB83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8ACE-4291-4C94-9216-14377EBA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E446-5AE3-4A3B-979A-CCFF249F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69C1-9837-4EDD-BB6B-E2124A90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34D3C-707D-4C83-AEA4-4662F966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DE329-3C37-486D-9DEF-4017E046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9CB66-C20A-4865-8EE7-98085859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767B7-2202-4625-A880-5DD2A204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3957D-C3AB-4D79-98E8-48C1C94B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1B208-E613-4C1A-ACC9-E8EB2063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C772D-3F07-4F29-B30A-EC04859A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19317-214D-4615-B824-4C5BF2EC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600BA-B673-426E-B213-04A0DB2D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3BC96-E752-44D4-A47A-20F9E172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0A501-99D6-4C7E-984E-4E2053A5C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8BD86-83CF-417D-B901-BF1CE994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89D30-3E65-4300-BBEE-8B259FAE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CE5B0-A812-496B-9E5A-61091288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E560B-9570-4DEE-82CA-B714B241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D9CF5-2CE2-4184-BC96-9400710F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EF631-E096-4C3B-9217-257D6BD0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6ABCF-D9D9-4D3B-A12D-F76D4673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B74A1-59CB-4A87-8B84-52517F97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B7A0C-0BAB-4402-A514-8AC790CA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3A7E7-863B-4FFD-83B7-AEF8DE30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E0E26-F4F3-46B3-ADBF-9AD86465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4C417-8C54-43D5-830B-5952BB27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3B650-DF3B-4AA6-A495-CBAD43176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F44E4-C9CC-48BC-BA64-C940CF4A3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AD740-2190-4562-8EF3-7C7F98DF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25431-CB8D-46C5-8F8A-8397F1A7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3DD3E-BA6D-4B76-83A5-8979FEB0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D2297-AF9A-4D7E-8B0C-2FEBB07F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15FF1-9546-46E0-AAC8-03A02D36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D4A76-BEA3-495E-8C04-59B87014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93E80-7570-4559-9D2E-2732A830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BD72F-39F0-434C-866D-23CD4C63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2DCF0-E45E-42BC-8433-20DADB8B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4507A-4E92-4578-B3BE-2F7E029DC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C3C1B-9BA3-4A6A-BF23-F7FF3512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ECD36-F661-4238-B2A8-30BE77F1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33E4B-6402-400A-9E60-D4BB84DF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71E09-A73F-40FB-9588-A06A03C4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132C9-BF8D-40C7-95CB-8FCC2EC7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A0ADD-DF3C-4CB9-A59E-7FE14AB3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F21FC-541D-443E-847E-72246D35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BFE4E-153E-439E-9B6B-9F4BC811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4B604-07BB-448C-B2EA-8EDF56FD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402F4-E413-4C4A-937C-3C7C0768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FC69F-DF48-4EB8-89D8-2F581787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99303-5DB6-4D9C-ABA6-5893712F5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9A20D-89A3-4ABB-83C0-73EF4633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A41C9-21ED-42DB-82F6-EEFDC6D1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18902-4690-4D5E-8389-B4039FB8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76836-8A22-46D8-9B05-B66D7445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019A3-6360-4C3B-A693-1FF2902A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F058F-9495-40DF-84EA-3A547762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AD433-5F94-4AB9-9F54-DC1BD993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E8A66-7639-4282-B009-F3A413E3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F897C-C508-4DBC-A1EC-9979D525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62B58-C314-4C31-B5B1-319D0A8F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4669F-26F6-4FAF-92CF-47FA65D9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2D339-354C-4A22-809B-3A0B5C5EA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718D2-427A-4F76-8AC5-A415D2BE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9F347-06F0-451B-82C8-591E0F5A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D7682-2B15-4B1D-9636-7DA2B4BA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B2175-8EC0-4A26-992B-8B9C177A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1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2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3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387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388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389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dt" idx="25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ftr" idx="26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27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6F28-179D-448C-9867-A32D12624B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430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431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432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dt" idx="28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ftr" idx="29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30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FD89-B80D-4CDC-A4D0-3C6F1F3C87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41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42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43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9570-F66A-45F1-8AAB-CEB151F037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84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85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86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dt" idx="4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5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6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06EF-29AA-4766-84B1-2CB4350B26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127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128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129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dt" idx="7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8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9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5C6F-57BC-4972-9332-532924B253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170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171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172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dt" idx="10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ftr" idx="11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2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B372-3585-400D-B789-51275CF89B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213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214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215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dt" idx="13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ftr" idx="14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5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C4FC-235E-461A-8254-FD3D023101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256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257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258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dt" idx="16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ftr" idx="17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8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559E-5226-4D4A-9979-EE235DDAD5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body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301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302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303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dt" idx="19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ftr" idx="20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21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EE72-AA49-4312-BFD8-4F4F28154A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344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345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346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dt" idx="22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ftr" idx="23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24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AF3A-0277-4BF8-A160-F1CB659B65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9"/>
          <p:cNvSpPr/>
          <p:nvPr/>
        </p:nvSpPr>
        <p:spPr>
          <a:xfrm>
            <a:off x="-11464920" y="7818480"/>
            <a:ext cx="8577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図 6" descr="**写真.jpg"/>
          <p:cNvPicPr/>
          <p:nvPr/>
        </p:nvPicPr>
        <p:blipFill>
          <a:blip r:embed="rId1"/>
          <a:stretch/>
        </p:blipFill>
        <p:spPr>
          <a:xfrm>
            <a:off x="1341360" y="3657600"/>
            <a:ext cx="4748400" cy="3187800"/>
          </a:xfrm>
          <a:prstGeom prst="rect">
            <a:avLst/>
          </a:prstGeom>
          <a:ln w="0">
            <a:noFill/>
          </a:ln>
        </p:spPr>
      </p:pic>
      <p:sp>
        <p:nvSpPr>
          <p:cNvPr id="481" name="テキスト ボックス 1"/>
          <p:cNvSpPr/>
          <p:nvPr/>
        </p:nvSpPr>
        <p:spPr>
          <a:xfrm>
            <a:off x="1238400" y="6988320"/>
            <a:ext cx="253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●</a:t>
            </a:r>
            <a:r>
              <a:rPr b="0" lang="en-US" sz="40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 </a:t>
            </a:r>
            <a:r>
              <a:rPr b="0" lang="en-US" sz="40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Lun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テキスト ボックス 1"/>
          <p:cNvSpPr/>
          <p:nvPr/>
        </p:nvSpPr>
        <p:spPr>
          <a:xfrm>
            <a:off x="3916440" y="7074000"/>
            <a:ext cx="2232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0,000ye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テキスト ボックス 3"/>
          <p:cNvSpPr/>
          <p:nvPr/>
        </p:nvSpPr>
        <p:spPr>
          <a:xfrm>
            <a:off x="1343160" y="7709040"/>
            <a:ext cx="48052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01a3f"/>
                </a:solidFill>
                <a:latin typeface="Noto Sans JP"/>
                <a:ea typeface="Noto Sans JP"/>
              </a:rPr>
              <a:t>○○○○○○○○○○○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01a3f"/>
                </a:solidFill>
                <a:latin typeface="Noto Sans JP"/>
                <a:ea typeface="Noto Sans JP"/>
              </a:rPr>
              <a:t>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01a3f"/>
                </a:solidFill>
                <a:latin typeface="Noto Sans JP"/>
                <a:ea typeface="Noto Sans JP"/>
              </a:rPr>
              <a:t>○○○○○○○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図 6" descr="**写真.jpg"/>
          <p:cNvPicPr/>
          <p:nvPr/>
        </p:nvPicPr>
        <p:blipFill>
          <a:blip r:embed="rId2"/>
          <a:stretch/>
        </p:blipFill>
        <p:spPr>
          <a:xfrm>
            <a:off x="6765840" y="3657600"/>
            <a:ext cx="4749840" cy="3187800"/>
          </a:xfrm>
          <a:prstGeom prst="rect">
            <a:avLst/>
          </a:prstGeom>
          <a:ln w="0">
            <a:noFill/>
          </a:ln>
        </p:spPr>
      </p:pic>
      <p:sp>
        <p:nvSpPr>
          <p:cNvPr id="485" name="テキスト ボックス 1"/>
          <p:cNvSpPr/>
          <p:nvPr/>
        </p:nvSpPr>
        <p:spPr>
          <a:xfrm>
            <a:off x="6673680" y="6988320"/>
            <a:ext cx="253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●</a:t>
            </a:r>
            <a:r>
              <a:rPr b="0" lang="en-US" sz="40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 </a:t>
            </a:r>
            <a:r>
              <a:rPr b="0" lang="en-US" sz="40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Lun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テキスト ボックス 7"/>
          <p:cNvSpPr/>
          <p:nvPr/>
        </p:nvSpPr>
        <p:spPr>
          <a:xfrm>
            <a:off x="9352080" y="7074000"/>
            <a:ext cx="2232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0,000ye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テキスト ボックス 8"/>
          <p:cNvSpPr/>
          <p:nvPr/>
        </p:nvSpPr>
        <p:spPr>
          <a:xfrm>
            <a:off x="6778800" y="7709040"/>
            <a:ext cx="48052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01a3f"/>
                </a:solidFill>
                <a:latin typeface="Noto Sans JP"/>
                <a:ea typeface="Noto Sans JP"/>
              </a:rPr>
              <a:t>○○○○○○○○○○○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01a3f"/>
                </a:solidFill>
                <a:latin typeface="Noto Sans JP"/>
                <a:ea typeface="Noto Sans JP"/>
              </a:rPr>
              <a:t>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01a3f"/>
                </a:solidFill>
                <a:latin typeface="Noto Sans JP"/>
                <a:ea typeface="Noto Sans JP"/>
              </a:rPr>
              <a:t>○○○○○○○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図 6" descr="**写真.jpg"/>
          <p:cNvPicPr/>
          <p:nvPr/>
        </p:nvPicPr>
        <p:blipFill>
          <a:blip r:embed="rId3"/>
          <a:stretch/>
        </p:blipFill>
        <p:spPr>
          <a:xfrm>
            <a:off x="12198240" y="3657600"/>
            <a:ext cx="4748400" cy="3187800"/>
          </a:xfrm>
          <a:prstGeom prst="rect">
            <a:avLst/>
          </a:prstGeom>
          <a:ln w="0">
            <a:noFill/>
          </a:ln>
        </p:spPr>
      </p:pic>
      <p:sp>
        <p:nvSpPr>
          <p:cNvPr id="489" name="テキスト ボックス 1"/>
          <p:cNvSpPr/>
          <p:nvPr/>
        </p:nvSpPr>
        <p:spPr>
          <a:xfrm>
            <a:off x="12107880" y="6988320"/>
            <a:ext cx="253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●</a:t>
            </a:r>
            <a:r>
              <a:rPr b="0" lang="en-US" sz="40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 </a:t>
            </a:r>
            <a:r>
              <a:rPr b="0" lang="en-US" sz="40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Lun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テキスト ボックス 11"/>
          <p:cNvSpPr/>
          <p:nvPr/>
        </p:nvSpPr>
        <p:spPr>
          <a:xfrm>
            <a:off x="14785920" y="7074000"/>
            <a:ext cx="2232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0,000ye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テキスト ボックス 12"/>
          <p:cNvSpPr/>
          <p:nvPr/>
        </p:nvSpPr>
        <p:spPr>
          <a:xfrm>
            <a:off x="12212640" y="7709040"/>
            <a:ext cx="48052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01a3f"/>
                </a:solidFill>
                <a:latin typeface="Noto Sans JP"/>
                <a:ea typeface="Noto Sans JP"/>
              </a:rPr>
              <a:t>○○○○○○○○○○○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01a3f"/>
                </a:solidFill>
                <a:latin typeface="Noto Sans JP"/>
                <a:ea typeface="Noto Sans JP"/>
              </a:rPr>
              <a:t>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01a3f"/>
                </a:solidFill>
                <a:latin typeface="Noto Sans JP"/>
                <a:ea typeface="Noto Sans JP"/>
              </a:rPr>
              <a:t>○○○○○○○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テキスト ボックス 1"/>
          <p:cNvSpPr/>
          <p:nvPr/>
        </p:nvSpPr>
        <p:spPr>
          <a:xfrm>
            <a:off x="554040" y="9464760"/>
            <a:ext cx="812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efdc85"/>
                </a:solidFill>
                <a:latin typeface="Noto Sans JP Medium"/>
                <a:ea typeface="Noto Sans JP Medium"/>
              </a:rPr>
              <a:t>○○○○○ </a:t>
            </a:r>
            <a:r>
              <a:rPr b="0" lang="en-US" sz="3800" spc="-1" strike="noStrike">
                <a:solidFill>
                  <a:srgbClr val="efdc85"/>
                </a:solidFill>
                <a:latin typeface="Noto Sans JP Medium"/>
                <a:ea typeface="Noto Sans JP Medium"/>
              </a:rPr>
              <a:t>Restaurant</a:t>
            </a:r>
            <a:r>
              <a:rPr b="0" lang="ja-JP" sz="3800" spc="-1" strike="noStrike">
                <a:solidFill>
                  <a:srgbClr val="efdc85"/>
                </a:solidFill>
                <a:latin typeface="Noto Sans JP Medium"/>
                <a:ea typeface="Noto Sans JP Medium"/>
              </a:rPr>
              <a:t>　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テキスト ボックス 2"/>
          <p:cNvSpPr/>
          <p:nvPr/>
        </p:nvSpPr>
        <p:spPr>
          <a:xfrm>
            <a:off x="9604440" y="9464760"/>
            <a:ext cx="812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fdc85"/>
                </a:solidFill>
                <a:latin typeface="Noto Sans JP Medium"/>
                <a:ea typeface="Noto Sans JP Medium"/>
              </a:rPr>
              <a:t>TEL</a:t>
            </a:r>
            <a:r>
              <a:rPr b="0" lang="ja-JP" sz="3800" spc="-1" strike="noStrike">
                <a:solidFill>
                  <a:srgbClr val="efdc85"/>
                </a:solidFill>
                <a:latin typeface="Noto Sans JP Medium"/>
                <a:ea typeface="Noto Sans JP Medium"/>
              </a:rPr>
              <a:t>：</a:t>
            </a:r>
            <a:r>
              <a:rPr b="0" lang="en-US" sz="3800" spc="-1" strike="noStrike">
                <a:solidFill>
                  <a:srgbClr val="efdc85"/>
                </a:solidFill>
                <a:latin typeface="Noto Sans JP Medium"/>
                <a:ea typeface="Noto Sans JP Medium"/>
              </a:rPr>
              <a:t>00-0000-00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>(株)デンソー（販社グループ）DENSO_CORPORATION_GROUP</dc:creator>
  <dc:description/>
  <dc:language>en-US</dc:language>
  <cp:lastModifiedBy>成良</cp:lastModifiedBy>
  <dcterms:modified xsi:type="dcterms:W3CDTF">2022-10-06T07:07:05Z</dcterms:modified>
  <cp:revision>57</cp:revision>
  <dc:subject/>
  <dc:title>スライド 1</dc:title>
</cp:coreProperties>
</file>