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</p:sldIdLst>
  <p:sldSz cx="18288000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47D3-8B8A-4BCF-A12D-D4D78CC2806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96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0E7E-D0A3-478C-9575-3427187127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463C2-5F3E-4C33-9EC0-4E69C990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04C79-A466-4F47-98EE-8BABB0BA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C64AE-B00F-4F78-A292-A195D996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7E3D6-3F0A-4391-8033-1A83D7FD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FF0FF-31B8-4DE7-A714-B4585DEC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768F2-84EE-4DCE-A416-A809A136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72F8C-C514-4473-B892-B55478EB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C0AEC-9297-4C95-BD30-240C252A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5EBC1-9F3A-4073-9990-738A52FB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20AB3-D3BA-4894-A6B2-572CC857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BB3C1-D32B-4C1D-BB72-105B8E28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710E3-AE0C-4BDC-AF7A-2FC778E8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3CEDA-37FA-4D98-AF83-4EFBD825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CA6ED-86A6-43EB-8E99-E13D267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8D03B-2E8F-4DE9-AD01-5F0F0D79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9A527-39D9-4BED-81EA-F161ED73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68042-976B-4E08-B076-1675CE3D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FD745-D11E-4411-ADD8-7D83607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8F4EE-A8CE-4878-9B52-7BCC9D4F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90DAC-5901-41B3-B527-93B61130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52ACC-8830-4CB1-A4E0-ADD51A3A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56FDC-615F-4FEE-B8DC-115A4814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F473A-28EE-41DE-8D7A-DE27FBF5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8767C-7BBF-407E-BED3-7083906A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E2CF7-C325-40F5-82D7-8A667153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BACEE-078A-47F7-B4F2-37AEC9B3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21CD4-F5AA-4F10-8D8A-AF88B46C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34420-0C73-4670-AA36-A5700704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BB11A-E6CB-40C3-97B0-1474F98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15D8D-EB06-4710-87F2-34884007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CE0-835B-43B9-AD28-F22B3478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0D45B-B761-49F8-8DCA-8C61BFFE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B28D2-CCAA-447A-9A1B-82BDA902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DB20B-0BED-4660-A5C9-E3716B7A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913-43CF-4C48-8957-E4D49593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4C8-6736-4355-8D5A-87E56F82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EE9-DC3B-4BCE-ABE0-C28BEE1B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E92-BB58-43E4-9033-D261899F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3DB-3663-4ABB-A188-24FC7393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6D7-E46E-4B8A-9E25-7B73E86D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CA0-4A9D-4524-965C-ABFBCC3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13C-CEC6-46D8-A3C0-23899E2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E74-EBB1-41ED-AEAA-B6B40337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A65-3C68-43A7-9369-4D95E16F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26D-2033-4772-A895-597E3F83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D80A-1EDD-4EFA-ACD4-D72EBD4F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4133-87C9-488C-9079-DAA602CD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9E1F-EEB3-4EAD-9BFB-362E52A0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2273-A126-4035-A5CF-EADDA0FE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D091-FA34-47B8-893E-D842F3AA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FC8-8FA5-4F88-8E0A-5CB4984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2F4B-CE85-4078-A1C3-72E227DA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07E6-CF7C-44B4-9614-D15A6B9B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72F7-152D-4806-90BA-D75FDDE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2F61-C13B-4E9B-8840-81B7432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2BBA-D0D8-4841-95FF-2572686D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41CC-27D4-471C-8060-14A08997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F83E-71C3-49E7-965F-1DC46334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FFE2-7E33-4F5A-B17A-4ACD4497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58B5-5CBE-4278-9B86-CBABDE6E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B37D-5B58-4F9A-A0EE-4D670611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43678-4091-4A16-B73B-79033AF6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8B99-738A-4879-B342-6B065D4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209E-EAC4-4FE6-9AAA-9183809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22F6-4890-4BE1-B4AD-36E0264A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651B-C453-4F97-ABD2-334DA1E6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0CA2-143B-40C9-B5A8-8140AD23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59A9-78F5-4191-AD74-7E152A82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7DAD-2C6A-4CB0-BD5A-A0DBC385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DB9E-003F-4CF1-B643-45FB8034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FCB6-BAA6-4BE9-9E13-CC1FB419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58CE-68D7-431B-9C81-80083E48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39A12-4792-43DA-A110-E40B9CD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4ECB-C9BE-42EB-918F-930B27C7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5A0E-D0E1-4831-A133-AA115C60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50D3-F712-4264-9B02-AA171A1E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51775-D563-4BFD-B575-BB4D271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AC754-DC07-4C2B-B526-C481B6F1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C75A-E497-42D2-991B-FFE12CE1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53E4-841F-4CF6-B192-DCEE4856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9DD5-9EBD-4A1E-9A15-0B8B4971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841B4-C9BC-4D49-B8D6-2F330448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EF89-5823-4512-9400-C2B30126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C518C-E62C-4D3C-8C5B-0049432D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ACFD4-68AC-4EE6-A726-4EC1A4B7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D3365-0C39-4D79-9E9D-3759F939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B185-FB4B-4026-B3CA-AE78552B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5B958-BF8C-44A3-AF0C-1B0A854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778B7-2AB3-4DE7-AE32-AB2A0CDB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3981D-5F19-46E5-B2A1-11FA6D6C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F1AB-30D1-4C00-8F91-FED27D1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D3B6-BD23-4AC4-A8C3-D1293945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3173-18C8-43FE-B2A9-98201ED2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35B5-88B7-41F2-8483-38475158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E3897-CC29-486D-BD75-B7813725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18BF8-5170-42C9-97C7-8DDB91DF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19E78-EA41-479C-A1E9-3B8F07FA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27AB-C2ED-41A9-BC0F-920533E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16A0D-A23C-435D-BCF3-E0194F7E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8479-AE6B-46EA-A81E-CAB2F8C5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9E4D-8268-46D9-8DA4-B4DFC49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72E68-B4CA-436A-9CAC-CE2A8125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82477-8689-4E01-9D1B-790E5F2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48A5E-A278-4DB1-9F69-4900AB3F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6A238-FF2D-482F-A02B-F581F7A7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FFC06-B963-43DA-99B1-4D60A73B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3C326-764B-4B5A-A5EE-C9058860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7A1D6-77C6-4A3B-9D2B-FC474239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C43C8-FAA5-425C-BB77-A1435C14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B5296-B1E8-4817-A2BE-AC31807B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AFD91-A0B4-401E-91D9-7B21F87A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788D3-3004-42D0-92C5-4DEFF3E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FF7E1-CB54-4E0C-9510-D6144C04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47B4B-B26E-42F1-9043-667BD4B6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B7BFD-2D4B-42F5-A8E9-9FCACE16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BCEFE-AD19-4AAF-A3C3-E8C4237D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0ECD0-DA1D-4CD7-AADF-93B9864A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44F3D-4DC5-45EC-BB6E-A1037991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1241B-E7FF-4C34-85EA-2F91897F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8AD9D-A2AD-4AB0-8EE8-BD598087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7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8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89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6E17-B46A-4C85-9F66-BCAB0EED1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0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1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432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AA54-32F0-4072-B3A5-4E091771F7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4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ED5F-978A-419D-91FF-7E8E823F32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5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86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5F4F-AEA9-4827-8A7C-6E2B560DBD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7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8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129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DC6B-BE2F-4815-BC2A-5551A246F8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0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1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172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4C90-3560-4C36-8667-6B7A8A8ED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3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215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CEAC-6812-4241-8FD4-A6B9CD0828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6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7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258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6098-4D0F-48AC-B72F-FF56621BDD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0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747D-0E00-435F-8AE8-B0C09DC1B7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4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5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46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1B44-F9C3-4249-8756-629F24F735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図 6" descr="**写真.jpg"/>
          <p:cNvPicPr/>
          <p:nvPr/>
        </p:nvPicPr>
        <p:blipFill>
          <a:blip r:embed="rId1"/>
          <a:stretch/>
        </p:blipFill>
        <p:spPr>
          <a:xfrm>
            <a:off x="1341360" y="3657600"/>
            <a:ext cx="4748400" cy="3187800"/>
          </a:xfrm>
          <a:prstGeom prst="rect">
            <a:avLst/>
          </a:prstGeom>
          <a:ln w="0">
            <a:noFill/>
          </a:ln>
        </p:spPr>
      </p:pic>
      <p:sp>
        <p:nvSpPr>
          <p:cNvPr id="481" name="テキスト ボックス 1"/>
          <p:cNvSpPr/>
          <p:nvPr/>
        </p:nvSpPr>
        <p:spPr>
          <a:xfrm>
            <a:off x="1238400" y="6988320"/>
            <a:ext cx="25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"/>
          <p:cNvSpPr/>
          <p:nvPr/>
        </p:nvSpPr>
        <p:spPr>
          <a:xfrm>
            <a:off x="391644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3"/>
          <p:cNvSpPr/>
          <p:nvPr/>
        </p:nvSpPr>
        <p:spPr>
          <a:xfrm>
            <a:off x="134316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6" descr="**写真.jpg"/>
          <p:cNvPicPr/>
          <p:nvPr/>
        </p:nvPicPr>
        <p:blipFill>
          <a:blip r:embed="rId2"/>
          <a:stretch/>
        </p:blipFill>
        <p:spPr>
          <a:xfrm>
            <a:off x="6765840" y="3657600"/>
            <a:ext cx="4749840" cy="3187800"/>
          </a:xfrm>
          <a:prstGeom prst="rect">
            <a:avLst/>
          </a:prstGeom>
          <a:ln w="0">
            <a:noFill/>
          </a:ln>
        </p:spPr>
      </p:pic>
      <p:sp>
        <p:nvSpPr>
          <p:cNvPr id="485" name="テキスト ボックス 1"/>
          <p:cNvSpPr/>
          <p:nvPr/>
        </p:nvSpPr>
        <p:spPr>
          <a:xfrm>
            <a:off x="6673680" y="6988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7"/>
          <p:cNvSpPr/>
          <p:nvPr/>
        </p:nvSpPr>
        <p:spPr>
          <a:xfrm>
            <a:off x="935208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テキスト ボックス 8"/>
          <p:cNvSpPr/>
          <p:nvPr/>
        </p:nvSpPr>
        <p:spPr>
          <a:xfrm>
            <a:off x="677880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図 6" descr="**写真.jpg"/>
          <p:cNvPicPr/>
          <p:nvPr/>
        </p:nvPicPr>
        <p:blipFill>
          <a:blip r:embed="rId3"/>
          <a:stretch/>
        </p:blipFill>
        <p:spPr>
          <a:xfrm>
            <a:off x="12198240" y="3657600"/>
            <a:ext cx="4748400" cy="3187800"/>
          </a:xfrm>
          <a:prstGeom prst="rect">
            <a:avLst/>
          </a:prstGeom>
          <a:ln w="0">
            <a:noFill/>
          </a:ln>
        </p:spPr>
      </p:pic>
      <p:sp>
        <p:nvSpPr>
          <p:cNvPr id="489" name="テキスト ボックス 1"/>
          <p:cNvSpPr/>
          <p:nvPr/>
        </p:nvSpPr>
        <p:spPr>
          <a:xfrm>
            <a:off x="12107880" y="6988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1"/>
          <p:cNvSpPr/>
          <p:nvPr/>
        </p:nvSpPr>
        <p:spPr>
          <a:xfrm>
            <a:off x="1478592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2"/>
          <p:cNvSpPr/>
          <p:nvPr/>
        </p:nvSpPr>
        <p:spPr>
          <a:xfrm>
            <a:off x="1221264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"/>
          <p:cNvSpPr/>
          <p:nvPr/>
        </p:nvSpPr>
        <p:spPr>
          <a:xfrm>
            <a:off x="554040" y="9464760"/>
            <a:ext cx="812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○○○○○ </a:t>
            </a: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Restaurant</a:t>
            </a: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"/>
          <p:cNvSpPr/>
          <p:nvPr/>
        </p:nvSpPr>
        <p:spPr>
          <a:xfrm>
            <a:off x="9604440" y="9464760"/>
            <a:ext cx="812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TEL</a:t>
            </a: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：</a:t>
            </a: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00-0000-00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>(株)デンソー（販社グループ）DENSO_CORPORATION_GROUP</dc:creator>
  <dc:description/>
  <dc:language>en-US</dc:language>
  <cp:lastModifiedBy>成良</cp:lastModifiedBy>
  <dcterms:modified xsi:type="dcterms:W3CDTF">2022-10-06T07:07:05Z</dcterms:modified>
  <cp:revision>57</cp:revision>
  <dc:subject/>
  <dc:title>スライド 1</dc:title>
</cp:coreProperties>
</file>